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13.wmf" ContentType="image/x-wmf"/>
  <Override PartName="/ppt/media/image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9.jpeg" ContentType="image/jpeg"/>
  <Override PartName="/ppt/media/image23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019-8E48-4205-AF0C-273B4ACA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7B3-6F90-401C-9AEA-0C57CE2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E29-FE74-4F1C-A657-1056CC12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039-8DAB-42F2-9BC9-55182DC7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DEC-C608-4E7C-9CC6-2A4381C7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A1C-FB8E-4FC6-965B-4953742D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CC8-03D3-44AC-956D-179882F9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8A6-E516-4296-A410-2557B03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045-0E24-42B3-9DF8-07DC0BB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5D7-E62B-43B9-B372-1D87B77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520-A2A7-4CC8-8AD8-879672F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8FA-5BFD-4E01-8D6A-59A17AA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24360" y="0"/>
            <a:ext cx="341964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61C-2DB2-4024-85CD-7C7233F6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0000" y="836640"/>
            <a:ext cx="360072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16720" y="115920"/>
            <a:ext cx="20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16720" y="4724280"/>
            <a:ext cx="2016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16720" y="2421000"/>
            <a:ext cx="20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27000"/>
            <a:ext cx="7777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6475320"/>
            <a:ext cx="64008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03280" y="620640"/>
            <a:ext cx="6697800" cy="41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играем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чита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0312" t="0" r="12137" b="0"/>
          <a:stretch/>
        </p:blipFill>
        <p:spPr>
          <a:xfrm>
            <a:off x="6516720" y="2625840"/>
            <a:ext cx="1942920" cy="1611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 rot="1039200">
            <a:off x="6443280" y="5373720"/>
            <a:ext cx="2162160" cy="87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16720" y="482760"/>
            <a:ext cx="1942920" cy="143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Е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16720" y="482760"/>
            <a:ext cx="1942920" cy="1433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Е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90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539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77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00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9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024360" cy="172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3159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659640" y="5535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024360" cy="1720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59640" y="5535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604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3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2374920" cy="1352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2374920" cy="1352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0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22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86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35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7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77080" y="2637000"/>
            <a:ext cx="1220760" cy="1452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59640" y="5157720"/>
            <a:ext cx="180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23341" t="7057" r="31804" b="13409"/>
          <a:stretch/>
        </p:blipFill>
        <p:spPr>
          <a:xfrm>
            <a:off x="6877080" y="26028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6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828800"/>
            <a:ext cx="28083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82880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026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23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09564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095640" cy="1849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4581360"/>
            <a:ext cx="93528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88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4120" y="1052640"/>
            <a:ext cx="166824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4120" y="1052640"/>
            <a:ext cx="1668240" cy="2881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480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403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ЛУ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822680" cy="154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16720" y="2492280"/>
            <a:ext cx="1994040" cy="1676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52809" r="0" b="0"/>
          <a:stretch/>
        </p:blipFill>
        <p:spPr>
          <a:xfrm>
            <a:off x="6300720" y="5300640"/>
            <a:ext cx="2000160" cy="965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548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ЛУ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199404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7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77080" y="4941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1846440" cy="1515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16002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866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2637000"/>
            <a:ext cx="1220760" cy="1452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658800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88000" y="306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5280" y="5391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59236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90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58800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592360" cy="2181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77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44520" y="981000"/>
            <a:ext cx="3111480" cy="32418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659640" y="537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711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Щ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44520" y="981000"/>
            <a:ext cx="311148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659640" y="537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97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2106720" cy="3097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777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2106720" cy="3097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303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1927080" cy="3024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30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1927080" cy="3024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75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63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87280" y="1844640"/>
            <a:ext cx="3024360" cy="1917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692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16720" y="52498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тите оставить свой отзы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88000" y="321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9640" y="508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лодец! У тебя очень хорошо получается чи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5787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87344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6877080" y="508464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19959" t="7057" r="28005" b="12944"/>
          <a:stretch/>
        </p:blipFill>
        <p:spPr>
          <a:xfrm>
            <a:off x="6823080" y="260280"/>
            <a:ext cx="134928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77080" y="508464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9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48360" y="2565360"/>
            <a:ext cx="1095480" cy="151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16720" y="4861080"/>
            <a:ext cx="20876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16720" y="333360"/>
            <a:ext cx="2014560" cy="136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16720" y="4861080"/>
            <a:ext cx="2087640" cy="180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01456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40360" y="1197000"/>
            <a:ext cx="251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3357720"/>
            <a:ext cx="259236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7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Р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588000" y="2997360"/>
            <a:ext cx="1835280" cy="911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2016000" cy="155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732720" y="333360"/>
            <a:ext cx="154116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Р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588000" y="2997360"/>
            <a:ext cx="1835280" cy="911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9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45:40Z</dcterms:created>
  <dc:creator>viki</dc:creator>
  <dc:description/>
  <dc:language>en-US</dc:language>
  <cp:lastModifiedBy>viki</cp:lastModifiedBy>
  <dcterms:modified xsi:type="dcterms:W3CDTF">2007-11-22T11:04:36Z</dcterms:modified>
  <cp:revision>20</cp:revision>
  <dc:subject/>
  <dc:title>Слайд 1</dc:title>
</cp:coreProperties>
</file>