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8.wmf" ContentType="image/x-wmf"/>
  <Override PartName="/ppt/media/image11.png" ContentType="image/png"/>
  <Override PartName="/ppt/media/image6.wmf" ContentType="image/x-wmf"/>
  <Override PartName="/ppt/media/image13.wmf" ContentType="image/x-wmf"/>
  <Override PartName="/ppt/media/image7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10.png" ContentType="image/png"/>
  <Override PartName="/ppt/media/image28.wmf" ContentType="image/x-wmf"/>
  <Override PartName="/ppt/media/image4.wmf" ContentType="image/x-wmf"/>
  <Override PartName="/ppt/media/image27.wmf" ContentType="image/x-wmf"/>
  <Override PartName="/ppt/media/image9.jpeg" ContentType="image/jpeg"/>
  <Override PartName="/ppt/media/image23.wmf" ContentType="image/x-wmf"/>
  <Override PartName="/ppt/media/image26.wmf" ContentType="image/x-wmf"/>
  <Override PartName="/ppt/media/image14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.png" ContentType="image/pn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4736-CC5D-463B-B223-AFE1CDED5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890B-7CDB-4D90-A73A-9F2214747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AD6E-0C33-436F-B8A6-7F278356B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6C8B-A5E1-423C-9056-01763B114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39A6-7577-4CFB-B0CD-5FF6C294D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4ABD-C482-4915-89D9-7409F95B3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074E-180E-459A-8B5B-517B44A04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9DE9-7DBE-4323-98BD-529FE0CF9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45EC-9ACD-4010-9B31-680174B9F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BA3D-20A5-4681-A679-E1DC1D6E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080F-5650-4B81-97EF-1DFE4BF9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80C6-4D7E-4B8B-9C7B-B983FD09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724360" y="0"/>
            <a:ext cx="341964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E1692-261B-48EE-A26A-F5DAEA70A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900000" y="836640"/>
            <a:ext cx="360072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516720" y="115920"/>
            <a:ext cx="201600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516720" y="4724280"/>
            <a:ext cx="2016000" cy="20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516720" y="2421000"/>
            <a:ext cx="201600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5280" y="27000"/>
            <a:ext cx="7777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6475320"/>
            <a:ext cx="6400800" cy="4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иктория Кузнец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403280" y="620640"/>
            <a:ext cx="6697800" cy="4103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оиграем?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очитаем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29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10312" t="0" r="12137" b="0"/>
          <a:stretch/>
        </p:blipFill>
        <p:spPr>
          <a:xfrm>
            <a:off x="6516720" y="2625840"/>
            <a:ext cx="1942920" cy="1611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 flipH="1" rot="1039200">
            <a:off x="6443280" y="5373720"/>
            <a:ext cx="2162160" cy="873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6516720" y="482760"/>
            <a:ext cx="1942920" cy="14335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971640" y="2133720"/>
            <a:ext cx="3481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Verdana"/>
              </a:rPr>
              <a:t>ЛЕ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516720" y="482760"/>
            <a:ext cx="1942920" cy="14335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971640" y="2133720"/>
            <a:ext cx="3481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Verdana"/>
              </a:rPr>
              <a:t>ЛЕ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357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1692360" y="1557360"/>
            <a:ext cx="2061720" cy="2445840"/>
            <a:chOff x="1692360" y="1557360"/>
            <a:chExt cx="2061720" cy="2445840"/>
          </a:xfrm>
        </p:grpSpPr>
        <p:sp>
          <p:nvSpPr>
            <p:cNvPr id="90" name=""/>
            <p:cNvSpPr/>
            <p:nvPr/>
          </p:nvSpPr>
          <p:spPr>
            <a:xfrm>
              <a:off x="1692360" y="1557360"/>
              <a:ext cx="2061720" cy="2445840"/>
            </a:xfrm>
            <a:prstGeom prst="cube">
              <a:avLst>
                <a:gd name="adj" fmla="val 13708"/>
              </a:avLst>
            </a:prstGeom>
            <a:solidFill>
              <a:srgbClr val="ffff99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078640" y="2844360"/>
              <a:ext cx="902520" cy="902880"/>
            </a:xfrm>
            <a:prstGeom prst="ellipse">
              <a:avLst/>
            </a:prstGeom>
            <a:solidFill>
              <a:srgbClr val="e74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rot="8117400">
              <a:off x="1950840" y="2070360"/>
              <a:ext cx="644400" cy="644760"/>
            </a:xfrm>
            <a:custGeom>
              <a:avLst/>
              <a:gdLst>
                <a:gd name="textAreaLeft" fmla="*/ 151200 w 644400"/>
                <a:gd name="textAreaRight" fmla="*/ 492480 w 644400"/>
                <a:gd name="textAreaTop" fmla="*/ 75600 h 644760"/>
                <a:gd name="textAreaBottom" fmla="*/ 404640 h 64476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981160" y="1557360"/>
              <a:ext cx="386280" cy="255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464920" y="2588400"/>
              <a:ext cx="127440" cy="38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>
            <a:hlinkClick r:id="" action="ppaction://hlinkshowjump?jump=nextslide"/>
          </p:cNvPr>
          <p:cNvSpPr/>
          <p:nvPr/>
        </p:nvSpPr>
        <p:spPr>
          <a:xfrm>
            <a:off x="6659640" y="76500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С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59640" y="308772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СУ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659640" y="539100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СА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67564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3772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1692360" y="1557360"/>
            <a:ext cx="2061720" cy="2445840"/>
            <a:chOff x="1692360" y="1557360"/>
            <a:chExt cx="2061720" cy="2445840"/>
          </a:xfrm>
        </p:grpSpPr>
        <p:sp>
          <p:nvSpPr>
            <p:cNvPr id="100" name=""/>
            <p:cNvSpPr/>
            <p:nvPr/>
          </p:nvSpPr>
          <p:spPr>
            <a:xfrm>
              <a:off x="1692360" y="1557360"/>
              <a:ext cx="2061720" cy="2445840"/>
            </a:xfrm>
            <a:prstGeom prst="cube">
              <a:avLst>
                <a:gd name="adj" fmla="val 13708"/>
              </a:avLst>
            </a:prstGeom>
            <a:solidFill>
              <a:srgbClr val="ffff99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078640" y="2844360"/>
              <a:ext cx="902520" cy="902880"/>
            </a:xfrm>
            <a:prstGeom prst="ellipse">
              <a:avLst/>
            </a:prstGeom>
            <a:solidFill>
              <a:srgbClr val="e74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8117400">
              <a:off x="1950840" y="2070360"/>
              <a:ext cx="644400" cy="644760"/>
            </a:xfrm>
            <a:custGeom>
              <a:avLst/>
              <a:gdLst>
                <a:gd name="textAreaLeft" fmla="*/ 151200 w 644400"/>
                <a:gd name="textAreaRight" fmla="*/ 492480 w 644400"/>
                <a:gd name="textAreaTop" fmla="*/ 75600 h 644760"/>
                <a:gd name="textAreaBottom" fmla="*/ 404640 h 64476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81160" y="1557360"/>
              <a:ext cx="386280" cy="255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464920" y="2588400"/>
              <a:ext cx="127440" cy="38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6659640" y="76500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С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910720" y="-60336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397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16000" y="1844640"/>
            <a:ext cx="3024360" cy="17208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659640" y="76500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НО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659640" y="315900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С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nextslide"/>
          </p:cNvPr>
          <p:cNvSpPr/>
          <p:nvPr/>
        </p:nvSpPr>
        <p:spPr>
          <a:xfrm>
            <a:off x="6659640" y="553572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НО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116000" y="1844640"/>
            <a:ext cx="3024360" cy="17208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659640" y="553572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НО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60436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637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476360" y="2060640"/>
            <a:ext cx="2374920" cy="13525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659640" y="76500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ОС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659640" y="558972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У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" action="ppaction://hlinkshowjump?jump=nextslide"/>
          </p:cNvPr>
          <p:cNvSpPr/>
          <p:nvPr/>
        </p:nvSpPr>
        <p:spPr>
          <a:xfrm>
            <a:off x="6659640" y="308772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О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476360" y="2060640"/>
            <a:ext cx="2374920" cy="13525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659640" y="308772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О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407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1692360" y="1557360"/>
            <a:ext cx="2061720" cy="2445840"/>
            <a:chOff x="1692360" y="1557360"/>
            <a:chExt cx="2061720" cy="2445840"/>
          </a:xfrm>
        </p:grpSpPr>
        <p:sp>
          <p:nvSpPr>
            <p:cNvPr id="122" name=""/>
            <p:cNvSpPr/>
            <p:nvPr/>
          </p:nvSpPr>
          <p:spPr>
            <a:xfrm>
              <a:off x="1692360" y="1557360"/>
              <a:ext cx="2061720" cy="2445840"/>
            </a:xfrm>
            <a:prstGeom prst="cube">
              <a:avLst>
                <a:gd name="adj" fmla="val 13708"/>
              </a:avLst>
            </a:prstGeom>
            <a:solidFill>
              <a:srgbClr val="ffff99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078640" y="2844360"/>
              <a:ext cx="902520" cy="902880"/>
            </a:xfrm>
            <a:prstGeom prst="ellipse">
              <a:avLst/>
            </a:prstGeom>
            <a:solidFill>
              <a:srgbClr val="e74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8117400">
              <a:off x="1950840" y="2070360"/>
              <a:ext cx="644400" cy="644760"/>
            </a:xfrm>
            <a:custGeom>
              <a:avLst/>
              <a:gdLst>
                <a:gd name="textAreaLeft" fmla="*/ 151200 w 644400"/>
                <a:gd name="textAreaRight" fmla="*/ 492480 w 644400"/>
                <a:gd name="textAreaTop" fmla="*/ 75600 h 644760"/>
                <a:gd name="textAreaBottom" fmla="*/ 404640 h 64476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981160" y="1557360"/>
              <a:ext cx="386280" cy="255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464920" y="2588400"/>
              <a:ext cx="127440" cy="38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042920" y="4579920"/>
            <a:ext cx="93528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97080" y="4581360"/>
            <a:ext cx="934920" cy="9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49800" y="4581360"/>
            <a:ext cx="934920" cy="9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021440" y="5230800"/>
            <a:ext cx="93528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" action="ppaction://hlinkshowjump?jump=nextslide"/>
          </p:cNvPr>
          <p:cNvSpPr/>
          <p:nvPr/>
        </p:nvSpPr>
        <p:spPr>
          <a:xfrm>
            <a:off x="7020000" y="2852640"/>
            <a:ext cx="934920" cy="9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093080" y="620640"/>
            <a:ext cx="934920" cy="9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867564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3862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1692360" y="1557360"/>
            <a:ext cx="2061720" cy="2445840"/>
            <a:chOff x="1692360" y="1557360"/>
            <a:chExt cx="2061720" cy="2445840"/>
          </a:xfrm>
        </p:grpSpPr>
        <p:sp>
          <p:nvSpPr>
            <p:cNvPr id="135" name=""/>
            <p:cNvSpPr/>
            <p:nvPr/>
          </p:nvSpPr>
          <p:spPr>
            <a:xfrm>
              <a:off x="1692360" y="1557360"/>
              <a:ext cx="2061720" cy="2445840"/>
            </a:xfrm>
            <a:prstGeom prst="cube">
              <a:avLst>
                <a:gd name="adj" fmla="val 13708"/>
              </a:avLst>
            </a:prstGeom>
            <a:solidFill>
              <a:srgbClr val="ffff99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78640" y="2844360"/>
              <a:ext cx="902520" cy="902880"/>
            </a:xfrm>
            <a:prstGeom prst="ellipse">
              <a:avLst/>
            </a:prstGeom>
            <a:solidFill>
              <a:srgbClr val="e74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8117400">
              <a:off x="1950840" y="2070360"/>
              <a:ext cx="644400" cy="644760"/>
            </a:xfrm>
            <a:custGeom>
              <a:avLst/>
              <a:gdLst>
                <a:gd name="textAreaLeft" fmla="*/ 151200 w 644400"/>
                <a:gd name="textAreaRight" fmla="*/ 492480 w 644400"/>
                <a:gd name="textAreaTop" fmla="*/ 75600 h 644760"/>
                <a:gd name="textAreaBottom" fmla="*/ 404640 h 64476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981160" y="1557360"/>
              <a:ext cx="386280" cy="255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64920" y="2588400"/>
              <a:ext cx="127440" cy="38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042920" y="4579920"/>
            <a:ext cx="93528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97080" y="4581360"/>
            <a:ext cx="934920" cy="9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349800" y="4581360"/>
            <a:ext cx="934920" cy="9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20000" y="2852640"/>
            <a:ext cx="934920" cy="9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95640" y="4581360"/>
            <a:ext cx="934920" cy="9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737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6877080" y="2637000"/>
            <a:ext cx="1220760" cy="1452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659640" y="5157720"/>
            <a:ext cx="1800000" cy="1008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42560" y="1925280"/>
            <a:ext cx="325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Verdana"/>
              </a:rPr>
              <a:t>ДО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rcRect l="23341" t="7057" r="31804" b="13409"/>
          <a:stretch/>
        </p:blipFill>
        <p:spPr>
          <a:xfrm>
            <a:off x="6877080" y="260280"/>
            <a:ext cx="1224000" cy="1656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8910720" y="-2332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5269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042920" y="4579920"/>
            <a:ext cx="93528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97080" y="4581360"/>
            <a:ext cx="934920" cy="9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349800" y="4581360"/>
            <a:ext cx="934920" cy="9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>
            <a:hlinkClick r:id="" action="ppaction://hlinkshowjump?jump=nextslide"/>
          </p:cNvPr>
          <p:cNvSpPr/>
          <p:nvPr/>
        </p:nvSpPr>
        <p:spPr>
          <a:xfrm>
            <a:off x="7021440" y="5230800"/>
            <a:ext cx="93528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020000" y="2852640"/>
            <a:ext cx="934920" cy="9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093080" y="620640"/>
            <a:ext cx="934920" cy="9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332000" y="1828800"/>
            <a:ext cx="2808360" cy="19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042920" y="4579920"/>
            <a:ext cx="93528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197080" y="4581360"/>
            <a:ext cx="934920" cy="9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349800" y="4581360"/>
            <a:ext cx="934920" cy="9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021440" y="5230800"/>
            <a:ext cx="93528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332000" y="1828800"/>
            <a:ext cx="2808360" cy="19432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195640" y="4581360"/>
            <a:ext cx="934920" cy="9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9026640" y="-60336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2235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042920" y="4579920"/>
            <a:ext cx="93528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97080" y="4581360"/>
            <a:ext cx="934920" cy="9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349800" y="4581360"/>
            <a:ext cx="934920" cy="9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021440" y="5230800"/>
            <a:ext cx="93528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020000" y="2852640"/>
            <a:ext cx="934920" cy="9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" action="ppaction://hlinkshowjump?jump=nextslide"/>
          </p:cNvPr>
          <p:cNvSpPr/>
          <p:nvPr/>
        </p:nvSpPr>
        <p:spPr>
          <a:xfrm>
            <a:off x="7093080" y="620640"/>
            <a:ext cx="934920" cy="9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95640" y="4581360"/>
            <a:ext cx="934920" cy="9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116000" y="1773360"/>
            <a:ext cx="3095640" cy="184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042920" y="4579920"/>
            <a:ext cx="93528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197080" y="4581360"/>
            <a:ext cx="934920" cy="9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349800" y="4581360"/>
            <a:ext cx="934920" cy="9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093080" y="620640"/>
            <a:ext cx="934920" cy="9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95640" y="4581360"/>
            <a:ext cx="934920" cy="9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116000" y="1773360"/>
            <a:ext cx="3095640" cy="18493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042920" y="4581360"/>
            <a:ext cx="935280" cy="9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886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042920" y="4579920"/>
            <a:ext cx="93528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95640" y="4581360"/>
            <a:ext cx="934920" cy="9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349800" y="4581360"/>
            <a:ext cx="934920" cy="9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" action="ppaction://hlinkshowjump?jump=nextslide"/>
          </p:cNvPr>
          <p:cNvSpPr/>
          <p:nvPr/>
        </p:nvSpPr>
        <p:spPr>
          <a:xfrm>
            <a:off x="7021440" y="5230800"/>
            <a:ext cx="93528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020000" y="2852640"/>
            <a:ext cx="934920" cy="9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093080" y="620640"/>
            <a:ext cx="934920" cy="9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824120" y="1052640"/>
            <a:ext cx="1668240" cy="28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042920" y="4579920"/>
            <a:ext cx="93528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95640" y="4581360"/>
            <a:ext cx="934920" cy="9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349800" y="4581360"/>
            <a:ext cx="934920" cy="9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021440" y="5230800"/>
            <a:ext cx="93528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824120" y="1052640"/>
            <a:ext cx="1668240" cy="28810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348000" y="4581360"/>
            <a:ext cx="934920" cy="9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8910720" y="-5317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3403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42560" y="1925280"/>
            <a:ext cx="325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Verdana"/>
              </a:rPr>
              <a:t>ЛУН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588000" y="333360"/>
            <a:ext cx="1822680" cy="15480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6516720" y="2492280"/>
            <a:ext cx="1994040" cy="16765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rcRect l="0" t="52809" r="0" b="0"/>
          <a:stretch/>
        </p:blipFill>
        <p:spPr>
          <a:xfrm>
            <a:off x="6300720" y="5300640"/>
            <a:ext cx="2000160" cy="9651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8748720" y="-60336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5548" fill="hold"/>
                                        <p:tgtEl>
                                          <p:spTgt spid="1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42560" y="1925280"/>
            <a:ext cx="325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Verdana"/>
              </a:rPr>
              <a:t>ЛУН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516720" y="2492280"/>
            <a:ext cx="1994040" cy="16765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8910720" y="-60336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876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42560" y="1925280"/>
            <a:ext cx="325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Verdana"/>
              </a:rPr>
              <a:t>РЫБ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6877080" y="4941720"/>
            <a:ext cx="1355760" cy="17002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6588000" y="260280"/>
            <a:ext cx="1846440" cy="15159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6732720" y="2492280"/>
            <a:ext cx="1600200" cy="166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42560" y="1925280"/>
            <a:ext cx="325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Verdana"/>
              </a:rPr>
              <a:t>РЫБ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877080" y="4941720"/>
            <a:ext cx="1355760" cy="17002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8910720" y="-5317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866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77080" y="2637000"/>
            <a:ext cx="1220760" cy="14522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925280"/>
            <a:ext cx="325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Verdana"/>
              </a:rPr>
              <a:t>ДО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577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>
            <a:hlinkClick r:id="" action="ppaction://hlinkshowjump?jump=nextslide"/>
          </p:cNvPr>
          <p:cNvSpPr/>
          <p:nvPr/>
        </p:nvSpPr>
        <p:spPr>
          <a:xfrm>
            <a:off x="6588000" y="76500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КО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88000" y="3068640"/>
            <a:ext cx="20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КО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515280" y="5391000"/>
            <a:ext cx="208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КАШ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2592360" cy="21812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8910720" y="-5317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4909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588000" y="76500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КО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2592360" cy="21812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8748720" y="-38736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577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244520" y="981000"/>
            <a:ext cx="3111480" cy="3241800"/>
          </a:xfrm>
          <a:prstGeom prst="rect">
            <a:avLst/>
          </a:prstGeom>
          <a:ln w="0">
            <a:noFill/>
          </a:ln>
        </p:spPr>
      </p:pic>
      <p:sp>
        <p:nvSpPr>
          <p:cNvPr id="214" name="">
            <a:hlinkClick r:id="" action="ppaction://hlinkshowjump?jump=nextslide"/>
          </p:cNvPr>
          <p:cNvSpPr/>
          <p:nvPr/>
        </p:nvSpPr>
        <p:spPr>
          <a:xfrm>
            <a:off x="6659640" y="537372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РЕП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659640" y="308772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РУ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516720" y="711360"/>
            <a:ext cx="21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ЩУ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244520" y="981000"/>
            <a:ext cx="3111480" cy="32418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6659640" y="537372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РЕП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8910720" y="-5317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397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971640" y="4653000"/>
            <a:ext cx="717480" cy="71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835280" y="4653000"/>
            <a:ext cx="71892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021440" y="5230800"/>
            <a:ext cx="93528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7020000" y="2852640"/>
            <a:ext cx="934920" cy="9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093080" y="620640"/>
            <a:ext cx="934920" cy="9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2106720" cy="30974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2700360" y="4653000"/>
            <a:ext cx="71928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564000" y="4653000"/>
            <a:ext cx="71892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8910720" y="-60336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5777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971640" y="4653000"/>
            <a:ext cx="717480" cy="71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35280" y="4653000"/>
            <a:ext cx="71892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20000" y="2852640"/>
            <a:ext cx="934920" cy="9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2106720" cy="30974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700360" y="4653000"/>
            <a:ext cx="71928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564000" y="4653000"/>
            <a:ext cx="71892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8910720" y="-60336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3303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971640" y="4653000"/>
            <a:ext cx="717480" cy="71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835280" y="4653000"/>
            <a:ext cx="71892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>
            <a:hlinkClick r:id="" action="ppaction://hlinkshowjump?jump=nextslide"/>
          </p:cNvPr>
          <p:cNvSpPr/>
          <p:nvPr/>
        </p:nvSpPr>
        <p:spPr>
          <a:xfrm>
            <a:off x="7021440" y="5230800"/>
            <a:ext cx="93528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020000" y="2852640"/>
            <a:ext cx="934920" cy="9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093080" y="620640"/>
            <a:ext cx="934920" cy="9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700360" y="4653000"/>
            <a:ext cx="71928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64000" y="4653000"/>
            <a:ext cx="71892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692360" y="981000"/>
            <a:ext cx="1927080" cy="30243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4301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971640" y="4653000"/>
            <a:ext cx="717480" cy="71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835280" y="4653000"/>
            <a:ext cx="71892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021440" y="5230800"/>
            <a:ext cx="93528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700360" y="4653000"/>
            <a:ext cx="71928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564000" y="4653000"/>
            <a:ext cx="71892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692360" y="981000"/>
            <a:ext cx="1927080" cy="30243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8675640" y="-60336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3263" fill="hold"/>
                                        <p:tgtEl>
                                          <p:spTgt spid="2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1187280" y="1844640"/>
            <a:ext cx="3024360" cy="1917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коне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588000" y="69228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иктория Кузнец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516720" y="524988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отите оставить свой отзыв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588000" y="321300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iki.rdf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910720" y="-53172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539640" y="5084640"/>
            <a:ext cx="48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Молодец! У тебя очень хорошо получается читат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5787" fill="hold"/>
                                        <p:tgtEl>
                                          <p:spTgt spid="2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588000" y="2492280"/>
            <a:ext cx="1873440" cy="1871640"/>
          </a:xfrm>
          <a:prstGeom prst="rect">
            <a:avLst/>
          </a:prstGeom>
          <a:ln w="0">
            <a:noFill/>
          </a:ln>
        </p:spPr>
      </p:pic>
      <p:sp>
        <p:nvSpPr>
          <p:cNvPr id="59" name="">
            <a:hlinkClick r:id="" action="ppaction://hlinkshowjump?jump=nextslide"/>
          </p:cNvPr>
          <p:cNvSpPr/>
          <p:nvPr/>
        </p:nvSpPr>
        <p:spPr>
          <a:xfrm>
            <a:off x="6877080" y="5084640"/>
            <a:ext cx="1297080" cy="1295640"/>
          </a:xfrm>
          <a:prstGeom prst="ellipse">
            <a:avLst/>
          </a:prstGeom>
          <a:gradFill rotWithShape="0">
            <a:gsLst>
              <a:gs pos="0">
                <a:srgbClr val="f397b8"/>
              </a:gs>
              <a:gs pos="100000">
                <a:srgbClr val="00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2139840"/>
            <a:ext cx="324972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Verdana"/>
              </a:rPr>
              <a:t>МЯ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rcRect l="19959" t="7057" r="28005" b="12944"/>
          <a:stretch/>
        </p:blipFill>
        <p:spPr>
          <a:xfrm>
            <a:off x="6823080" y="260280"/>
            <a:ext cx="1349280" cy="158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77080" y="5084640"/>
            <a:ext cx="1297080" cy="1295640"/>
          </a:xfrm>
          <a:prstGeom prst="ellipse">
            <a:avLst/>
          </a:prstGeom>
          <a:gradFill rotWithShape="0">
            <a:gsLst>
              <a:gs pos="0">
                <a:srgbClr val="f397b8"/>
              </a:gs>
              <a:gs pos="100000">
                <a:srgbClr val="00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560" y="2139840"/>
            <a:ext cx="324972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Verdana"/>
              </a:rPr>
              <a:t>МЯ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910720" y="-38736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397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948360" y="2565360"/>
            <a:ext cx="1095480" cy="1513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6516720" y="4861080"/>
            <a:ext cx="2087640" cy="18032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6516720" y="333360"/>
            <a:ext cx="2014560" cy="1368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971640" y="2133720"/>
            <a:ext cx="3481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Verdana"/>
              </a:rPr>
              <a:t>ЛУ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516720" y="4861080"/>
            <a:ext cx="2087640" cy="18032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516720" y="333360"/>
            <a:ext cx="2014560" cy="1368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971640" y="2133720"/>
            <a:ext cx="3481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Verdana"/>
              </a:rPr>
              <a:t>ЛУ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140360" y="1197000"/>
            <a:ext cx="2519280" cy="1224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211640" y="3357720"/>
            <a:ext cx="2592360" cy="23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8910720" y="-5317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971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42560" y="2139840"/>
            <a:ext cx="324972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Verdana"/>
              </a:rPr>
              <a:t>РО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>
            <a:hlinkClick r:id="" action="ppaction://hlinkshowjump?jump=nextslide"/>
          </p:cNvPr>
          <p:cNvPicPr/>
          <p:nvPr/>
        </p:nvPicPr>
        <p:blipFill>
          <a:blip r:embed="rId1"/>
          <a:srcRect l="14361" t="22330" r="11630" b="29434"/>
          <a:stretch/>
        </p:blipFill>
        <p:spPr>
          <a:xfrm>
            <a:off x="6588000" y="2997360"/>
            <a:ext cx="1835280" cy="9111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516720" y="4941720"/>
            <a:ext cx="2016000" cy="1555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6732720" y="333360"/>
            <a:ext cx="1541160" cy="16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42560" y="2139840"/>
            <a:ext cx="324972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Verdana"/>
              </a:rPr>
              <a:t>РО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rcRect l="14361" t="22330" r="11630" b="29434"/>
          <a:stretch/>
        </p:blipFill>
        <p:spPr>
          <a:xfrm>
            <a:off x="6588000" y="2997360"/>
            <a:ext cx="1835280" cy="9111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8910720" y="-60336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298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7T15:45:40Z</dcterms:created>
  <dc:creator>viki</dc:creator>
  <dc:description/>
  <dc:language>en-US</dc:language>
  <cp:lastModifiedBy>viki</cp:lastModifiedBy>
  <dcterms:modified xsi:type="dcterms:W3CDTF">2007-11-22T11:04:36Z</dcterms:modified>
  <cp:revision>20</cp:revision>
  <dc:subject/>
  <dc:title>Слайд 1</dc:title>
</cp:coreProperties>
</file>