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DA25-2590-4883-B08C-564E713C4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E9B6-95AA-436C-868F-BFF95761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6550-7482-461A-AFEE-DB5E91410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3771-7705-4DEC-8336-40A840559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A2F12-D184-402A-BC9C-94D8CA45C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9C90-63D2-49FB-80F6-D857CC0E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1180-1969-492B-AEFA-4F8E6C70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CB1A-9590-43EB-9A15-5062AB05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A2556-8AFB-492E-B22D-1CF3B4F7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72174-4D76-4CE3-A32D-A5D991BF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5D14-9F51-402A-BA62-44B4D2D3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B882-A219-45B2-8CA4-0E975BC0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EC601-AF80-4EBC-8C22-4AA2C828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A3C3D-2BB6-447E-9C8B-428012B2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A987-1EEA-4052-AD33-4FF27531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8A96D-C49A-4467-AE45-2BC3B629D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24F2-E041-4F92-A84F-64C3186B4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AD60-B210-49A4-B044-6DDD7BFB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0152-31E0-435B-A3D6-39F0A5AB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FCBC-172D-46FF-B0CC-102FD8AF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27EC-A3BA-4E23-A290-354D7418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9B96-97D8-4E33-8888-235F1126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2BB8-9BDE-4682-9596-4EDBCE27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C439-793D-4063-A32B-F8A575D5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790D-A510-4E3C-AF27-3A0227B425F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0F1D-D1FC-43B9-B01B-D0DFCA0AAA7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31640" y="-360"/>
            <a:ext cx="734364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Поговорим о подростках…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87280" y="3733920"/>
            <a:ext cx="658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Из опыта работ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едагога-психолога   гимназии №1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М.А.Нехаёнок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Избегание неудачи. 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02920" y="2852280"/>
            <a:ext cx="6800760" cy="32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Verdana"/>
              </a:rPr>
              <a:t>Постарайтесь незаметно создавать для него ситуации, в которых он смог бы проявить себя успешным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</a:rPr>
              <a:t>Это надо помнить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ыражать недовольство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отдельными действиями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ребёнка, а не ребёнком в целом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осуждать действия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ребёнка, но не его чувства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едовольство действиями ребёнка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не должно быть систематическим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540720" cy="54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Не забывайте, что ребёнок –  наше отражение. Не уяснив причин его трудностей, не устранив их, мы не сможем ему помочь . Поднимитесь над Вашими собственными проблемами, чтобы увидеть проблемы Вашего ребёнка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Он очень одинок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71640" y="1352520"/>
            <a:ext cx="734544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5280" y="691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К трудностям в воспитании относитесь философски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Не следует думать о том, что есть «легкие»дети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Воспитание ребёнка – дело всегда трудное, даже при самых оптимальных условиях и возможностях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907920"/>
            <a:ext cx="874872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Не оценивайте своего ребёнка плохо из-за какого-либо одного проступка. Не превращайте неуспех в одном деле в полную неуспешность ребёнка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Кто виноват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187280" y="1220760"/>
            <a:ext cx="7129800" cy="58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</a:rPr>
              <a:t>Формирование веры в успех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Verdana"/>
              </a:rPr>
              <a:t>Родители должны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оощрять любые улучшения, где больше внимания уделяется не результату, а процессу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уметь находить и раскрывать перед ребёнком его сильные стороны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демонстрировать веру в него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ризнавать трудности возникающих проблем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00000" y="277920"/>
            <a:ext cx="7786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Советы родителям подростк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748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ажно знать особенности подросткового возраста и научиться безусловно принимать своего ребёнка, то есть любить его не за то, что он красивый, умный, способный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Verdana"/>
              </a:rPr>
              <a:t>а просто за то, что он есть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Общие интересы – залог успешного взаимодействи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00000" y="1409760"/>
            <a:ext cx="74883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947960" y="260280"/>
          <a:ext cx="5464080" cy="659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7960" y="260280"/>
                    <a:ext cx="5464080" cy="659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35280" y="-181080"/>
            <a:ext cx="6922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Советы родителям подростка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9721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Verdana"/>
              </a:rPr>
              <a:t>Учитесь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слушать и слышать своего ребёнка;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все замечания делать в доброжелательном, спокойном тоне;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не использовать ярлыки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68360" y="907920"/>
            <a:ext cx="8424720" cy="46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Необходимо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Помочь ребёнку найти компромисс души и тел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Познакомить подростка с устройством и функционированием организма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Помнить, что ребёнку нужна не столько самостоятельность, сколько право на неё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В самостоятельности ребёнка не следует видеть угрозу лишиться его самого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Не перегружать подростка опекой и контроле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Хотите, чтобы подросток сделал то, что вам нужно, сделайте так, чтоб он сам этого захотел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Arial"/>
              </a:rPr>
              <a:t>Советы родителям подростк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rcRect l="0" t="15465" r="0" b="15512"/>
          <a:stretch/>
        </p:blipFill>
        <p:spPr>
          <a:xfrm>
            <a:off x="2484360" y="1844640"/>
            <a:ext cx="4424400" cy="50133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Ещё не взрослые, но уже не дет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37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Arial"/>
              </a:rPr>
              <a:t>Удачи  и терпения Вам, дорогие родители!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Декабрь 2012 года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81200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Опросник 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«Взаимоотношения родителей и детей»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1.Рождение вашего ребёнка было желанным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2.Вы каждый день его обнимаете, говорите ласковые слова или шутите с ним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3.Вы с ним каждый вечер разговариваете по душам и обсуждаете прожитый им день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4.Раз в неделю проводите с ним досуг (кино, концерт, театр, посещение родственников, поход на лыжах и т.д.)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5.Вы обсуждаете с ним создавшиеся семейные проблемы, ситуации, планы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6.Вы обсуждаете с ним его имидж, моду, манеру одеваться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7.Вы знаете его друзей (чем они занимаются, где живут)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413000"/>
            <a:ext cx="9144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8.Вы знаете о  его  любимом занятии, хобби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9.Вы в курсе его влюблённости, симпатий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10.Вы знаете о его недругах, недоброжелателях, врагах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11.Вы знаете, какой его любимый предмет в школе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12.Вы знаете имя его любимого учителя в школе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13.Вы первым идёте на примирение, разговор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14.Вы не оскорбляете и не унижаете своего ребёнка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Опросник 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«Взаимоотношения родителей и детей»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cc"/>
                </a:solidFill>
                <a:uFillTx/>
                <a:latin typeface="Arial"/>
              </a:rPr>
              <a:t>Психологическая поддержка ребёнка со стороны родителей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роцесс, в ходе которого родитель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сосредоточен на достоинствах ребёнка с целью укрепления его самооценки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омогает ребёнку поверить в себя и свои способности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омогает ребёнку избежать ошибок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оддерживает ребёнка в период неудач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Многие родители не понимают, почему подростки  вдруг начинают вести себя неадекватно.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В чем корни такого поведения? И как на него реагировать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640" y="765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br>
              <a:rPr sz="6400"/>
            </a:br>
            <a:br>
              <a:rPr sz="6400"/>
            </a:br>
            <a:br>
              <a:rPr sz="6400"/>
            </a:b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Привлечение внимания</a:t>
            </a:r>
            <a:r>
              <a:rPr b="1" lang="en-US" sz="64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0" lang="en-US" sz="64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6400"/>
            </a:br>
            <a:endParaRPr b="0" lang="en-US" sz="6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256500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Verdana"/>
              </a:rPr>
              <a:t>Учите подростка «зарабатывать» внимание позитивными способами, замечая и поощряя любые его достижения, даже стремления к ним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"/>
              </a:rPr>
              <a:t>Власть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Verdana"/>
              </a:rPr>
              <a:t>Конфликтовать в таких случаях - только «заводить» подростка. Конструктивнее обговорить с подростком, как разделить ответственность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7000" spc="-1" strike="noStrike">
                <a:solidFill>
                  <a:srgbClr val="ffffcc"/>
                </a:solidFill>
                <a:latin typeface="Arial"/>
              </a:rPr>
              <a:t>Месть.</a:t>
            </a:r>
            <a:r>
              <a:rPr b="0" lang="en-US" sz="7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7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899640" y="2565360"/>
            <a:ext cx="755964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Verdana"/>
              </a:rPr>
              <a:t>Удивите его поддержкой, хорошим отношением, заботой и терпением</a:t>
            </a:r>
            <a:r>
              <a:rPr b="0" i="1" lang="en-US" sz="36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1:29:03Z</dcterms:created>
  <dc:creator>USER</dc:creator>
  <dc:description/>
  <dc:language>en-US</dc:language>
  <cp:lastModifiedBy>USER</cp:lastModifiedBy>
  <dcterms:modified xsi:type="dcterms:W3CDTF">2005-12-07T15:07:30Z</dcterms:modified>
  <cp:revision>31</cp:revision>
  <dc:subject/>
  <dc:title>Слайд 1</dc:title>
</cp:coreProperties>
</file>