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9CF-C614-40D3-A205-3A0A7F8F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89C-B3AE-4E36-B8E9-B47DB281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CA7-176A-4FE7-ABB5-8C6F7641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2C4-9998-42C4-A7C2-DC18BD13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D9DC-A85E-4C24-AFF8-86960DE2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C945-DE6F-4592-9152-17AE004E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C54A-F439-461D-B5B2-AC9FC0AD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2DE5-FA62-4F0B-BFDD-A8BF06A0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3243-A53D-4607-81C8-8C75A538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365E-5455-4A66-90E5-4CE4CA43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E54F-7C17-406B-8A61-8C8627FB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BFD-7C48-457A-8178-7432D823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4C22-6BE2-4BD0-9AF9-1E750D2A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8540-714D-4C70-AFDC-78B3F49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CECE-00AC-45FF-9A95-09CC4D4E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1C10-C8B4-408D-A689-F583423A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2F00-9EA9-47A0-B13A-8C9CB458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F67-585E-4284-A50D-953DC82C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295-F712-43D5-B312-CF320E71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F13-E307-428E-88D2-470116CD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617-E6DF-4BB4-9FA9-45168C72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A03-3836-49D5-8862-266513AD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D2E-CCC2-4F79-970A-C5B6C860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D58-9BA8-4654-8D89-67B78F74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FA1B-6EAF-4CBC-8CEA-9BD4B4070CB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932E-746B-49AD-8901-700AD7A6589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34364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Поговорим о подростках…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3733920"/>
            <a:ext cx="658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з опыта рабо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дагога-психолога   гимназии №1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М.А.Нехаёнок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Избегание неудачи.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80076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Постарайтесь незаметно создавать для него ситуации, в которых он смог бы проявить себя успешны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Это надо помни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ыражать недовольство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отдельными действиям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ребёнка, а не ребёнком в целом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осуждать действия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ребёнка, но не его чувств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довольство действиями ребёнка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не должно быть систематическим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540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Не забывайте, что ребёнок –  наше отражение. Не уяснив причин его трудностей, не устранив их, мы не сможем ему помочь . Поднимитесь над Вашими собственными проблемами, чтобы увидеть проблемы Вашего ребёнка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н очень одинок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1352520"/>
            <a:ext cx="73454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К трудностям в воспитании относитесь философски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Не следует думать о том, что есть «легкие»дети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Воспитание ребёнка – дело всегда трудное, даже при самых оптимальных условиях и возможностях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7487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Не оценивайте своего ребёнка плохо из-за какого-либо одного проступка. Не превращайте неуспех в одном деле в полную неуспешность ребёнк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то виноват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1220760"/>
            <a:ext cx="71298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Формирование веры в успе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Родители должны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ощрять любые улучшения, где больше внимания уделяется не результату, а процессу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меть находить и раскрывать перед ребёнком его сильные сторон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демонстрировать веру в него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изнавать трудности возникающих проблем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277920"/>
            <a:ext cx="7786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оветы родителям подрост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ажно знать особенности подросткового возраста и научиться безусловно принимать своего ребёнка, то есть любить его не за то, что он красивый, умный, способный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а просто за то, что он есть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бщие интересы – залог успешного взаимодейств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1409760"/>
            <a:ext cx="7488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947960" y="260280"/>
          <a:ext cx="546408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7960" y="260280"/>
                    <a:ext cx="546408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5280" y="-181080"/>
            <a:ext cx="692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Советы родителям подростк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9721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Учитесь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слушать и слышать своего ребёнка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все замечания делать в доброжелательном, спокойном тоне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не использовать ярлыки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907920"/>
            <a:ext cx="8424720" cy="46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Необходимо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мочь ребёнку найти компромисс души и тел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знакомить подростка с устройством и функционированием организм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мнить, что ребёнку нужна не столько самостоятельность, сколько право на неё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 самостоятельности ребёнка не следует видеть угрозу лишиться его самого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перегружать подростка опекой и контрол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Хотите, чтобы подросток сделал то, что вам нужно, сделайте так, чтоб он сам этого захоте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Советы родителям подрост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15465" r="0" b="15512"/>
          <a:stretch/>
        </p:blipFill>
        <p:spPr>
          <a:xfrm>
            <a:off x="2484360" y="1844640"/>
            <a:ext cx="4424400" cy="5013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Ещё не взрослые, но уже не де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Удачи  и терпения Вам, дорогие родители!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Декабрь 2012 год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8120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Опросник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«Взаимоотношения родителей и детей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.Рождение вашего ребёнка было желанным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2.Вы каждый день его обнимаете, говорите ласковые слова или шутите с ним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3.Вы с ним каждый вечер разговариваете по душам и обсуждаете прожитый им день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4.Раз в неделю проводите с ним досуг (кино, концерт, театр, посещение родственников, поход на лыжах и т.д.)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5.Вы обсуждаете с ним создавшиеся семейные проблемы, ситуации, план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6.Вы обсуждаете с ним его имидж, моду, манеру одеваться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7.Вы знаете его друзей (чем они занимаются, где живут)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130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8.Вы знаете о  его  любимом занятии, хобби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9.Вы в курсе его влюблённости, симпатий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0.Вы знаете о его недругах, недоброжелателях, врагах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1.Вы знаете, какой его любимый предмет в школ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2.Вы знаете имя его любимого учителя в школ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3.Вы первым идёте на примирение, разговор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14.Вы не оскорбляете и не унижаете своего ребёнка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Опросник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«Взаимоотношения родителей и детей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Психологическая поддержка ребёнка со стороны родителей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цесс, в ходе которого родител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средоточен на достоинствах ребёнка с целью укрепления его самооценк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гает ребёнку поверить в себя и свои способност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гает ребёнку избежать ошибок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ддерживает ребёнка в период неудач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Многие родители не понимают, почему подростки  вдруг начинают вести себя неадекватно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В чем корни такого поведения? И как на него реагировать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br>
              <a:rPr sz="6400"/>
            </a:br>
            <a:br>
              <a:rPr sz="6400"/>
            </a:br>
            <a:br>
              <a:rPr sz="6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ривлечение внимания</a:t>
            </a:r>
            <a:r>
              <a:rPr b="1" lang="en-US" sz="6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US" sz="6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6400"/>
            </a:br>
            <a:endParaRPr b="0" lang="en-US" sz="6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Учите подростка «зарабатывать» внимание позитивными способами, замечая и поощряя любые его достижения, даже стремления к ни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Власть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Конфликтовать в таких случаях - только «заводить» подростка. Конструктивнее обговорить с подростком, как разделить ответственность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7000" spc="-1" strike="noStrike">
                <a:solidFill>
                  <a:srgbClr val="ffffcc"/>
                </a:solidFill>
                <a:latin typeface="Arial"/>
              </a:rPr>
              <a:t>Месть.</a:t>
            </a:r>
            <a:r>
              <a:rPr b="0" lang="en-US" sz="7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7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99640" y="2565360"/>
            <a:ext cx="7559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Удивите его поддержкой, хорошим отношением, заботой и терпением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29:03Z</dcterms:created>
  <dc:creator>USER</dc:creator>
  <dc:description/>
  <dc:language>en-US</dc:language>
  <cp:lastModifiedBy>USER</cp:lastModifiedBy>
  <dcterms:modified xsi:type="dcterms:W3CDTF">2005-12-07T15:07:30Z</dcterms:modified>
  <cp:revision>31</cp:revision>
  <dc:subject/>
  <dc:title>Слайд 1</dc:title>
</cp:coreProperties>
</file>