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AFDD-D9C8-4817-8E62-A9217E60D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E829-B5F6-4EBA-8023-E7F53AD8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C959-C0D7-498F-B8EF-BE94E0B0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5596-D16C-4066-A714-E8D0F324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40BC-7843-4B23-8BBF-DD8E6E0A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6910-A6D4-4A44-B3E3-EDD8A287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C50B-7348-4C9B-B985-60F13443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9DAA-3173-409A-8C17-251D9578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7028-8221-486A-8CA7-50610A3B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520B-9E77-4CCD-B707-FF5A4948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53AB-621D-4BCD-B8B9-E4BD9494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3FD6-FDCF-43AB-89E7-470306A9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FD02-F60C-40C2-A584-0643178F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67F1-31CB-42C8-86C8-A9ACC059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2C5F-7535-45BB-84D7-2837CEFA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3078-611C-465C-B32B-71CCE89ED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C2E7-C7AB-4FB3-919E-F454EF3F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FC32E-6B00-4972-A3F2-4442BD51E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80543-87D8-41FF-ADA5-41013167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01D17-5473-44AA-ADDF-B78B05D2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C04E9-2BD0-4678-ABC3-FAC423AA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972B2-159E-4490-9F7C-5A31F351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98B9-3C30-4427-9B8D-7FC3277E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00CF7-B4C0-4452-A51F-1CB01CB7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C0716-19FF-4965-9240-0466DFF9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CC72C-3EDC-47DD-A191-5FB6C509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A2AAD-F5A6-401F-ADE9-3FA3B2F6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5C66E-428F-4DCA-A0E9-DEF36A8D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B28A7-5A23-4E15-AB52-E8F2D95E7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C3C05-3F4B-4514-9FFC-47E06E854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DC521-BDD5-4C7F-9D14-CC232DC3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279F0-8D0F-4A58-B4B3-0718EA25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867B1-5B9E-4182-A04B-5C7906B8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EECA-9777-4F42-A153-2DCEA977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775F3-F86F-45B3-9C4A-357ACB55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7EC01-C7D6-486F-8441-F1EBC9DE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08FDD-C36D-40BC-BC7C-6773D2CE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888B4-B021-41BA-8AF4-769DB056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DE992-7F4D-432B-A4CE-6C30F1E9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2A767-C46A-4664-8334-02A3D6C9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5D750-B809-4311-AFDF-A71355FB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7BF32-6A08-4E76-8B27-65F8035BC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5C0AF-B5D9-4D13-AB27-8B28EE0D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A15A-3EC4-4891-BC97-506256BC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4186-2818-4164-9C8A-8E14C4BB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858B-55D7-41F6-94DE-572A2D22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4AA7-83C1-4653-80BA-FFF777DF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11E2-3037-4B62-ABAC-94DCFD6E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44E3-B7B7-4CA7-BD16-F586A6FC928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8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9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0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1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2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3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4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5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6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7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8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9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0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1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62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63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4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5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6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7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8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9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0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1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2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3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4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5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6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7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8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9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0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1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2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3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4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5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6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7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8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9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0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1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2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3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4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5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6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7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8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9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0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1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2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3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4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5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6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7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8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9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0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1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2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3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4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5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6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7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8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9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20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21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22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23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24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25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26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27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28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29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30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31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32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33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34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35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36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37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38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39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40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41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42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43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44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45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46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47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48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49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50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51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52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53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54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55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56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57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58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59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60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61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62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63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64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65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66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67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68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69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70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71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72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73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74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75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76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77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78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79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80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81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82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83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84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85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86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87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88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89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0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1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2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3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4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5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6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7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09E0-D6B2-4047-A6CD-50B8DA4F64B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40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241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42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43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44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245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46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47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759B-E32A-4E90-B2F4-8489C4E4910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90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91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92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93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94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95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96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97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98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99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00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01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02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03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304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05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06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07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08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09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0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1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2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3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4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5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6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7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8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9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20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21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22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23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24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25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26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27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28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29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0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1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2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3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4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5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6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7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8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9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0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1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2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3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4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5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6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7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8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9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0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1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2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3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4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5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6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7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8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9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60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61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62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63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64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65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66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67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68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69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0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1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2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3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4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5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6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7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8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9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80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81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82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83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84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85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86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87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88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89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90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91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92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93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94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95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96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97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98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99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00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01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02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03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04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05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06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07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08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09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10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11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12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13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14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15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16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17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18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19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20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21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22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23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24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25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26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27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28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29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30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31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32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33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34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35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36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37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38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39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8312-8CDD-4C49-8888-47051AA1115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Начало.WMV" descr=""/>
          <p:cNvPicPr/>
          <p:nvPr/>
        </p:nvPicPr>
        <p:blipFill>
          <a:blip r:embed="rId1"/>
          <a:stretch/>
        </p:blipFill>
        <p:spPr>
          <a:xfrm>
            <a:off x="0" y="0"/>
            <a:ext cx="874872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28">
            <a:hlinkClick r:id="" action="ppaction://hlinkshowjump?jump=nextslide"/>
          </p:cNvPr>
          <p:cNvSpPr/>
          <p:nvPr/>
        </p:nvSpPr>
        <p:spPr>
          <a:xfrm>
            <a:off x="8748720" y="0"/>
            <a:ext cx="395280" cy="685800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6858000"/>
              <a:gd name="textAreaBottom" fmla="*/ 6832440 h 6858000"/>
            </a:gdLst>
            <a:ahLst/>
            <a:rect l="textAreaLeft" t="textAreaTop" r="textAreaRight" b="textAreaBottom"/>
            <a:pathLst>
              <a:path w="21600" h="374433">
                <a:moveTo>
                  <a:pt x="0" y="0"/>
                </a:moveTo>
                <a:lnTo>
                  <a:pt x="21600" y="0"/>
                </a:lnTo>
                <a:lnTo>
                  <a:pt x="21600" y="374433"/>
                </a:lnTo>
                <a:lnTo>
                  <a:pt x="0" y="374433"/>
                </a:lnTo>
                <a:close/>
              </a:path>
              <a:path fill="lightenLess" w="21600" h="3744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4433">
                <a:moveTo>
                  <a:pt x="21600" y="0"/>
                </a:moveTo>
                <a:lnTo>
                  <a:pt x="21600" y="374433"/>
                </a:lnTo>
                <a:lnTo>
                  <a:pt x="20200" y="373033"/>
                </a:lnTo>
                <a:lnTo>
                  <a:pt x="20200" y="1400"/>
                </a:lnTo>
                <a:close/>
              </a:path>
              <a:path fill="darkenLess" w="21600" h="374433">
                <a:moveTo>
                  <a:pt x="21600" y="374433"/>
                </a:moveTo>
                <a:lnTo>
                  <a:pt x="0" y="374433"/>
                </a:lnTo>
                <a:lnTo>
                  <a:pt x="1400" y="373033"/>
                </a:lnTo>
                <a:lnTo>
                  <a:pt x="20200" y="373033"/>
                </a:lnTo>
                <a:close/>
              </a:path>
              <a:path fill="lighten" w="21600" h="374433">
                <a:moveTo>
                  <a:pt x="0" y="374433"/>
                </a:moveTo>
                <a:lnTo>
                  <a:pt x="0" y="0"/>
                </a:lnTo>
                <a:lnTo>
                  <a:pt x="1400" y="1400"/>
                </a:lnTo>
                <a:lnTo>
                  <a:pt x="1400" y="373033"/>
                </a:lnTo>
                <a:close/>
              </a:path>
            </a:pathLst>
          </a:custGeom>
          <a:solidFill>
            <a:srgbClr val="5b5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366" fill="hold"/>
                                        <p:tgtEl>
                                          <p:spTgt spid="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Monotype Corsiva"/>
              </a:rPr>
              <a:t>Народные</a:t>
            </a:r>
            <a:r>
              <a:rPr b="1" i="1" lang="ru-RU" sz="4800" spc="-1" strike="noStrike">
                <a:solidFill>
                  <a:srgbClr val="330033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ff0000"/>
                </a:solidFill>
                <a:latin typeface="Monotype Corsiva"/>
              </a:rPr>
              <a:t>обряды  в повести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Определите, о каком празднике идет ре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Как переплетаются в нем христианские и языческие обыча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0033"/>
                </a:solidFill>
                <a:uFillTx/>
                <a:latin typeface="Arial"/>
                <a:hlinkClick r:id="rId2" action="ppaction://hlinksldjump"/>
              </a:rPr>
              <a:t>О чем пелось в колядка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330033"/>
                </a:solidFill>
                <a:latin typeface="Times New Roman"/>
              </a:rPr>
              <a:t>Знаете ли вы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чем своеобразие повести Н.В.Гогол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ие черты характера простого народа изображает авто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ожно ли определить год или век , когда произошли описываемые событ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 вы это определи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уществовала ли Диканька на самом де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4" descr="арка"/>
          <p:cNvPicPr/>
          <p:nvPr/>
        </p:nvPicPr>
        <p:blipFill>
          <a:blip r:embed="rId1"/>
          <a:stretch/>
        </p:blipFill>
        <p:spPr>
          <a:xfrm>
            <a:off x="190440" y="0"/>
            <a:ext cx="5330880" cy="40006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" descr="Аллея"/>
          <p:cNvPicPr/>
          <p:nvPr/>
        </p:nvPicPr>
        <p:blipFill>
          <a:blip r:embed="rId2"/>
          <a:stretch/>
        </p:blipFill>
        <p:spPr>
          <a:xfrm>
            <a:off x="5143680" y="1428840"/>
            <a:ext cx="37861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0033"/>
                </a:solidFill>
                <a:latin typeface="Monotype Corsiva"/>
              </a:rPr>
              <a:t>Сравните два отрывка из произведений.</a:t>
            </a:r>
            <a:br>
              <a:rPr sz="2800"/>
            </a:br>
            <a:r>
              <a:rPr b="0" i="1" lang="ru-RU" sz="2800" spc="-1" strike="noStrike">
                <a:solidFill>
                  <a:srgbClr val="330033"/>
                </a:solidFill>
                <a:latin typeface="Monotype Corsiva"/>
              </a:rPr>
              <a:t> В чем отличие в изображении народной жизни у Н.В.Гоголя и А.Н. Радищева?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А.Н.Радищев писал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«Путешествии из Петербурга в Москву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«Обувь для зимы, то есть лапти, делали они сами…а летом ходили босы», ни скота, ни птицы у крестьян не было, а «малые уделы пашен и сенных покосов, которые им необходимое пропитание дают обыкновенно», дворяне отбирали и заставляли всех» во все дни года работать на себ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Н.В.Гоголь  в повести «Ночь перед Рождеством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«Настало утро. Вся церковь… была полна народа. Пожилые женщины в белых намитках, в белых суконных свитках набожно крестились у самого входа церковного... Дивчата, у которых на головах намотана была целая лавка лент, а на шее монист, крестов и дукатов, старались пробраться еще ближе к иконостасу. На всех лицах, куда ни взглянь, виден был праздник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Какую роль в повести играет пейзаж?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имняя ясная ночь наступила. Глянули звезды. Месяц поднялся на небе посветить добрым людям и всему миру, чтобы было весело колядовать и славить Христа. Морозило сильнее, чем с утра; но зато было тихо, что скрып мороза под сапогом слышался за полверсты. Еще ни одна толпа парубков не показывалась под окнами хат; месяц один только заглядывал  в них украдко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Разделите фантастическое и реальное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1.«…путешественница отодвинула потихоньку заслонку, поглядеть, не назвал ли сын ее Вакула в хату гостей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2.«…чудно снова показалось кузнецу, когда он понесся в огромной карете, качаясь на рессорах, когда с обеих сторон мимо его бежали назад четырехэтажные домы и мостовая, гремя, казалось, сама катилась под ноги лошадям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3.«…целовал ей руку с такими ужимками, как заседатель у поповны, брался за сердце, охал и сказал напрямик, что если она не согласится…его наградить, то он готов на все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4.«Чуб выпучил глаза, когда вошел к нему кузнец, и не знал, чему дивиться: тому ли, что кузнец воскрес, тому ли , что кузнец смел к нему прийти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Как изображает Н.Г.Гоголь нечистую силу?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В каком эпизоде повести наиболее 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переплетается реальность и 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фантастика?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Monotype Corsiva"/>
              </a:rPr>
              <a:t>Н.В.Гоголь часто заставляет нас смеяться. Как он это делает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1.Какое средство создания комического эффекта использует автор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Юм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Сат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Гротес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Сарка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Monotype Corsiva"/>
              </a:rPr>
              <a:t>2.Какое из приведенных определений понятия «Юмор» верно?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а) едкая, язвительная насмешка с откровенно обличительным, сатирическим смыс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б) вид комического, в котором заключена жизнерадостность как необходимая, естественная сторона бы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в)вид комического, в котором изображаются пороки человека или общества, подвергающиеся осмеянию ав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r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Вот настоящая веселость, искренняя, непринужденная, без жеманства, чопорности. А местами какая поэзия! Какая чувствительность! Все это так необыкновенно в нашей литератур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А.С.Пуш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10" descr="пушкин"/>
          <p:cNvPicPr/>
          <p:nvPr/>
        </p:nvPicPr>
        <p:blipFill>
          <a:blip r:embed="rId1"/>
          <a:stretch/>
        </p:blipFill>
        <p:spPr>
          <a:xfrm>
            <a:off x="611280" y="189000"/>
            <a:ext cx="4752720" cy="61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Monotype Corsiva"/>
              </a:rPr>
              <a:t>3.Назовите основные способы юмористического повествования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Неожидан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Срав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Гипербо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Иро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Звукопи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Несоответств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Какие юмористические приемы использованы Н.В.Гоголем в данных эпизодах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1</a:t>
            </a:r>
            <a:r>
              <a:rPr b="1" i="1" lang="ru-RU" sz="2200" spc="-1" strike="noStrike">
                <a:solidFill>
                  <a:srgbClr val="000000"/>
                </a:solidFill>
                <a:latin typeface="Monotype Corsiva"/>
              </a:rPr>
              <a:t>.«Это кузнец, - произнес, схватываясь за капелюхи, Чуб. - Слышишь, Солоха, куда хочешь девай меня; я ни за что на свете не захочу показаться этому выродку проклятому, чтоб ему набежало, дьявольскому сыну, под обоими глазами по пузырю в копну величиною.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Monotype Corsiva"/>
              </a:rPr>
              <a:t>2.«-Сделай милость, человек добрый, не откажи! – наступал кузнец. – Расскажи хоть, как , примерно сказать, попасть к нему на дорогу?  - Тому ненужно далеко ходить, у кого черт за плечами, произнес равнодушно Пацюк, не изменяя своего положения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Monotype Corsiva"/>
              </a:rPr>
              <a:t>3.«Губерния знатная! – отвечал он равнодушно. – Нечего сказать: домы балшущие, картины висят скрозь важные. Многие домы исписаны буквами из сусального золота до чрезвычайности. Нечего сказать, чудная пропорция!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i="1" lang="ru-RU" sz="5400" spc="-1" strike="noStrike">
                <a:solidFill>
                  <a:srgbClr val="ff0000"/>
                </a:solidFill>
                <a:latin typeface="Monotype Corsiva"/>
              </a:rPr>
              <a:t>Блиц – опрос:</a:t>
            </a:r>
            <a:br>
              <a:rPr sz="5400"/>
            </a:br>
            <a:br>
              <a:rPr sz="3800"/>
            </a:b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1.Назовите имена героев по их характеристик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а)задорная, веселая, кокетливая, заносчив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б)лицемерный, трусливый, сладострастн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в)самодовольный, ленивый, глуп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г)добрый, наивный, бесстрашный, сильный, целеустремле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Monotype Corsiva"/>
              </a:rPr>
              <a:t>2.Кто говорит о ком?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«…Попробуй подойти! Вишь, какой! Вот большая цаца! Ты думаешь, я на тебя суда не найду? Нет, голубчик, я пойду, и пойду прямо к комиссару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«Эх , добрая баба! черт – баба!..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«Нет, этот…еще ленивее Чуба: тот, по крайней мере, ест ложкою, а этот и руки не хочет подня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3.Кем   это   сказано?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Как бы хорошо теперь лежать, поджавши под себя ноги, на лежанке, курить спокойно люльку и слушать…колядки и песни веселых парубков и девущек…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Чер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Казаком Чуб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Вакул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Пузатым Пацю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4.Кого из перечисленных  героев Н.В.Гоголь показал иронически? .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А)Ваку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Б)Чу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В)дьяк Осип Никифоро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Г)Солох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Д)Окс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Е)Пацю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Monotype Corsiva"/>
              </a:rPr>
              <a:t>5.Почему черт задумал стащить месяц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А) хотел испортить ночь перед Рождеств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Б) хотел навредить ведь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В) хотел помешать Вакуле пойти к Окс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Г) по долгу служ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30033"/>
                </a:solidFill>
                <a:latin typeface="Monotype Corsiva"/>
              </a:rPr>
              <a:t>6.Почему Солоха стремилась поссорить Чуба и Вакулу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А)из-за своего злого нра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Б) сама имела виды на богатство Чу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В) следовала советам чер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Г) старалась не допустить свадьбы Оксаны и Вакул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0033"/>
                </a:solidFill>
                <a:latin typeface="Monotype Corsiva"/>
              </a:rPr>
              <a:t>7.С какой целью Н.В.Гоголь ввел в повесть сцену разговора Екатерины с запорожцами?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А) развития сюж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Б) описание блеска придворного бы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В) показать равнодушие высших сфер к жизни на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Г) изображение контраста жизни украинского народа и столичной зна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Monotype Corsiva"/>
              </a:rPr>
              <a:t>8.Черный ящик: что в нем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400" y="4797360"/>
            <a:ext cx="761832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1. 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Предмет неодушевленный, парный, ручн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2.Этим словом названа опера П.И.Чайковск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Ящик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2700360" y="162864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62768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Monotype Corsiva"/>
              </a:rPr>
              <a:t>Литературная игра </a:t>
            </a:r>
            <a:br>
              <a:rPr sz="6600"/>
            </a:br>
            <a:r>
              <a:rPr b="0" lang="ru-RU" sz="6600" spc="-1" strike="noStrike">
                <a:solidFill>
                  <a:srgbClr val="ff0000"/>
                </a:solidFill>
                <a:latin typeface="Monotype Corsiva"/>
              </a:rPr>
              <a:t>по повести Н.В.Гоголя</a:t>
            </a:r>
            <a:br>
              <a:rPr sz="6600"/>
            </a:br>
            <a:r>
              <a:rPr b="0" lang="ru-RU" sz="6000" spc="-1" strike="noStrike">
                <a:solidFill>
                  <a:srgbClr val="ff0000"/>
                </a:solidFill>
                <a:latin typeface="Monotype Corsiva"/>
              </a:rPr>
              <a:t>«Ночь перед Рождеством»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10.Что представляет собой начало </a:t>
            </a:r>
            <a:br>
              <a:rPr sz="3800"/>
            </a:b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повести и ее эпилог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Это были поэтичекие очерки Малороссии, очерки, полные жизни и очарования. Вся, что может иметь природа прекрасного, сельская жизнь простолюдинов обольсти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тельного, все, что народ может иметь оригинального, типического – все это радужными цветами блестит в этих первых поэтических грезах Гоголя. Это была поэзия юная, свежая, благоуханная, роскошная, упоительна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В.Г.Бели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7" descr="Гоголь"/>
          <p:cNvPicPr/>
          <p:nvPr/>
        </p:nvPicPr>
        <p:blipFill>
          <a:blip r:embed="rId1"/>
          <a:stretch/>
        </p:blipFill>
        <p:spPr>
          <a:xfrm>
            <a:off x="0" y="0"/>
            <a:ext cx="5245200" cy="645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0033"/>
                </a:solidFill>
                <a:latin typeface="Monotype Corsiva"/>
              </a:rPr>
              <a:t>История создания</a:t>
            </a:r>
            <a:br>
              <a:rPr sz="5400"/>
            </a:b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чему Н.В.Гоголь собирал предания, пословицы, поговорки, песни русского и украинского народ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то такой Рудый Паньк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то представляет собой предисловие к сборни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Сколько частей в сборнике? Назовите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0033"/>
                </a:solidFill>
                <a:uFillTx/>
                <a:latin typeface="Arial"/>
                <a:hlinkClick r:id="rId2" action="ppaction://hlinksldjump"/>
              </a:rPr>
              <a:t>Когда и где были напечатаны «Вечера на хуторе близ Дикань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00000" y="2775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990033"/>
                </a:solidFill>
                <a:uFillTx/>
                <a:latin typeface="Monotype Corsiva"/>
                <a:hlinkClick r:id="rId1" action="ppaction://hlinksldjump"/>
              </a:rPr>
              <a:t>Вечера на хуторе близ Дикань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1 ч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Предисло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Сорочинская ярма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Вечер накануне Ивана Куп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Майская ночь, или Утоплен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Пропавшая грам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2 ч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редисло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Ночь перед Рождест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трашная ме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Иван Федорович Шпонька и его тет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Заколдованное мес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часть – 1831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часть – 1832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f072d"/>
                </a:solidFill>
                <a:latin typeface="Times New Roman"/>
              </a:rPr>
              <a:t>Словарная рабо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55280" y="1196640"/>
            <a:ext cx="3809880" cy="45306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Дивч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ару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Кобеняк с видлого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Кож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Люль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лах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Черев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Галу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Жуп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4716360" y="1125360"/>
            <a:ext cx="3897360" cy="54007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Девушка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арень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уконный плащ с капюшоном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Тулуп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Трубка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Нижняя одежда женщины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Башмаки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Клецки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Род кафтана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f072d"/>
                </a:solidFill>
                <a:latin typeface="Times New Roman"/>
              </a:rPr>
              <a:t>Словарная работ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876560" y="907920"/>
            <a:ext cx="3809880" cy="52228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Пчело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Ушастая шап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Шкура ягн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Русский человек с бород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Амб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Старинный головной уб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Свир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Маль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Носовой пла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684360" y="981000"/>
            <a:ext cx="3809880" cy="46753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Пасичник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Капелюхи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Смушки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Кацап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Комора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Кораблик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Сопилка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Хлопец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Хустка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4000" y="1628280"/>
            <a:ext cx="8002440" cy="25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Monotype Corsiva"/>
              </a:rPr>
              <a:t>Покажите предметы национальной украинской одежды на следующих слайдах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15:47:32Z</dcterms:created>
  <dc:creator>Борис</dc:creator>
  <dc:description/>
  <dc:language>en-US</dc:language>
  <cp:lastModifiedBy>мама</cp:lastModifiedBy>
  <dcterms:modified xsi:type="dcterms:W3CDTF">2013-02-24T14:04:05Z</dcterms:modified>
  <cp:revision>46</cp:revision>
  <dc:subject/>
  <dc:title>Слайд 1</dc:title>
</cp:coreProperties>
</file>