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BF4-2738-4C6A-AE24-D932C278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BF7-D26E-42D8-BB19-B5244F99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E87-8E19-4981-A5EE-C612F4A0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52C-F2CC-4ED2-94CA-9F0AE736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8B63-2FE7-414F-BF41-C4AF8F1E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B10F-C5DE-423A-9C67-3383C23F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00E6-B001-4070-9506-C791E8E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F628-CF1B-45F8-88FE-27185212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17B1-4C38-42F1-A7AE-16063C4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3CCC-A85F-47D1-846F-D371457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267D-A219-4E54-A114-635CDB9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19C-0689-41BC-81B6-22887097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A633-C2D7-4589-908B-9176310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FE87-03D1-4401-A218-5BAF29C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D8B0-A5AF-4D17-A8EC-6D49B40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590-7B17-45DC-B5D7-1773A4D8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8664-4136-43B7-B93B-AD5F5287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3C35-0126-43DE-89E8-5A5AFDA8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5488-3FFB-47BF-86AD-155EDEE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A066-29D5-493B-AAF9-7C05480B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AACE-40BE-480E-8AB9-1F65900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9D9E-BD3F-4DF3-8095-02473368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E8C-C07F-4235-9CD1-B22DA2A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F536-BA2A-40F8-8910-7656AC69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F975-5088-42C3-B70A-EB540EE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8D81-25E8-4E3F-8646-5A14A13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E98B-3313-4687-B2EE-589EBE8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1128-E7AF-4464-BFA9-03CDC29E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84B4-C7C6-47D8-A56C-08A75650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3AC3-5047-4F73-A119-641DE8AD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D601-24C9-40B3-AB04-769596AE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6F9DA-3294-41FA-A42A-4C81A2D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B353-B9B6-4B25-8A0F-D47EC21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70C-A68B-41AF-BC0D-3A5493B0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F64B-37C8-43BB-804A-473F032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D31C-9487-4197-AE1F-0FC7273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9FC4-B7AF-4AD9-8187-224BADA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B7F8-0955-4B63-8B8C-C79C5E7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C221-7896-421C-9F9B-05486A8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378D-F952-4112-BDD6-708994D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8356-BBE9-4183-BD1E-831EA3C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3A16-B28B-4B96-BEEE-C9A0033B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2EA4-60CB-4828-A506-A5E4B150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C83-FBE6-4CB9-81D9-A3C62DF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443-47B9-4004-A3DD-188E55A2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556-6286-4542-AB23-D6796D8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E33-1DE1-4150-8BE8-6CD0AD8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EE2-EE77-414B-A300-D63E116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5E06-5617-4A54-AEC1-52BE55EAA2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3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5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7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8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0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1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2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3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4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0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2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3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9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5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6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9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0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1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2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4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6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7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2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3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4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A038-039D-4AE6-BDE2-0FCD5EAAD1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4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C75-0518-4206-AE73-5DB28C8932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0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AF03-0426-406C-99F2-52CBD3C8E3B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Начало.WMV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28">
            <a:hlinkClick r:id="" action="ppaction://hlinkshowjump?jump=nextslide"/>
          </p:cNvPr>
          <p:cNvSpPr/>
          <p:nvPr/>
        </p:nvSpPr>
        <p:spPr>
          <a:xfrm>
            <a:off x="8748720" y="0"/>
            <a:ext cx="395280" cy="6858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6858000"/>
              <a:gd name="textAreaBottom" fmla="*/ 6832440 h 6858000"/>
            </a:gdLst>
            <a:ahLst/>
            <a:rect l="textAreaLeft" t="textAreaTop" r="textAreaRight" b="textAreaBottom"/>
            <a:pathLst>
              <a:path w="21600" h="374433">
                <a:moveTo>
                  <a:pt x="0" y="0"/>
                </a:moveTo>
                <a:lnTo>
                  <a:pt x="21600" y="0"/>
                </a:lnTo>
                <a:lnTo>
                  <a:pt x="21600" y="374433"/>
                </a:lnTo>
                <a:lnTo>
                  <a:pt x="0" y="374433"/>
                </a:lnTo>
                <a:close/>
              </a:path>
              <a:path fill="lightenLess" w="21600" h="3744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4433">
                <a:moveTo>
                  <a:pt x="21600" y="0"/>
                </a:moveTo>
                <a:lnTo>
                  <a:pt x="21600" y="374433"/>
                </a:lnTo>
                <a:lnTo>
                  <a:pt x="20200" y="373033"/>
                </a:lnTo>
                <a:lnTo>
                  <a:pt x="20200" y="1400"/>
                </a:lnTo>
                <a:close/>
              </a:path>
              <a:path fill="darkenLess" w="21600" h="374433">
                <a:moveTo>
                  <a:pt x="21600" y="374433"/>
                </a:moveTo>
                <a:lnTo>
                  <a:pt x="0" y="374433"/>
                </a:lnTo>
                <a:lnTo>
                  <a:pt x="1400" y="373033"/>
                </a:lnTo>
                <a:lnTo>
                  <a:pt x="20200" y="373033"/>
                </a:lnTo>
                <a:close/>
              </a:path>
              <a:path fill="lighten" w="21600" h="374433">
                <a:moveTo>
                  <a:pt x="0" y="374433"/>
                </a:moveTo>
                <a:lnTo>
                  <a:pt x="0" y="0"/>
                </a:lnTo>
                <a:lnTo>
                  <a:pt x="1400" y="1400"/>
                </a:lnTo>
                <a:lnTo>
                  <a:pt x="1400" y="373033"/>
                </a:lnTo>
                <a:close/>
              </a:path>
            </a:pathLst>
          </a:cu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66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Народные</a:t>
            </a:r>
            <a:r>
              <a:rPr b="1" i="1" lang="ru-RU" sz="4800" spc="-1" strike="noStrike">
                <a:solidFill>
                  <a:srgbClr val="330033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обряды  в повест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пределите, о каком празднике идет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Как переплетаются в нем христианские и языческие обыча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 чем пелось в коляд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Знаете ли в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чем своеобразие повести Н.В.Гог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черты характера простого народа изображает ав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жно ли определить год или век , когда произошли описываемые собы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вы это определ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ществовала ли Диканька на самом де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арка"/>
          <p:cNvPicPr/>
          <p:nvPr/>
        </p:nvPicPr>
        <p:blipFill>
          <a:blip r:embed="rId1"/>
          <a:stretch/>
        </p:blipFill>
        <p:spPr>
          <a:xfrm>
            <a:off x="190440" y="0"/>
            <a:ext cx="5330880" cy="4000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Аллея"/>
          <p:cNvPicPr/>
          <p:nvPr/>
        </p:nvPicPr>
        <p:blipFill>
          <a:blip r:embed="rId2"/>
          <a:stretch/>
        </p:blipFill>
        <p:spPr>
          <a:xfrm>
            <a:off x="5143680" y="1428840"/>
            <a:ext cx="3786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Monotype Corsiva"/>
              </a:rPr>
              <a:t>Сравните два отрывка из произведений.</a:t>
            </a:r>
            <a:br>
              <a:rPr sz="2800"/>
            </a:br>
            <a:r>
              <a:rPr b="0" i="1" lang="ru-RU" sz="2800" spc="-1" strike="noStrike">
                <a:solidFill>
                  <a:srgbClr val="330033"/>
                </a:solidFill>
                <a:latin typeface="Monotype Corsiva"/>
              </a:rPr>
              <a:t> В чем отличие в изображении народной жизни у Н.В.Гоголя и А.Н. Радищева?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А.Н.Радищев писал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«Путешествии из Петербурга в Москву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«Обувь для зимы, то есть лапти, делали они сами…а летом ходили босы», ни скота, ни птицы у крестьян не было, а «малые уделы пашен и сенных покосов, которые им необходимое пропитание дают обыкновенно», дворяне отбирали и заставляли всех» во все дни года работать на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.В.Гоголь  в повести «Ночь перед Рождеством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«Настало утро. Вся церковь… была полна народа. Пожилые женщины в белых намитках, в белых суконных свитках набожно крестились у самого входа церковного... Дивчата, у которых на головах намотана была целая лавка лент, а на шее монист, крестов и дукатов, старались пробраться еще ближе к иконостасу. На всех лицах, куда ни взглянь, виден был праздник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Какую роль в повести играет пейзаж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имняя ясная ночь наступила. Глянули звезды. Месяц поднялся на небе посветить добрым людям и всему миру, чтобы было весело колядовать и славить Христа. Морозило сильнее, чем с утра; но зато было тихо, что скрып мороза под сапогом слышался за полверсты. Еще ни одна толпа парубков не показывалась под окнами хат; месяц один только заглядывал  в них украдко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Разделите фантастическое и реальное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1.«…путешественница отодвинула потихоньку заслонку, поглядеть, не назвал ли сын ее Вакула в хату госте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2.«…чудно снова показалось кузнецу, когда он понесся в огромной карете, качаясь на рессорах, когда с обеих сторон мимо его бежали назад четырехэтажные домы и мостовая, гремя, казалось, сама катилась под ноги лошадям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3.«…целовал ей руку с такими ужимками, как заседатель у поповны, брался за сердце, охал и сказал напрямик, что если она не согласится…его наградить, то он готов на вс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4.«Чуб выпучил глаза, когда вошел к нему кузнец, и не знал, чему дивиться: тому ли, что кузнец воскрес, тому ли , что кузнец смел к нему прийт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Как изображает Н.Г.Гоголь нечистую силу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В каком эпизоде повести наиболее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переплетается реальность и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фантастика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Н.В.Гоголь часто заставляет нас смеяться. Как он это делает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1.Какое средство создания комического эффекта использует ав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Юм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ат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роте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арка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2.Какое из приведенных определений понятия «Юмор» верно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) едкая, язвительная насмешка с откровенно обличительным, сатирическим смыс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) вид комического, в котором заключена жизнерадостность как необходимая, естественная сторона 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)вид комического, в котором изображаются пороки человека или общества, подвергающиеся осмеянию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от настоящая веселость, искренняя, непринужденная, без жеманства, чопорности. А местами какая поэзия! Какая чувствительность! Все это так необыкновенно в нашей литератур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пушкин"/>
          <p:cNvPicPr/>
          <p:nvPr/>
        </p:nvPicPr>
        <p:blipFill>
          <a:blip r:embed="rId1"/>
          <a:stretch/>
        </p:blipFill>
        <p:spPr>
          <a:xfrm>
            <a:off x="611280" y="189000"/>
            <a:ext cx="4752720" cy="61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3.Назовите основные способы юмористического повествовани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Неожид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ипер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Ир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Звукоп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Несоответ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Какие юмористические приемы использованы Н.В.Гоголем в данных эпизодах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Monotype Corsiva"/>
              </a:rPr>
              <a:t>.«Это кузнец, - произнес, схватываясь за капелюхи, Чуб. - Слышишь, Солоха, куда хочешь девай меня; я ни за что на свете не захочу показаться этому выродку проклятому, чтоб ему набежало, дьявольскому сыну, под обоими глазами по пузырю в копну величиною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Monotype Corsiva"/>
              </a:rPr>
              <a:t>2.«-Сделай милость, человек добрый, не откажи! – наступал кузнец. – Расскажи хоть, как , примерно сказать, попасть к нему на дорогу?  - Тому ненужно далеко ходить, у кого черт за плечами, произнес равнодушно Пацюк, не изменяя своего положе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Monotype Corsiva"/>
              </a:rPr>
              <a:t>3.«Губерния знатная! – отвечал он равнодушно. – Нечего сказать: домы балшущие, картины висят скрозь важные. Многие домы исписаны буквами из сусального золота до чрезвычайности. Нечего сказать, чудная пропорция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Блиц – опрос:</a:t>
            </a:r>
            <a:br>
              <a:rPr sz="5400"/>
            </a:br>
            <a:br>
              <a:rPr sz="38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1.Назовите имена героев по их характеристик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)задорная, веселая, кокетливая, заносчив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)лицемерный, трусливый, сладострас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)самодовольный, ленивый, глуп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г)добрый, наивный, бесстрашный, сильный, целеустремл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Monotype Corsiva"/>
              </a:rPr>
              <a:t>2.Кто говорит о ком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…Попробуй подойти! Вишь, какой! Вот большая цаца! Ты думаешь, я на тебя суда не найду? Нет, голубчик, я пойду, и пойду прямо к комиссар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Эх , добрая баба! черт – баба!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Нет, этот…еще ленивее Чуба: тот, по крайней мере, ест ложкою, а этот и руки не хочет подня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3.Кем   это   сказано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к бы хорошо теперь лежать, поджавши под себя ноги, на лежанке, курить спокойно люльку и слушать…колядки и песни веселых парубков и девущек…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Че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заком Чу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к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узатым Пацю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4.Кого из перечисленных  героев Н.В.Гоголь показал иронически? 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Вак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Ч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дьяк Осип Никифо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Соло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Д)Окс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Е)Пацю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Monotype Corsiva"/>
              </a:rPr>
              <a:t>5.Почему черт задумал стащить месяц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 хотел испортить ночь перед Рожде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 хотел навредить ведь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 хотел помешать Вакуле пойти к Окс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 по долгу служ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Monotype Corsiva"/>
              </a:rPr>
              <a:t>6.Почему Солоха стремилась поссорить Чуба и Вакул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из-за своего злого н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 сама имела виды на богатство Ч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 следовала советам че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 старалась не допустить свадьбы Оксаны и Ваку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33"/>
                </a:solidFill>
                <a:latin typeface="Monotype Corsiva"/>
              </a:rPr>
              <a:t>7.С какой целью Н.В.Гоголь ввел в повесть сцену разговора Екатерины с запорожцами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 развития сю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 описание блеска придворного б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 показать равнодушие высших сфер к жизни на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 изображение контраста жизни украинского народа и столичной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Monotype Corsiva"/>
              </a:rPr>
              <a:t>8.Черный ящик: что в не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4797360"/>
            <a:ext cx="76183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дмет неодушевленный, парный, руч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2.Этим словом названа опера П.И.Чай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Ящик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700360" y="1628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6276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Литературная игра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по повести Н.В.Гоголя</a:t>
            </a:r>
            <a:br>
              <a:rPr sz="6600"/>
            </a:b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«Ночь перед Рождеством»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10.Что представляет собой начало 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повести и ее эпилог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Это были поэтичекие очерки Малороссии, очерки, полные жизни и очарования. Вся, что может иметь природа прекрасного, сельская жизнь простолюдинов обольсти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тельного, все, что народ может иметь оригинального, типического – все это радужными цветами блестит в этих первых поэтических грезах Гоголя. Это была поэзия юная, свежая, благоуханная, роскошная, упоительна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В.Г.Бе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Гоголь"/>
          <p:cNvPicPr/>
          <p:nvPr/>
        </p:nvPicPr>
        <p:blipFill>
          <a:blip r:embed="rId1"/>
          <a:stretch/>
        </p:blipFill>
        <p:spPr>
          <a:xfrm>
            <a:off x="0" y="0"/>
            <a:ext cx="524520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Monotype Corsiva"/>
              </a:rPr>
              <a:t>История создания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чему Н.В.Гоголь собирал предания, пословицы, поговорки, песни русского и украинского нар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такой Рудый Пань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редставляет собой предисловие к сборн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Сколько частей в сборнике? Назов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Когда и где были напечатаны «Вечера на хуторе близ Дикань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0033"/>
                </a:solidFill>
                <a:uFillTx/>
                <a:latin typeface="Monotype Corsiva"/>
                <a:hlinkClick r:id="rId1" action="ppaction://hlinksldjump"/>
              </a:rPr>
              <a:t>Вечера на хуторе близ Дикань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1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ди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орочинская ярм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ечер накануне Ивана К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айская ночь, или Утопле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опавшая грам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еди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очь перед Рожд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рашная м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ван Федорович Шпонька и его тет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колдованно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асть – 183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ть – 183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f072d"/>
                </a:solidFill>
                <a:latin typeface="Times New Roman"/>
              </a:rPr>
              <a:t>Словар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3809880" cy="4530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ив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р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беняк с видлог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ж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ю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ла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рев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ал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Жу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716360" y="1125360"/>
            <a:ext cx="3897360" cy="5400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вуш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рень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уконный плащ с капюшоном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улуп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уб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ижняя одежда женщины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ашмак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лецк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д кафтан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f072d"/>
                </a:solidFill>
                <a:latin typeface="Times New Roman"/>
              </a:rPr>
              <a:t>Словарная рабо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76560" y="907920"/>
            <a:ext cx="3809880" cy="5222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чел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шастая ша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Шкура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усский человек с бор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мб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таринный головной у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вир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аль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Носовой пл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84360" y="981000"/>
            <a:ext cx="3809880" cy="4675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асичник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пелюх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мушк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цап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омор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ораблик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опил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Хлопец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Хуст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002440" cy="25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Покажите предметы национальной украинской одежды на следующих слайда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15:47:32Z</dcterms:created>
  <dc:creator>Борис</dc:creator>
  <dc:description/>
  <dc:language>en-US</dc:language>
  <cp:lastModifiedBy>мама</cp:lastModifiedBy>
  <dcterms:modified xsi:type="dcterms:W3CDTF">2013-02-24T14:04:05Z</dcterms:modified>
  <cp:revision>46</cp:revision>
  <dc:subject/>
  <dc:title>Слайд 1</dc:title>
</cp:coreProperties>
</file>