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531-43DF-45A7-B5F4-46971417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A35-1634-45FC-ABDF-F47E889A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3B7-5CAB-4302-ACC2-50B3658B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429-8302-42E4-8497-61C5D05B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F3C3-69B1-4283-B364-0EDBC254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9E9D-094B-4FD4-B806-360B7294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DB0-A65E-4EAC-9213-7E10831C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AEF6-C76E-4115-BBAC-EA57F4EF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C6F5-994D-48B3-A23E-974D5C9D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B065-C049-47E2-9A52-25B7347E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1D6D-B798-4D29-AD50-EC157A6F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543-D545-4978-AA5A-2B5B5C55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643A-74EC-4E25-9277-1DB4E513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6B08-50F6-4458-94B9-42E2FFF5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DA53-0ED5-466F-9221-7033E8CB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4F49-47E5-4A13-9DD4-08BFFB97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ADA7-E66C-4A5C-A7DA-85276946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0AAF-7065-4FAA-98DB-3BDA4C3C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4223-C90F-48F3-84F5-50237B82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0752-FE15-4F12-8749-9B83B3F7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39F0-9F72-47EB-9B68-1F1185E0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1B1C-B815-4E2C-ACE8-6416B0FD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DB5-39D1-49E7-93EE-18FE0FEA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A3F18-4109-4F57-B4BD-A6E432DA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4697-1C58-43C4-B060-3A45F895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91B3-007A-46E9-A6C3-75C845DC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54E3-D5A6-462A-8271-196FC18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7D2E-E93D-4B4F-AF6E-4198830E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47080-80FD-4C6C-A4CC-DB463507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70A3-D16D-40BB-83CF-DAABFDA6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FC7-DD7C-47BC-9654-D705A5A9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F7B-AB35-4353-A7DF-72E6F92A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CB1-A3AC-4D4C-90FB-5501702B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B8E-D95B-4B58-9882-3C483BA5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B2E-ABD4-4143-AF1D-542982EF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B9F-BFBA-44C0-A715-EB80342A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400E-1605-4A35-B5FF-A146F6C2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1B5D-A812-4E68-A3A8-A350A9E367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6ECC-079F-4A07-AB0E-B1E3B7FB3D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851280" y="4869000"/>
            <a:ext cx="529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аршаева Ж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уйналиева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4365360"/>
            <a:ext cx="91440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Engravers MT"/>
              </a:rPr>
              <a:t>Elderly peo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 not have to go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ave adult children, who are not a burden 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ave a lot of time to meet with friends, read, travel, go in for sports, work in their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et wiser, have more experience and the ability to help with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ngravers MT"/>
              </a:rPr>
              <a:t>The elderl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e ill and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e a burden to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ffer the fear of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financial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e incapable of living independently, need regular care and nu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e friends and spo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ve a boring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349992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te pension:1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800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ru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orld War ΙΙ Invali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tirement pension + invalidity pe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0% reduced payments for housing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lephone and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ublic ut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ee medical care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heelchairs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A cars and petrol at a dis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ee accommodation in a health res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ee return passage by sea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y air or by railroad once a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ousing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lephone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ts. Without going on waiting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ee of charge assistance about the house for a certain group of people with dis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381636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500"/>
                            </p:stCondLst>
                            <p:childTnLst>
                              <p:par>
                                <p:cTn id="4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95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518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dobe Garamond Pro Bold"/>
              </a:rPr>
              <a:t>To sum up, the welfare state helps the disabled, people who are unable to work to earn money on their ow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3143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Engravers MT"/>
              </a:rPr>
              <a:t>Цель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знакомиться с некоторыми сторонами системы социального обеспечения населения в Росс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47640" y="692280"/>
            <a:ext cx="5904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76360" y="1052280"/>
            <a:ext cx="590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kton Pro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kton Pro Cond"/>
              </a:rPr>
              <a:t>The Welfare State is a country that has a system of ensuring the welfare of its citizens by means of social services provided by the sta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59280" y="2924280"/>
            <a:ext cx="3384360" cy="1081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348000" y="3068640"/>
            <a:ext cx="273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ocial Welf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404640"/>
            <a:ext cx="2808000" cy="1657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708360" y="90792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edical C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4653000"/>
            <a:ext cx="2663640" cy="1441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5157720"/>
            <a:ext cx="2374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ational Insur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56360" y="4653000"/>
            <a:ext cx="2592360" cy="1441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27640" y="5157720"/>
            <a:ext cx="246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ocial Secur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2133720"/>
            <a:ext cx="433440" cy="718920"/>
          </a:xfrm>
          <a:prstGeom prst="upArrow">
            <a:avLst>
              <a:gd name="adj1" fmla="val 50000"/>
              <a:gd name="adj2" fmla="val 41466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3148800">
            <a:off x="2579040" y="4124160"/>
            <a:ext cx="347760" cy="684360"/>
          </a:xfrm>
          <a:prstGeom prst="downArrow">
            <a:avLst>
              <a:gd name="adj1" fmla="val 54574"/>
              <a:gd name="adj2" fmla="val 78607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110600">
            <a:off x="6314760" y="4141800"/>
            <a:ext cx="412560" cy="574560"/>
          </a:xfrm>
          <a:prstGeom prst="downArrow">
            <a:avLst>
              <a:gd name="adj1" fmla="val 50000"/>
              <a:gd name="adj2" fmla="val 34817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059280" cy="2019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372360" y="404640"/>
            <a:ext cx="2520720" cy="1892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419640" y="4549680"/>
            <a:ext cx="2592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79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Russia Government responsible for System of Social Welf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tional Insurance benefits are available to the unemployed, the sick and the ret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Russia has public health service, and private health insurance not acti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Arial"/>
              </a:rPr>
              <a:t>Good points in System of Social Welfare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3168360" cy="210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3097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ad points in System of Social Welfare in Russ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 rot="21109200">
            <a:off x="545400" y="2340000"/>
            <a:ext cx="57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2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It has the shortage of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351600">
            <a:off x="1131840" y="41112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b2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People have to wait to be operated on for many years, because of the financial problems in the National Health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he re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he unemplo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he wid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ick and disabled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Families on low in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hort-term sick peopl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Veter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here are a few payments, which are paid to the different categories of people i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dobe Garamond Pro Bold"/>
              </a:rPr>
              <a:t> 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Women have a right to a pension at the age of 55 and men at 65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 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Women who leave work to have a baby have a right to ask a maternity allowance from the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There are allowances paid to elderly people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.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Retired people can get a salary or a wage and still receive their pension in full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A wide range of other payments exist.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For example, a child allowance is a small monthly payment for each child,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usually paid directly to mother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People who do not work have the right to a monthly payment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,too.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Scholarships are paid to young people, college and higher school students,</a:t>
            </a:r>
            <a:r>
              <a:rPr b="0" lang="ru-RU" sz="2400" spc="-1" strike="noStrike">
                <a:solidFill>
                  <a:srgbClr val="6600cc"/>
                </a:solidFill>
                <a:latin typeface="Adobe Garamond Pro Bold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if they do not pay money for their education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People who are disabled can receive an invalidity p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  </a:t>
            </a:r>
            <a:r>
              <a:rPr b="0" lang="en-US" sz="2400" spc="-1" strike="noStrike">
                <a:solidFill>
                  <a:srgbClr val="6600cc"/>
                </a:solidFill>
                <a:latin typeface="Adobe Garamond Pro Bold"/>
              </a:rPr>
              <a:t>Widows can get payments for their husbands who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08:07:06Z</dcterms:created>
  <dc:creator>user</dc:creator>
  <dc:description/>
  <dc:language>en-US</dc:language>
  <cp:lastModifiedBy>user</cp:lastModifiedBy>
  <dcterms:modified xsi:type="dcterms:W3CDTF">2009-12-28T15:40:48Z</dcterms:modified>
  <cp:revision>8</cp:revision>
  <dc:subject/>
  <dc:title>Слайд 1</dc:title>
</cp:coreProperties>
</file>