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6CBE-3A14-4506-BFFF-B90AAEDBB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4525-A3A9-4461-A070-CB894F0B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BE1F-22A2-4E28-9364-9063E0AC1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3ADD-1187-45A1-AF5F-0ECCCFA8D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A20B-5306-4958-A63C-588CD7EAF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64A2-5621-4269-8AED-3A9B9CD5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82AB-14BF-424C-B490-AD1646F8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3AB4-2C09-4CA0-AC0F-C66722DD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7220-5C88-4451-A1F9-4ACA5FDD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8222-99ED-45DA-8026-55FE54FA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544D-5CC8-4034-86FD-5F318E25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9002-3423-48A7-8606-CDCD1C64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70BB-FCF4-460E-8667-FC11A395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14D2-FFAB-420A-8D4A-78586E3F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4EC6-62FE-4ADC-BA6D-B2BE0D23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56A1-FB5B-42ED-8355-2A094AC6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6944-C097-4D0E-8219-7212FB07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99E2B-9552-4920-B450-12CEBCAD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EF10F-62B3-403D-843B-A174E324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940A4-A0E4-473E-B8BC-794C8940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78367-0323-4AF8-964E-4C1C6F91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24CFC-82B2-4513-91C5-4549EE25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68B3-3C82-41B7-ACF9-6A450CFD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2F704-7977-49A6-8B26-137662C6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35FB8-CDEE-464C-A6BA-EFB17ABA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3365F-050A-4BC8-867D-0244D066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60E6C-3F78-4C0F-A263-60B938FF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B473F-EB65-4C8F-8AA1-65DE7E42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5ADD5-EA0D-46BC-9FF2-13AE236E5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D1471-0DAA-4116-AFCA-C2BBCEFC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53EB-A624-4075-9DFC-1AEC1890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36FF-7020-4B4D-BB38-6B3B17AE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2799-0678-48DE-8B90-6E1581F5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7293-9B2E-444F-9A79-126E127D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FD28-1358-4FD5-8B41-68EB86B6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C4EB-6B80-4A96-99DF-0BA338E9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5DC1-D806-43AE-A01D-1430B019D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143A-0642-4BEE-A53D-4E53F630E54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B23B-31A6-410F-ACBE-50527893E0F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851280" y="4869000"/>
            <a:ext cx="5292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аршаева Ж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уйналиева 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4365360"/>
            <a:ext cx="91440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Engraver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ngravers MT"/>
              </a:rPr>
              <a:t>Elderly peopl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o not have to go t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ave adult children, who are not a burden any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ave a lot of time to meet with friends, read, travel, go in for sports, work in their ga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get wiser, have more experience and the ability to help with 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422064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Engraver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Engravers MT"/>
              </a:rPr>
              <a:t>The elderl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come ill and dis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come a burden to child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ffer the fear of d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financial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come incapable of living independently, need regular care and nu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se friends and spou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ve a boring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0"/>
                            </p:stCondLst>
                            <p:childTnLst>
                              <p:par>
                                <p:cTn id="3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6000"/>
                            </p:stCondLst>
                            <p:childTnLst>
                              <p:par>
                                <p:cTn id="3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0" y="3499920"/>
            <a:ext cx="914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ate pension:1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800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ru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orld War ΙΙ Invali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tirement pension + invalidity pen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50% reduced payments for housing,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elephone and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ublic ut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ree medical care,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heelchairs,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KA cars and petrol at a disc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ree accommodation in a health res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ree return passage by sea,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y air or by railroad once a 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ousing,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elephone,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ts. Without going on waiting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ree of charge assistance about the house for a certain group of people with dis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843280" y="1197000"/>
            <a:ext cx="381636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500"/>
                            </p:stCondLst>
                            <p:childTnLst>
                              <p:par>
                                <p:cTn id="3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500"/>
                            </p:stCondLst>
                            <p:childTnLst>
                              <p:par>
                                <p:cTn id="4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500"/>
                            </p:stCondLst>
                            <p:childTnLst>
                              <p:par>
                                <p:cTn id="4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6500"/>
                            </p:stCondLst>
                            <p:childTnLst>
                              <p:par>
                                <p:cTn id="4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7500"/>
                            </p:stCondLst>
                            <p:childTnLst>
                              <p:par>
                                <p:cTn id="4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8500"/>
                            </p:stCondLst>
                            <p:childTnLst>
                              <p:par>
                                <p:cTn id="4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9500"/>
                            </p:stCondLst>
                            <p:childTnLst>
                              <p:par>
                                <p:cTn id="4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539640" y="1699920"/>
            <a:ext cx="518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dobe Garamond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dobe Garamond Pro Bold"/>
              </a:rPr>
              <a:t>To sum up, the welfare state helps the disabled, people who are unable to work to earn money on their ow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724360" y="1700280"/>
            <a:ext cx="31435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4000"/>
                            </p:stCondLst>
                            <p:childTnLst>
                              <p:par>
                                <p:cTn id="4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Engravers MT"/>
              </a:rPr>
              <a:t>Цель: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знакомиться с некоторыми сторонами системы социального обеспечения населения в Росс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547640" y="692280"/>
            <a:ext cx="59040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476360" y="1052280"/>
            <a:ext cx="5904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kton Pro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kton Pro Cond"/>
              </a:rPr>
              <a:t>The Welfare State is a country that has a system of ensuring the welfare of its citizens by means of social services provided by the stat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059280" y="2924280"/>
            <a:ext cx="3384360" cy="10810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348000" y="3068640"/>
            <a:ext cx="2736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Social Welf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19640" y="404640"/>
            <a:ext cx="2808000" cy="16574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708360" y="907920"/>
            <a:ext cx="22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Medical C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4653000"/>
            <a:ext cx="2663640" cy="14414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4360" y="5157720"/>
            <a:ext cx="2374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ational Insura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56360" y="4653000"/>
            <a:ext cx="2592360" cy="14414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227640" y="5157720"/>
            <a:ext cx="24606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1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Social Secur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43280" y="2133720"/>
            <a:ext cx="433440" cy="718920"/>
          </a:xfrm>
          <a:prstGeom prst="upArrow">
            <a:avLst>
              <a:gd name="adj1" fmla="val 50000"/>
              <a:gd name="adj2" fmla="val 41466"/>
            </a:avLst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3148800">
            <a:off x="2579040" y="4124160"/>
            <a:ext cx="347760" cy="684360"/>
          </a:xfrm>
          <a:prstGeom prst="downArrow">
            <a:avLst>
              <a:gd name="adj1" fmla="val 54574"/>
              <a:gd name="adj2" fmla="val 78607"/>
            </a:avLst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9110600">
            <a:off x="6314760" y="4141800"/>
            <a:ext cx="412560" cy="574560"/>
          </a:xfrm>
          <a:prstGeom prst="downArrow">
            <a:avLst>
              <a:gd name="adj1" fmla="val 50000"/>
              <a:gd name="adj2" fmla="val 34817"/>
            </a:avLst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3059280" cy="20192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372360" y="404640"/>
            <a:ext cx="2520720" cy="18925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3419640" y="4549680"/>
            <a:ext cx="259236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5796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Russia Government responsible for System of Social Welf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ational Insurance benefits are available to the unemployed, the sick and the ret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Russia has public health service, and private health insurance not activ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cc"/>
                </a:solidFill>
                <a:latin typeface="Arial"/>
              </a:rPr>
              <a:t>Good points in System of Social Welfare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3168360" cy="2106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724360" y="4076640"/>
            <a:ext cx="30974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ad points in System of Social Welfare in Russ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 rot="21109200">
            <a:off x="545400" y="2340000"/>
            <a:ext cx="570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2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It has the shortage of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351600">
            <a:off x="1131840" y="411120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b2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People have to wait to be operated on for many years, because of the financial problems in the National Health Serv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The reti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The unemploy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The widow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Sick and disabled peo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Families on low inco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Short-term sick peopl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Veter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000"/>
                            </p:stCondLst>
                            <p:childTnLst>
                              <p:par>
                                <p:cTn id="2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There are a few payments, which are paid to the different categories of people in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9640" y="1601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dobe Garamond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dobe Garamond Pro Bold"/>
              </a:rPr>
              <a:t>  </a:t>
            </a:r>
            <a:r>
              <a:rPr b="0" lang="en-US" sz="2400" spc="-1" strike="noStrike">
                <a:solidFill>
                  <a:srgbClr val="6600cc"/>
                </a:solidFill>
                <a:latin typeface="Adobe Garamond Pro Bold"/>
              </a:rPr>
              <a:t>Women have a right to a pension at the age of 55 and men at 65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Adobe Garamond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dobe Garamond Pro Bold"/>
              </a:rPr>
              <a:t> </a:t>
            </a:r>
            <a:r>
              <a:rPr b="0" lang="en-US" sz="2400" spc="-1" strike="noStrike">
                <a:solidFill>
                  <a:srgbClr val="6600cc"/>
                </a:solidFill>
                <a:latin typeface="Adobe Garamond Pro Bold"/>
              </a:rPr>
              <a:t>Women who leave work to have a baby have a right to ask a maternity allowance from the gover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Adobe Garamond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dobe Garamond Pro Bold"/>
              </a:rPr>
              <a:t> </a:t>
            </a:r>
            <a:r>
              <a:rPr b="0" lang="en-US" sz="2400" spc="-1" strike="noStrike">
                <a:solidFill>
                  <a:srgbClr val="6600cc"/>
                </a:solidFill>
                <a:latin typeface="Adobe Garamond Pro Bold"/>
              </a:rPr>
              <a:t>There are allowances paid to elderly people</a:t>
            </a:r>
            <a:r>
              <a:rPr b="0" lang="ru-RU" sz="2400" spc="-1" strike="noStrike">
                <a:solidFill>
                  <a:srgbClr val="6600cc"/>
                </a:solidFill>
                <a:latin typeface="Adobe Garamond Pro Bold"/>
              </a:rPr>
              <a:t> .</a:t>
            </a:r>
            <a:r>
              <a:rPr b="0" lang="en-US" sz="2400" spc="-1" strike="noStrike">
                <a:solidFill>
                  <a:srgbClr val="6600cc"/>
                </a:solidFill>
                <a:latin typeface="Adobe Garamond Pro Bold"/>
              </a:rPr>
              <a:t>Retired people can get a salary or a wage and still receive their pension in full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Adobe Garamond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dobe Garamond Pro Bold"/>
              </a:rPr>
              <a:t> </a:t>
            </a:r>
            <a:r>
              <a:rPr b="0" lang="en-US" sz="2400" spc="-1" strike="noStrike">
                <a:solidFill>
                  <a:srgbClr val="6600cc"/>
                </a:solidFill>
                <a:latin typeface="Adobe Garamond Pro Bold"/>
              </a:rPr>
              <a:t>A wide range of other payments exist.</a:t>
            </a:r>
            <a:r>
              <a:rPr b="0" lang="ru-RU" sz="2400" spc="-1" strike="noStrike">
                <a:solidFill>
                  <a:srgbClr val="6600cc"/>
                </a:solidFill>
                <a:latin typeface="Adobe Garamond Pro Bold"/>
              </a:rPr>
              <a:t> </a:t>
            </a:r>
            <a:r>
              <a:rPr b="0" lang="en-US" sz="2400" spc="-1" strike="noStrike">
                <a:solidFill>
                  <a:srgbClr val="6600cc"/>
                </a:solidFill>
                <a:latin typeface="Adobe Garamond Pro Bold"/>
              </a:rPr>
              <a:t>For example, a child allowance is a small monthly payment for each child,</a:t>
            </a:r>
            <a:r>
              <a:rPr b="0" lang="ru-RU" sz="2400" spc="-1" strike="noStrike">
                <a:solidFill>
                  <a:srgbClr val="6600cc"/>
                </a:solidFill>
                <a:latin typeface="Adobe Garamond Pro Bold"/>
              </a:rPr>
              <a:t> </a:t>
            </a:r>
            <a:r>
              <a:rPr b="0" lang="en-US" sz="2400" spc="-1" strike="noStrike">
                <a:solidFill>
                  <a:srgbClr val="6600cc"/>
                </a:solidFill>
                <a:latin typeface="Adobe Garamond Pro Bold"/>
              </a:rPr>
              <a:t>usually paid directly to mothers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Adobe Garamond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dobe Garamond Pro Bold"/>
              </a:rPr>
              <a:t> </a:t>
            </a:r>
            <a:r>
              <a:rPr b="0" lang="en-US" sz="2400" spc="-1" strike="noStrike">
                <a:solidFill>
                  <a:srgbClr val="6600cc"/>
                </a:solidFill>
                <a:latin typeface="Adobe Garamond Pro Bold"/>
              </a:rPr>
              <a:t>People who do not work have the right to a monthly payment</a:t>
            </a:r>
            <a:r>
              <a:rPr b="0" lang="ru-RU" sz="2400" spc="-1" strike="noStrike">
                <a:solidFill>
                  <a:srgbClr val="6600cc"/>
                </a:solidFill>
                <a:latin typeface="Adobe Garamond Pro Bold"/>
              </a:rPr>
              <a:t> </a:t>
            </a:r>
            <a:r>
              <a:rPr b="0" lang="en-US" sz="2400" spc="-1" strike="noStrike">
                <a:solidFill>
                  <a:srgbClr val="6600cc"/>
                </a:solidFill>
                <a:latin typeface="Adobe Garamond Pro Bold"/>
              </a:rPr>
              <a:t>,too.</a:t>
            </a:r>
            <a:r>
              <a:rPr b="0" lang="ru-RU" sz="2400" spc="-1" strike="noStrike">
                <a:solidFill>
                  <a:srgbClr val="6600cc"/>
                </a:solidFill>
                <a:latin typeface="Adobe Garamond Pro Bold"/>
              </a:rPr>
              <a:t> </a:t>
            </a:r>
            <a:r>
              <a:rPr b="0" lang="en-US" sz="2400" spc="-1" strike="noStrike">
                <a:solidFill>
                  <a:srgbClr val="6600cc"/>
                </a:solidFill>
                <a:latin typeface="Adobe Garamond Pro Bold"/>
              </a:rPr>
              <a:t>Scholarships are paid to young people, college and higher school students,</a:t>
            </a:r>
            <a:r>
              <a:rPr b="0" lang="ru-RU" sz="2400" spc="-1" strike="noStrike">
                <a:solidFill>
                  <a:srgbClr val="6600cc"/>
                </a:solidFill>
                <a:latin typeface="Adobe Garamond Pro Bold"/>
              </a:rPr>
              <a:t> </a:t>
            </a:r>
            <a:r>
              <a:rPr b="0" lang="en-US" sz="2400" spc="-1" strike="noStrike">
                <a:solidFill>
                  <a:srgbClr val="6600cc"/>
                </a:solidFill>
                <a:latin typeface="Adobe Garamond Pro Bold"/>
              </a:rPr>
              <a:t>if they do not pay money for their education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Adobe Garamond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dobe Garamond Pro Bold"/>
              </a:rPr>
              <a:t>People who are disabled can receive an invalidity pen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Adobe Garamond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dobe Garamond Pro Bold"/>
              </a:rPr>
              <a:t>  </a:t>
            </a:r>
            <a:r>
              <a:rPr b="0" lang="en-US" sz="2400" spc="-1" strike="noStrike">
                <a:solidFill>
                  <a:srgbClr val="6600cc"/>
                </a:solidFill>
                <a:latin typeface="Adobe Garamond Pro Bold"/>
              </a:rPr>
              <a:t>Widows can get payments for their husbands who d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6000"/>
                            </p:stCondLst>
                            <p:childTnLst>
                              <p:par>
                                <p:cTn id="2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8000"/>
                            </p:stCondLst>
                            <p:childTnLst>
                              <p:par>
                                <p:cTn id="2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08:07:06Z</dcterms:created>
  <dc:creator>user</dc:creator>
  <dc:description/>
  <dc:language>en-US</dc:language>
  <cp:lastModifiedBy>user</cp:lastModifiedBy>
  <dcterms:modified xsi:type="dcterms:W3CDTF">2009-12-28T15:40:48Z</dcterms:modified>
  <cp:revision>8</cp:revision>
  <dc:subject/>
  <dc:title>Слайд 1</dc:title>
</cp:coreProperties>
</file>