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44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43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A87-A876-4C8F-882A-30E0E509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C18-0666-42CC-9B27-85C3784F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1B4-050E-4EC6-8210-EDE4B0FF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8BD-842C-4090-82AB-8EFFA612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D12-2441-4EC1-A901-5CF78744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5EF-D735-49E1-A179-8CB5616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AEA-5B52-4A70-B456-FBAB9148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A69-85D7-432D-B715-BE424364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399-0A5A-4FF6-AE82-10C98B4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DD8-DF3E-4243-AC21-8101350A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6B1-68E0-4972-8E69-CD69F6ED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91C-4B82-4DA2-88D4-45091C6D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0C94-5597-43A2-8AB7-93275830D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edu.ru/files/bins/103.html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edu.ru/files/bins/106.html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edu.ru/files/bins/109.html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www.edu.ru/files/bins/94.html" TargetMode="External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hyperlink" Target="http://www.edu.ru/files/bins/81.html" TargetMode="External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3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208;&#152;&#208;&#183;&#208;&#190;&#208;&#177;&#209;&#128;&#208;&#176;&#208;&#182;&#208;&#181;&#208;&#189;&#208;&#184;&#208;&#181;:Onfim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42920" y="836280"/>
            <a:ext cx="403884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енький ребёнок тянется к книж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ик держит в руках учеб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 читают художественную литературу, газеты и журнал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бушка пишет письмо внук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ычная картина…И никто не задумывается, как человек изобрёл письм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3600360" cy="201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0896800">
            <a:off x="539640" y="907560"/>
            <a:ext cx="422928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адумывался ли ты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 наше время иероглифами пишут народы Китая и Яп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сего в современной китайской письменности около 60 тысяч иероглифов. Выучить наизусть столько иероглифов- колосальный труд, и только немногие люди знают их. Обычно китаец владеет несколькими тысячами иероглифов, и этого вполне хватает для чтения газет, журналов и художественн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176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Наряду с иероглифами появились знаки фонетические, отражающие именно звучание слова, затем- знаки для отдельных с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Постепенно слоговые знаки стали преобладать в древнеегипетской письменности              ( воспроизводились только согласные звуки сло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3573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11280" y="765000"/>
            <a:ext cx="8010360" cy="11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ждая фигурка буква- это застывший звук.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2637000"/>
            <a:ext cx="820728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уки и буквы живут в разных царствах.</a:t>
            </a:r>
            <a:endParaRPr b="0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26920" y="3716280"/>
            <a:ext cx="756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уки -в царстве того что мы слышим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640" y="4653000"/>
            <a:ext cx="7381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квы -в царстве того что мы видим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Arial"/>
              </a:rPr>
              <a:t>                </a:t>
            </a:r>
            <a:r>
              <a:rPr b="0" i="1" lang="ru-RU" sz="2400" spc="-1" strike="noStrike">
                <a:solidFill>
                  <a:srgbClr val="6600cc"/>
                </a:solidFill>
                <a:latin typeface="Arial"/>
              </a:rPr>
              <a:t>Настоящий-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 не слоговой,а  буквенный алфавит, появился впервые у древних греков. Греки придумали знаки для гласных. Греческий алфавит оказался так прост и удобен, что им воспользовались многие другие народы древнего Средиземноморья.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508720" y="1268280"/>
          <a:ext cx="3106800" cy="4525920"/>
        </p:xfrm>
        <a:graphic>
          <a:graphicData uri="http://schemas.openxmlformats.org/drawingml/2006/table">
            <a:tbl>
              <a:tblPr/>
              <a:tblGrid>
                <a:gridCol w="2322720"/>
                <a:gridCol w="78408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реческие 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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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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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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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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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824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От нашего главного свидетеля первоначальной истории Руси - "Повести временных лет" - мы узнаем, что однажды славянский князь Ростислав отправил к византийскому царю Михаилу послов с такими сло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824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"Земля наша крещена, но нет у нас учителя, который бы наставил и поучил нас, и объяснил святые книги. Ведь не знаем мы ни греческого языка, ни латинского; одни учат нас так, а другие иначе, от этого не знаем мы ни начертания букв, ни их значения. И пошлите нам учителей, которые бы могли нам рассказать о книжных словах и о смысле их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157800" y="-2835360"/>
            <a:ext cx="6553080" cy="100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14880" y="2205000"/>
            <a:ext cx="24940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189240" cy="4621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67280" y="1341360"/>
            <a:ext cx="448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Византии жили два брата- Кирилл и Мефодий. Были они люди мудрые и образованные и хорошо знали славянский язык. Этих братьев и послали к славянам, чтобы создать славянскую письменность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ыло это в 863 году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рилл и Мефодий взяли греческий алфавит  и приспособили его для звуков славянского языка. Так что наша азбука- « дочка» греческого языка. Многие наши буквы похожи на греческ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43280" y="1628640"/>
          <a:ext cx="4176720" cy="4032000"/>
        </p:xfrm>
        <a:graphic>
          <a:graphicData uri="http://schemas.openxmlformats.org/drawingml/2006/table">
            <a:tbl>
              <a:tblPr/>
              <a:tblGrid>
                <a:gridCol w="1441440"/>
                <a:gridCol w="2735280"/>
              </a:tblGrid>
              <a:tr h="40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речески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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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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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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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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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авянские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а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Вв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Гг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е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к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Лл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 "азбука" произошло от названий двух первых букв славянской азбуки: А (аз) и Б (бук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ЗБУКА: АЗ + БУ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слово "алфавит" происходит из названия двух первых букв греческого алфавита: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ФАВИТ: АЛЬФА + В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908000" y="260280"/>
            <a:ext cx="540072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укописные книги.</a:t>
            </a:r>
            <a:endParaRPr b="0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" descr="rukopisnaja kniga"/>
          <p:cNvPicPr/>
          <p:nvPr/>
        </p:nvPicPr>
        <p:blipFill>
          <a:blip r:embed="rId1"/>
          <a:stretch/>
        </p:blipFill>
        <p:spPr>
          <a:xfrm rot="590400">
            <a:off x="5148360" y="4292640"/>
            <a:ext cx="370836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post_Lvov"/>
          <p:cNvPicPr/>
          <p:nvPr/>
        </p:nvPicPr>
        <p:blipFill>
          <a:blip r:embed="rId2"/>
          <a:stretch/>
        </p:blipFill>
        <p:spPr>
          <a:xfrm rot="902400">
            <a:off x="5722920" y="1773000"/>
            <a:ext cx="2940120" cy="2185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Ostromirovo">
            <a:hlinkClick r:id="rId3"/>
          </p:cNvPr>
          <p:cNvPicPr/>
          <p:nvPr/>
        </p:nvPicPr>
        <p:blipFill>
          <a:blip r:embed="rId4"/>
          <a:stretch/>
        </p:blipFill>
        <p:spPr>
          <a:xfrm rot="20928600">
            <a:off x="808200" y="4005000"/>
            <a:ext cx="199836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Izbornik_1073">
            <a:hlinkClick r:id="rId5"/>
          </p:cNvPr>
          <p:cNvPicPr/>
          <p:nvPr/>
        </p:nvPicPr>
        <p:blipFill>
          <a:blip r:embed="rId6"/>
          <a:stretch/>
        </p:blipFill>
        <p:spPr>
          <a:xfrm rot="20653200">
            <a:off x="826920" y="1628280"/>
            <a:ext cx="2692440" cy="1878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rx_eva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48000" y="3716280"/>
            <a:ext cx="1459080" cy="2060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Bukvicy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35280" y="1557360"/>
            <a:ext cx="192420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284720" y="764640"/>
            <a:ext cx="4535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ившиеся миниатюры изображают писцов за работой. Сидят они на резных скамьях без спинок, на которые положены специальные подушки. Пишут и на свитках, и на отдельных листах, и в переплетенных тетрадях. Оригинал рукописи, как правило, укреплен на пюпитре. Рядом с местом работы - тумба с инструментами. Инструменты изображены весьма условно. Однако можно угадать и чернильницу с двумя отверстиями - для киновари (красной краски) и обычных чернил, и чернильницу в виде кувшинчика, а также пенал, циркуль, нож, перо или трость, линейку, ножницы, шило. Основное положение листа книги при письме - на колен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лучения ровных строчек лист пергамена, а позже бумаги, разлиновывали острым инструментом. Только после этого приступали к тщательному переписыванию каждой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Piscy_rus"/>
          <p:cNvPicPr/>
          <p:nvPr/>
        </p:nvPicPr>
        <p:blipFill>
          <a:blip r:embed="rId1"/>
          <a:stretch/>
        </p:blipFill>
        <p:spPr>
          <a:xfrm>
            <a:off x="395280" y="1125360"/>
            <a:ext cx="3957480" cy="5272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333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ь книги была очень трудоёмкой и длительной работой( до 7 месяцев). Писцы работали вечером или даже ночь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875280" cy="220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42560" y="2420640"/>
            <a:ext cx="7378920" cy="4437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40464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ква-страж истории, ибо только через буквы можно рассказать что-либо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21300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5661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472428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692360" y="3716280"/>
            <a:ext cx="5545080" cy="273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360" y="1052640"/>
            <a:ext cx="835164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61010"/>
                    </a:gs>
                    <a:gs pos="100000">
                      <a:srgbClr val="98242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зникновение письменности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61010"/>
                  </a:gs>
                  <a:gs pos="100000">
                    <a:srgbClr val="98242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4292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43700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63640" y="26028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большинства современных читателей буква есть буква, пусть даже декоративно украшенная, для древнерусского книжника понятие декоративности было чуждым. Он не просто украшал букву орнаментом, он прежде всего передавал и украшал мысль. Он не считал букву просто обозначением звука, для него очень много значило само начертание, которое таило в себе чертеж мира. 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4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am" descr="Аз"/>
          <p:cNvPicPr/>
          <p:nvPr/>
        </p:nvPicPr>
        <p:blipFill>
          <a:blip r:embed="rId1"/>
          <a:stretch/>
        </p:blipFill>
        <p:spPr>
          <a:xfrm>
            <a:off x="250920" y="260280"/>
            <a:ext cx="938160" cy="1268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0"/>
            <a:ext cx="74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m" descr="Буки"/>
          <p:cNvPicPr/>
          <p:nvPr/>
        </p:nvPicPr>
        <p:blipFill>
          <a:blip r:embed="rId2"/>
          <a:stretch/>
        </p:blipFill>
        <p:spPr>
          <a:xfrm>
            <a:off x="250920" y="1700280"/>
            <a:ext cx="915840" cy="1236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74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vm" descr="Веди"/>
          <p:cNvPicPr/>
          <p:nvPr/>
        </p:nvPicPr>
        <p:blipFill>
          <a:blip r:embed="rId3"/>
          <a:stretch/>
        </p:blipFill>
        <p:spPr>
          <a:xfrm>
            <a:off x="324000" y="3068640"/>
            <a:ext cx="798480" cy="107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74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m" descr="Глаголь"/>
          <p:cNvPicPr/>
          <p:nvPr/>
        </p:nvPicPr>
        <p:blipFill>
          <a:blip r:embed="rId4"/>
          <a:stretch/>
        </p:blipFill>
        <p:spPr>
          <a:xfrm>
            <a:off x="341280" y="4292640"/>
            <a:ext cx="800280" cy="108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74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dm" descr="Добро"/>
          <p:cNvPicPr/>
          <p:nvPr/>
        </p:nvPicPr>
        <p:blipFill>
          <a:blip r:embed="rId5"/>
          <a:stretch/>
        </p:blipFill>
        <p:spPr>
          <a:xfrm>
            <a:off x="1332000" y="5300640"/>
            <a:ext cx="90648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m" descr="Есть"/>
          <p:cNvPicPr/>
          <p:nvPr/>
        </p:nvPicPr>
        <p:blipFill>
          <a:blip r:embed="rId6"/>
          <a:stretch/>
        </p:blipFill>
        <p:spPr>
          <a:xfrm>
            <a:off x="2556000" y="5300640"/>
            <a:ext cx="852480" cy="115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jm" descr="Живете"/>
          <p:cNvPicPr/>
          <p:nvPr/>
        </p:nvPicPr>
        <p:blipFill>
          <a:blip r:embed="rId7"/>
          <a:stretch/>
        </p:blipFill>
        <p:spPr>
          <a:xfrm>
            <a:off x="3635280" y="5300640"/>
            <a:ext cx="852480" cy="115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zm" descr="Земля"/>
          <p:cNvPicPr/>
          <p:nvPr/>
        </p:nvPicPr>
        <p:blipFill>
          <a:blip r:embed="rId8"/>
          <a:stretch/>
        </p:blipFill>
        <p:spPr>
          <a:xfrm>
            <a:off x="4643280" y="5373720"/>
            <a:ext cx="800280" cy="10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im" descr="И"/>
          <p:cNvPicPr/>
          <p:nvPr/>
        </p:nvPicPr>
        <p:blipFill>
          <a:blip r:embed="rId9"/>
          <a:stretch/>
        </p:blipFill>
        <p:spPr>
          <a:xfrm>
            <a:off x="5651640" y="5300640"/>
            <a:ext cx="799920" cy="108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km" descr="Како"/>
          <p:cNvPicPr/>
          <p:nvPr/>
        </p:nvPicPr>
        <p:blipFill>
          <a:blip r:embed="rId10"/>
          <a:stretch/>
        </p:blipFill>
        <p:spPr>
          <a:xfrm>
            <a:off x="6659640" y="5300640"/>
            <a:ext cx="745920" cy="100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lm" descr="Люди"/>
          <p:cNvPicPr/>
          <p:nvPr/>
        </p:nvPicPr>
        <p:blipFill>
          <a:blip r:embed="rId11"/>
          <a:stretch/>
        </p:blipFill>
        <p:spPr>
          <a:xfrm>
            <a:off x="7667640" y="5300640"/>
            <a:ext cx="74628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482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летом для книги служили деревянные доски – крышки. Доски обтягивались кожей, на которой горячими металлическими клеймами оттискивались орнаментальные рисунки. Иногда на тисненую кожу наносили позол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книга имела медные, реже серебряные застёжки, на которые накидывались ременные плети. Вместо кожи крышки обтяги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хатом или другой дорогой ткан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лёт украшали «наугольниками» (металлическими пластинка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Naboika"/>
          <p:cNvPicPr/>
          <p:nvPr/>
        </p:nvPicPr>
        <p:blipFill>
          <a:blip r:embed="rId1"/>
          <a:stretch/>
        </p:blipFill>
        <p:spPr>
          <a:xfrm>
            <a:off x="4716360" y="836640"/>
            <a:ext cx="1822680" cy="2525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111400" cy="2373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2303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067280" y="1412640"/>
            <a:ext cx="41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сали на берёсте специальной заострённой палочкой похожей на гвоз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9640" y="549360"/>
            <a:ext cx="807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чём и чем писали в Древней Руси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90800" cy="4897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859280" y="4581360"/>
            <a:ext cx="1905120" cy="1819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 rot="5730600">
            <a:off x="6300000" y="3068640"/>
            <a:ext cx="4032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86666"/>
                    </a:gs>
                    <a:gs pos="100000">
                      <a:srgbClr val="ffffff"/>
                    </a:gs>
                  </a:gsLst>
                  <a:lin ang="21270000"/>
                </a:gradFill>
                <a:latin typeface="Impact"/>
              </a:rPr>
              <a:t>Берест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86666"/>
                  </a:gs>
                  <a:gs pos="100000">
                    <a:srgbClr val="ffffff"/>
                  </a:gs>
                </a:gsLst>
                <a:lin ang="2127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Svitok"/>
          <p:cNvPicPr/>
          <p:nvPr/>
        </p:nvPicPr>
        <p:blipFill>
          <a:blip r:embed="rId1"/>
          <a:stretch/>
        </p:blipFill>
        <p:spPr>
          <a:xfrm>
            <a:off x="0" y="3213000"/>
            <a:ext cx="5030640" cy="3289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92200" y="1073160"/>
            <a:ext cx="83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476280"/>
            <a:ext cx="3814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когда на берегах Нила и около озера Чад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зеленели заросли высокого растения, немного похожего на осоку. Это папирус. Его стебли разрезали вдоль и укладывали рядами, чтобы край одного стебля ложился на край соседнего. Сок самого растения склеивал стебли под прессом. Он цементировал тонкие слои первой в истории бума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907920"/>
            <a:ext cx="3673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82424"/>
                    </a:gs>
                    <a:gs pos="100000">
                      <a:srgbClr val="fffff7"/>
                    </a:gs>
                  </a:gsLst>
                  <a:lin ang="5400000"/>
                </a:gradFill>
                <a:latin typeface="Impact"/>
              </a:rPr>
              <a:t>Папирус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82424"/>
                  </a:gs>
                  <a:gs pos="100000">
                    <a:srgbClr val="fffff7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32000" y="907920"/>
            <a:ext cx="4038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гамент- обработанная коровья или телячья кожа, используемая в древности для письма. Когда-то и пергамент по традиции сворачивали в свиток. Но его можно было сгибать, он не ломался. Первые книги из пергамента похожи на тетрад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огнутые в двое и прошитые шнурками 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 rot="5703600">
            <a:off x="-2087280" y="2707920"/>
            <a:ext cx="5329440" cy="115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5d23"/>
                    </a:gs>
                    <a:gs pos="100000">
                      <a:srgbClr val="ff7c80"/>
                    </a:gs>
                  </a:gsLst>
                  <a:lin ang="5400000"/>
                </a:gradFill>
                <a:latin typeface="Impact"/>
              </a:rPr>
              <a:t>Пергамент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5d23"/>
                  </a:gs>
                  <a:gs pos="100000">
                    <a:srgbClr val="ff7c8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rot="930000">
            <a:off x="5579640" y="765000"/>
            <a:ext cx="3148200" cy="2078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443_church_book" descr=""/>
          <p:cNvPicPr/>
          <p:nvPr/>
        </p:nvPicPr>
        <p:blipFill>
          <a:blip r:embed="rId2"/>
          <a:stretch/>
        </p:blipFill>
        <p:spPr>
          <a:xfrm rot="1320600">
            <a:off x="6084720" y="3357720"/>
            <a:ext cx="22100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26560" y="1052640"/>
            <a:ext cx="403884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ографии и печатание книг – были необходим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2896920"/>
            <a:ext cx="490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ь повелел устроить дом от своей казны, где бы печатному делу строи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тому времени  в России уже были мастера, знавшие толк в печатном деле. Таковы были Иван Фёдоров и его помощник Пётр Мстиславец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384360" cy="4526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763640" y="333360"/>
            <a:ext cx="5688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ервопечатник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573408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ник Ивану Фёдорову в Москв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95604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wpe278.jpg (27541 bytes)"/>
          <p:cNvPicPr/>
          <p:nvPr/>
        </p:nvPicPr>
        <p:blipFill>
          <a:blip r:embed="rId2"/>
          <a:stretch/>
        </p:blipFill>
        <p:spPr>
          <a:xfrm>
            <a:off x="5219640" y="3213000"/>
            <a:ext cx="3103560" cy="218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57340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атный станок Ивана Фёдоро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551664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енцем типографии Ивана Фёдорова стала книга «Апостол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Kass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620640"/>
            <a:ext cx="1727280" cy="1803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80000" y="256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ная кас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2424"/>
                </a:solidFill>
                <a:latin typeface="Arial"/>
              </a:rPr>
              <a:t>Странички из «Азбуки» Ивана Фёдор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752920" cy="3852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Lvov2"/>
          <p:cNvPicPr/>
          <p:nvPr/>
        </p:nvPicPr>
        <p:blipFill>
          <a:blip r:embed="rId2"/>
          <a:stretch/>
        </p:blipFill>
        <p:spPr>
          <a:xfrm>
            <a:off x="6372360" y="1413000"/>
            <a:ext cx="2527200" cy="4032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19120" y="5651640"/>
            <a:ext cx="232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Lvov3"/>
          <p:cNvPicPr/>
          <p:nvPr/>
        </p:nvPicPr>
        <p:blipFill>
          <a:blip r:embed="rId3"/>
          <a:stretch/>
        </p:blipFill>
        <p:spPr>
          <a:xfrm>
            <a:off x="3348000" y="1413000"/>
            <a:ext cx="2540160" cy="396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573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збука»эта была настоящим учебником-с алфавитом, с образцами слогов, с самыми разнообразными текстами для чт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050920" y="549000"/>
            <a:ext cx="460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сьмом, построенным на основе кириллицы, пользуются народы, которые разговаривают на 60 языках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86192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rot="1762200">
            <a:off x="6300720" y="3645000"/>
            <a:ext cx="22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182680" cy="2664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 rot="20232600">
            <a:off x="395280" y="3860280"/>
            <a:ext cx="2170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8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1476360" y="1197000"/>
            <a:ext cx="10369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7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ь, возникнув, преодолела большой исторический пу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7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ясь и изменяясь она дошла до наших дней в виде современного алфавита, который вряд ли нуждается в измен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66100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26920" y="4365720"/>
            <a:ext cx="8317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 Б В Г Д Е Ё Ж З И ...   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40464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628640"/>
            <a:ext cx="8353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это очень-очень давно. В те далёкие времена люди жили в пещерах, для этого они выселяли древних Топтыгиных из их медвежьих углов. На стенах своего жилища люди увидели какие-то таинственные знаки. Это были царапины, которые сделали медведи, когда точили когти о стену. Царапины навели древних людей на очень интересную мысль: значит, на ровной поверхности можно нацарапать какое-то изображ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40464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76360" y="404640"/>
            <a:ext cx="621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 начинали всё медведи…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e2f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Рисунки 6-7-летнего мальчика Онфима (середина XIII века), автора нескольких берестяных грамо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700280"/>
            <a:ext cx="2225520" cy="1357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6560" y="3214800"/>
            <a:ext cx="1963800" cy="1463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50920" y="4797360"/>
            <a:ext cx="2716200" cy="1809720"/>
          </a:xfrm>
          <a:prstGeom prst="rect">
            <a:avLst/>
          </a:prstGeom>
          <a:ln w="0">
            <a:noFill/>
          </a:ln>
        </p:spPr>
      </p:pic>
      <p:sp>
        <p:nvSpPr>
          <p:cNvPr id="67" name="Sound"/>
          <p:cNvSpPr/>
          <p:nvPr/>
        </p:nvSpPr>
        <p:spPr>
          <a:xfrm>
            <a:off x="250920" y="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60720" y="310860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96800">
            <a:off x="8243640" y="2205000"/>
            <a:ext cx="517320" cy="1800360"/>
          </a:xfrm>
          <a:custGeom>
            <a:avLst/>
            <a:gdLst>
              <a:gd name="textAreaLeft" fmla="*/ 69120 w 517320"/>
              <a:gd name="textAreaRight" fmla="*/ 448200 w 51732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56000" y="476280"/>
            <a:ext cx="59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уть возникновения письменности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 rot="1096800">
            <a:off x="8316720" y="4437000"/>
            <a:ext cx="517320" cy="1800360"/>
          </a:xfrm>
          <a:custGeom>
            <a:avLst/>
            <a:gdLst>
              <a:gd name="textAreaLeft" fmla="*/ 69120 w 517320"/>
              <a:gd name="textAreaRight" fmla="*/ 448200 w 51732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213372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исуночное письмо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95640" y="3645000"/>
            <a:ext cx="2638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ероглифы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08360" y="5373720"/>
            <a:ext cx="375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уковое письмо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825480" y="1990800"/>
            <a:ext cx="339552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ериканский поэт Генри Лонгфелло собрал и пересказал легенды о вожде индейцев по имени Гайавата. Вождь горевал о том, что люди не могут передать своим потомкам то, что они сами знают и умеют. Все знания исчезают- растворяются в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68360" y="333360"/>
            <a:ext cx="539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исуночное письмо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54600" y="1600200"/>
            <a:ext cx="3622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33336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20640"/>
            <a:ext cx="417672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4221000"/>
            <a:ext cx="662472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260280"/>
            <a:ext cx="871380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Из мешка он вынул краски,                   Белый круг был знаком жизн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Всех цветов он вынул краски               Чёрный круг был знаком смерти;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И на гладкой на берёсте                       Дальше шли изображен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Много сделал тайных знаков,               Неба, звезд, луны и солнц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Дивных и фигур и знаков;                     Вод, лесов и горных выс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Все они изображали                             И всего, что населя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Наши мысли, наши речи.                      Землю вместе с человеком.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2424"/>
                </a:solidFill>
                <a:latin typeface="Arial"/>
              </a:rPr>
              <a:t>Эти письменные знаки совсем не похожи на современные. Некоторые рисунки имели смысл, который можно было выразить не одним словом, а целым предлож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35280" y="4290840"/>
            <a:ext cx="1543320" cy="1316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35280" y="2419200"/>
            <a:ext cx="1467000" cy="986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00360" y="3573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да иголка туда и нит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87700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м врагам долго не устоять.(Потому что одному из них придётся уступить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824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82424"/>
                </a:solidFill>
                <a:latin typeface="Arial"/>
              </a:rPr>
              <a:t>Рисуночное письмо – это ещё не настоящее письм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6699"/>
                </a:solidFill>
                <a:latin typeface="Arial"/>
              </a:rPr>
              <a:t>Иероглиф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630440"/>
            <a:ext cx="3529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a50021"/>
                </a:solidFill>
                <a:latin typeface="Arial"/>
              </a:rPr>
              <a:t>Иероглиф обозначает       « священные знаки» Каждый иероглиф обозначает слово или его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88000" y="1917720"/>
            <a:ext cx="3816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07-10-28T19:01:08Z</dcterms:modified>
  <cp:revision>34</cp:revision>
  <dc:subject/>
  <dc:title>PowerPoint Presentation</dc:title>
</cp:coreProperties>
</file>