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0.wmf" ContentType="image/x-wmf"/>
  <Override PartName="/ppt/media/image3.wmf" ContentType="image/x-wmf"/>
  <Override PartName="/ppt/media/image8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A7D-0A8E-4644-B9BE-9CE22046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092-ACE7-42DD-993F-87BC2549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A37-BA73-4C61-9D3E-B60AAF4F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A43-FD62-4645-9816-036ED649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322-62EA-4B26-B1E4-9CACFD4B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3EE-9C16-4F57-ADD9-1B41B3FC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E6A-6E84-4EE9-AC83-43D76DB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A4D-8AFD-46CD-9561-4728C8D3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DFF-E590-41EB-A6F1-71DFB71E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1DA-BDA7-43C3-9698-49B57E41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711-98A0-49EE-A962-A9FFCE9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929-DA68-4A7D-BECC-DCAD04D5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0E78-67C1-4819-A049-41A39AF4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Bookman Old Style"/>
              </a:rPr>
              <a:t>П</a:t>
            </a:r>
            <a:r>
              <a:rPr b="1" lang="en-US" sz="6000" spc="-1" strike="noStrike">
                <a:solidFill>
                  <a:srgbClr val="009999"/>
                </a:solidFill>
                <a:latin typeface="Bookman Old Style"/>
              </a:rPr>
              <a:t>РО</a:t>
            </a:r>
            <a:r>
              <a:rPr b="1" lang="en-US" sz="6000" spc="-1" strike="noStrike">
                <a:solidFill>
                  <a:srgbClr val="99cc00"/>
                </a:solidFill>
                <a:latin typeface="Bookman Old Style"/>
              </a:rPr>
              <a:t>Ч</a:t>
            </a:r>
            <a:r>
              <a:rPr b="1" lang="en-US" sz="6000" spc="-1" strike="noStrike">
                <a:solidFill>
                  <a:srgbClr val="009900"/>
                </a:solidFill>
                <a:latin typeface="Bookman Old Style"/>
              </a:rPr>
              <a:t>ТИ </a:t>
            </a:r>
            <a:r>
              <a:rPr b="1" lang="en-US" sz="6000" spc="-1" strike="noStrike">
                <a:solidFill>
                  <a:srgbClr val="99cc00"/>
                </a:solidFill>
                <a:latin typeface="Bookman Old Style"/>
              </a:rPr>
              <a:t>С</a:t>
            </a:r>
            <a:r>
              <a:rPr b="1" lang="en-US" sz="6000" spc="-1" strike="noStrike">
                <a:solidFill>
                  <a:srgbClr val="009900"/>
                </a:solidFill>
                <a:latin typeface="Bookman Old Style"/>
              </a:rPr>
              <a:t>ЛО</a:t>
            </a:r>
            <a:r>
              <a:rPr b="1" lang="en-US" sz="6000" spc="-1" strike="noStrike">
                <a:solidFill>
                  <a:srgbClr val="99cc00"/>
                </a:solidFill>
                <a:latin typeface="Bookman Old Style"/>
              </a:rPr>
              <a:t>ВО</a:t>
            </a:r>
            <a:r>
              <a:rPr b="1" lang="en-US" sz="5400" spc="-1" strike="noStrike">
                <a:solidFill>
                  <a:srgbClr val="0099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189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«Я – СА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4653000"/>
            <a:ext cx="878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мочь ребенку научиться 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од иг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ебенок читает слово в рамке и находит соответствующий этому слову объект внизу слайда. Можно менять буквы в большой рамке, варианты слов предложены слева. Дети часто запоминают информацию визуально, поэтому родителям рекомендуем иногда менять слова, чтобы убедится, что ребенок действительно прочитал слово, а не запомн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89000"/>
            <a:ext cx="388944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060640"/>
            <a:ext cx="21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     ЕЛ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036440" cy="179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6511" t="18905" r="16749" b="22361"/>
          <a:stretch/>
        </p:blipFill>
        <p:spPr>
          <a:xfrm>
            <a:off x="1403280" y="4896000"/>
            <a:ext cx="177156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К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60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     КИТ      РОТ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4361" t="22330" r="11630" b="29434"/>
          <a:stretch/>
        </p:blipFill>
        <p:spPr>
          <a:xfrm>
            <a:off x="6156360" y="5229360"/>
            <a:ext cx="2556000" cy="126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089080" cy="16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564000" y="4941720"/>
            <a:ext cx="1609560" cy="17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189000"/>
            <a:ext cx="388944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Ж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0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К     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1095120" cy="1512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2160360" cy="1866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201456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ЛЕ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60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     ЛЕС       ЛЕВ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0312" t="0" r="12137" b="0"/>
          <a:stretch/>
        </p:blipFill>
        <p:spPr>
          <a:xfrm>
            <a:off x="755640" y="4941720"/>
            <a:ext cx="2016000" cy="1671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84720" y="5516640"/>
            <a:ext cx="2665440" cy="1076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635280" y="5013360"/>
            <a:ext cx="211320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623736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2205000"/>
            <a:ext cx="82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вторы презентации –</a:t>
            </a: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Виктория Кузнец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Инна О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60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        ДЫМ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5013360"/>
            <a:ext cx="1220760" cy="145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5157720"/>
            <a:ext cx="180036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С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06064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К        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57440" y="4797720"/>
            <a:ext cx="5038560" cy="1871280"/>
            <a:chOff x="2557440" y="4797720"/>
            <a:chExt cx="5038560" cy="1871280"/>
          </a:xfrm>
        </p:grpSpPr>
        <p:sp>
          <p:nvSpPr>
            <p:cNvPr id="59" name=""/>
            <p:cNvSpPr/>
            <p:nvPr/>
          </p:nvSpPr>
          <p:spPr>
            <a:xfrm flipV="1">
              <a:off x="2557440" y="4797720"/>
              <a:ext cx="503856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2160" y="5084640"/>
              <a:ext cx="2445840" cy="15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791600" y="5444640"/>
              <a:ext cx="143640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5084640"/>
            <a:ext cx="1152360" cy="1366920"/>
            <a:chOff x="1619280" y="5084640"/>
            <a:chExt cx="1152360" cy="1366920"/>
          </a:xfrm>
        </p:grpSpPr>
        <p:sp>
          <p:nvSpPr>
            <p:cNvPr id="63" name=""/>
            <p:cNvSpPr/>
            <p:nvPr/>
          </p:nvSpPr>
          <p:spPr>
            <a:xfrm>
              <a:off x="1619280" y="5084640"/>
              <a:ext cx="1152360" cy="1366920"/>
            </a:xfrm>
            <a:prstGeom prst="cube">
              <a:avLst>
                <a:gd name="adj" fmla="val 13708"/>
              </a:avLst>
            </a:prstGeom>
            <a:solidFill>
              <a:srgbClr val="ffff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4920" y="5803920"/>
              <a:ext cx="504360" cy="504720"/>
            </a:xfrm>
            <a:prstGeom prst="ellipse">
              <a:avLst/>
            </a:prstGeom>
            <a:solidFill>
              <a:srgbClr val="e74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117400">
              <a:off x="1763280" y="5371560"/>
              <a:ext cx="360000" cy="360360"/>
            </a:xfrm>
            <a:custGeom>
              <a:avLst/>
              <a:gdLst>
                <a:gd name="textAreaLeft" fmla="*/ 84600 w 360000"/>
                <a:gd name="textAreaRight" fmla="*/ 275400 w 360000"/>
                <a:gd name="textAreaTop" fmla="*/ 42120 h 360360"/>
                <a:gd name="textAreaBottom" fmla="*/ 226080 h 3603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39640" y="5084640"/>
              <a:ext cx="215640" cy="142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0920" y="5661000"/>
              <a:ext cx="70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189000"/>
            <a:ext cx="388944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НО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С       НО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9959" t="7057" r="28005" b="12944"/>
          <a:stretch/>
        </p:blipFill>
        <p:spPr>
          <a:xfrm>
            <a:off x="1619280" y="5084640"/>
            <a:ext cx="1166760" cy="136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64000" y="5140440"/>
            <a:ext cx="23767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СЫ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6064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Н    СЫР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92360" y="4910040"/>
            <a:ext cx="1231920" cy="1903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651640" y="5013360"/>
            <a:ext cx="216036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МЕ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606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Ч     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0560" y="4870440"/>
            <a:ext cx="1873440" cy="187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88000" y="5157720"/>
            <a:ext cx="1297080" cy="1295640"/>
          </a:xfrm>
          <a:prstGeom prst="ellipse">
            <a:avLst/>
          </a:prstGeom>
          <a:gradFill rotWithShape="0">
            <a:gsLst>
              <a:gs pos="0">
                <a:srgbClr val="f397b8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ША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606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    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35280" y="4941720"/>
            <a:ext cx="1439280" cy="1727280"/>
            <a:chOff x="1835280" y="4941720"/>
            <a:chExt cx="1439280" cy="1727280"/>
          </a:xfrm>
        </p:grpSpPr>
        <p:sp>
          <p:nvSpPr>
            <p:cNvPr id="99" name=""/>
            <p:cNvSpPr/>
            <p:nvPr/>
          </p:nvSpPr>
          <p:spPr>
            <a:xfrm>
              <a:off x="2411280" y="4941720"/>
              <a:ext cx="863280" cy="646200"/>
            </a:xfrm>
            <a:prstGeom prst="wedgeEllipseCallout">
              <a:avLst>
                <a:gd name="adj1" fmla="val -47060"/>
                <a:gd name="adj2" fmla="val 78745"/>
              </a:avLst>
            </a:prstGeom>
            <a:gradFill rotWithShape="0">
              <a:gsLst>
                <a:gs pos="0">
                  <a:srgbClr val="bbe0e3">
                    <a:alpha val="4431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5280" y="5877000"/>
              <a:ext cx="1152000" cy="79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35280" y="5805360"/>
              <a:ext cx="1152000" cy="144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00000" y="5084640"/>
            <a:ext cx="1440000" cy="144720"/>
          </a:xfrm>
          <a:prstGeom prst="line">
            <a:avLst/>
          </a:prstGeom>
          <a:ln w="1908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659640" y="4941720"/>
            <a:ext cx="718920" cy="1726920"/>
            <a:chOff x="6659640" y="4941720"/>
            <a:chExt cx="718920" cy="1726920"/>
          </a:xfrm>
        </p:grpSpPr>
        <p:sp>
          <p:nvSpPr>
            <p:cNvPr id="104" name=""/>
            <p:cNvSpPr/>
            <p:nvPr/>
          </p:nvSpPr>
          <p:spPr>
            <a:xfrm>
              <a:off x="6659640" y="4941720"/>
              <a:ext cx="718920" cy="105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6898320" y="6000120"/>
              <a:ext cx="299880" cy="110520"/>
            </a:xfrm>
            <a:custGeom>
              <a:avLst/>
              <a:gdLst>
                <a:gd name="textAreaLeft" fmla="*/ 65880 w 299880"/>
                <a:gd name="textAreaRight" fmla="*/ 234000 w 299880"/>
                <a:gd name="textAreaTop" fmla="*/ 24120 h 110520"/>
                <a:gd name="textAreaBottom" fmla="*/ 86400 h 11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fe2c8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78320" y="6112080"/>
              <a:ext cx="0" cy="55656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479736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189000"/>
            <a:ext cx="345600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26920" y="40428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О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0606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А   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5373720"/>
            <a:ext cx="1393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6227640" y="4941720"/>
            <a:ext cx="1152360" cy="1584360"/>
            <a:chOff x="6227640" y="4941720"/>
            <a:chExt cx="1152360" cy="1584360"/>
          </a:xfrm>
        </p:grpSpPr>
        <p:sp>
          <p:nvSpPr>
            <p:cNvPr id="115" name=""/>
            <p:cNvSpPr/>
            <p:nvPr/>
          </p:nvSpPr>
          <p:spPr>
            <a:xfrm>
              <a:off x="6227640" y="4941720"/>
              <a:ext cx="1152360" cy="15843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6714360" y="5821920"/>
              <a:ext cx="250560" cy="64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120" y="1550"/>
                    <a:pt x="8639" y="5080"/>
                    <a:pt x="8639" y="10800"/>
                  </a:cubicBezTo>
                  <a:cubicBezTo>
                    <a:pt x="8639" y="16520"/>
                    <a:pt x="15120" y="200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cc9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4000" y="5518080"/>
              <a:ext cx="71280" cy="431640"/>
            </a:xfrm>
            <a:prstGeom prst="triangle">
              <a:avLst>
                <a:gd name="adj" fmla="val 50000"/>
              </a:avLst>
            </a:prstGeom>
            <a:solidFill>
              <a:srgbClr val="f397b8"/>
            </a:solidFill>
            <a:ln w="9360">
              <a:solidFill>
                <a:srgbClr val="e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43640" y="5302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8360" y="53020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14920" y="537336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19640" y="537336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32360" y="6165720"/>
              <a:ext cx="216000" cy="71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7092720" y="5013360"/>
            <a:ext cx="1439640" cy="10080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869000"/>
            <a:ext cx="8424720" cy="187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189000"/>
            <a:ext cx="3889440" cy="1727280"/>
          </a:xfrm>
          <a:prstGeom prst="bevel">
            <a:avLst>
              <a:gd name="adj" fmla="val 853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УХ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1989000"/>
            <a:ext cx="3313080" cy="2737080"/>
          </a:xfrm>
          <a:prstGeom prst="donut">
            <a:avLst>
              <a:gd name="adj" fmla="val 60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060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ХО    УШ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2708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23341" t="7057" r="31804" b="13409"/>
          <a:stretch/>
        </p:blipFill>
        <p:spPr>
          <a:xfrm>
            <a:off x="1403280" y="5157720"/>
            <a:ext cx="992160" cy="1341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9849" t="12944" r="11213" b="17661"/>
          <a:stretch/>
        </p:blipFill>
        <p:spPr>
          <a:xfrm>
            <a:off x="5292720" y="5183280"/>
            <a:ext cx="2232000" cy="149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8:17:11Z</dcterms:created>
  <dc:creator>viki</dc:creator>
  <dc:description/>
  <dc:language>en-US</dc:language>
  <cp:lastModifiedBy>viki</cp:lastModifiedBy>
  <dcterms:modified xsi:type="dcterms:W3CDTF">2007-04-25T06:30:20Z</dcterms:modified>
  <cp:revision>17</cp:revision>
  <dc:subject/>
  <dc:title>ПРОЧТИ СЛОВО </dc:title>
</cp:coreProperties>
</file>