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8FE8-B4C6-4B54-BBA0-84530F89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CAF2-BA74-4E6F-A0D9-10D9B9E3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53280-ACCA-48C6-96D8-B1DAC136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7097-6924-4A0F-B4F5-85F28397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58E4-E0FC-4D0B-9028-7917CFDD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80A5-0CC1-4434-8F67-FB05C34E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75E-8D89-4654-9919-4E86F8B9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C91-4B76-41C4-BF90-5392099B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CEB4-59E2-4ED6-B634-7A56134E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FA2F-6295-4C05-B6FB-878F706E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4AD3-C613-4C74-A8CF-C878EFD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94EF-EF34-4B4E-A01A-CFFAA020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ABE-B7E8-40C2-94D5-BBA2CFE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DD7D-FC56-47C4-9FE0-D305968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C26A-54D1-4B98-B424-30289946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B99B-F819-41B7-80C5-208196E6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DDAC-0917-487D-8ABC-08463654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B0FC-8FAF-4B6A-A947-8955C95C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C48A-20B5-4524-8890-0E95D11F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D7CB-0954-480F-8F19-628D7E9B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E0EA-4783-479F-8A42-44D8A7B9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BFD7-5F84-487A-A3F8-C9B515C7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AC23-8C57-48A7-A76F-49E7A58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171B-B1E6-4DAE-84E4-BB3699EB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6B0E-5878-4CFC-9011-869D12EA72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CF8D-9214-4864-B14A-686CAD51E6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51280" y="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роект «Визитка Иркутской области»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181440" y="422100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</a:rPr>
              <a:t>Авторы проек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aramond"/>
              </a:rPr>
              <a:t>11 «а», классный руководит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_1558[1]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89744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2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7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81080" y="-76320"/>
            <a:ext cx="950616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42920" y="-47520"/>
            <a:ext cx="9429840" cy="69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00160" y="-85680"/>
            <a:ext cx="95443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ад проектом работал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03320"/>
            <a:ext cx="9144000" cy="5854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урдуковский Александ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сильева Натал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нелович Дмитр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якин Серг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утфлаева Алимах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вленко Дарь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ходяев Ром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лкович Филип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молин Евг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рныченко Вячесл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пак Макси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рплюк Татьяна Иософо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Цель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здание информационного буклета об Иркутской обл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дач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программу по созданию презентаци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рать материал об Иркутской обл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нам дала работа над проекто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бота над проектом дала нам более глубокие знания по истории и географии Иркутской области, навыки работы в новой программ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аш проект можно использовать в качеств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Мультимедийного сопровождения уроков географ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Туристического букле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Статистические данные можно использовать при подготовке докладов, реферат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начимость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нашем проекте обобщена информация, на основе которой составлена краткая характеристика географического, социально-экономического положение Иркутской обл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-66600"/>
            <a:ext cx="960120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09520" y="-47520"/>
            <a:ext cx="9563040" cy="69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62000" y="-57240"/>
            <a:ext cx="9468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2:56:38Z</dcterms:created>
  <dc:creator>11 а</dc:creator>
  <dc:description/>
  <dc:language>en-US</dc:language>
  <cp:lastModifiedBy>Speed_XP</cp:lastModifiedBy>
  <dcterms:modified xsi:type="dcterms:W3CDTF">2013-03-03T15:20:08Z</dcterms:modified>
  <cp:revision>9</cp:revision>
  <dc:subject/>
  <dc:title>Проект «Визитка Иркутской области» </dc:title>
</cp:coreProperties>
</file>