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E777-B387-46B2-BB44-DD24A4B7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E509-DD0D-4A77-9343-F7AA4F0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85D1-4D62-4FFF-A8EA-D2F8A37D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19BB-F44C-4BF9-906C-EDE37F1E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3556-DA59-4CAD-8F40-976FA565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56E6-A8CC-4383-9CBF-06B4DA80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8C5-26A1-46E7-9BDE-240A5F01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CB8B-7D14-4D45-863C-AB282114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733A-4069-46DB-BB76-1065BEAC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EB2-C455-4C3A-B315-50D1B997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4FA9-09BF-4E18-A755-2F6F75E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D052-381F-47BE-97EA-51E3CD67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42DE-01F4-4326-910C-6B8AB41B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3858-902B-4A36-BD5A-68851CB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0D8B-9D48-4272-AFB3-5FA92B1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B495-632A-489F-A823-9A86CCFC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CFC2-B5DF-41D5-98DE-6CE8BD28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89B1-5C23-423D-8721-768222B5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D73B-FF61-477E-9E1F-3CD8FF8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CC17-06D3-40C5-859A-E68BD1D6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2EAC-F7F8-4DA7-8677-31BE0C1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2794-247E-4300-A3B0-3C1595C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CE47-BF4B-43A7-8DE6-FEA214B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97B8-5852-4431-B58B-FB167904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310E-1B17-4CCB-ADCA-9A2A2A3314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5EAD-3EBE-4E86-8E3F-1C4688DC1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51280" y="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оект «Визитка Иркутской области»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18144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</a:rPr>
              <a:t>Авторы проек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</a:rPr>
              <a:t>11 «а», классный руковод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_1558[1]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89744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2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81080" y="-76320"/>
            <a:ext cx="950616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42920" y="-47520"/>
            <a:ext cx="9429840" cy="69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00160" y="-85680"/>
            <a:ext cx="95443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д проектом работал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урдуковский Александ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сильева Натал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нелович Дмитр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якин Серг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утфлаева Алимах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енко Дар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ходяев Ром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кович Филип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молин Евг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рныченко Вячесл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пак Макс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рплюк Татьяна Иософо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Цель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здание информационного буклета об Иркутской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ч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программу по созданию презентаци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рать материал об Иркутской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нам дала работа над проект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бота над проектом дала нам более глубокие знания по истории и географии Иркутской области, навыки работы в новой программ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ш проект можно использовать в качеств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Мультимедийного сопровождения уроков географ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Туристического букле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Статистические данные можно использовать при подготовке докладов, рефера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начимость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нашем проекте обобщена информация, на основе которой составлена краткая характеристика географического, социально-экономического положение Иркутской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-66600"/>
            <a:ext cx="96012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09520" y="-47520"/>
            <a:ext cx="9563040" cy="69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2000" y="-57240"/>
            <a:ext cx="9468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2:56:38Z</dcterms:created>
  <dc:creator>11 а</dc:creator>
  <dc:description/>
  <dc:language>en-US</dc:language>
  <cp:lastModifiedBy>Speed_XP</cp:lastModifiedBy>
  <dcterms:modified xsi:type="dcterms:W3CDTF">2013-03-03T15:20:08Z</dcterms:modified>
  <cp:revision>9</cp:revision>
  <dc:subject/>
  <dc:title>Проект «Визитка Иркутской области» </dc:title>
</cp:coreProperties>
</file>