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6A0-7084-4EF3-864D-E68EE346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E22-ABF8-4235-81AA-FE5F8CF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0AC-5A68-49D6-B307-45DD2DDA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D52-E14E-41AD-9B4A-6F6E289A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54B8-8D06-4321-9586-96026426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491-2F92-48AA-B3E4-D489558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749-8A5E-4133-85E0-00CF201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558A-492F-4BAE-A9D8-441081D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91A6-E8F9-4C25-B4C7-52FF47F3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AE63-E095-4644-9A35-746BF7D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52D2-1996-4730-85A1-D2A3E7C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5E1-8C75-486D-803E-611F8BA8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C81F-392D-4F16-BB79-4CD10A57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F94E-1D11-4AAE-8661-35FAC52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973-3A62-4DAB-8AC7-1FBFB94D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6032-918F-447D-874E-D8A88ED0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8837-2E66-4859-AEFB-79570EB4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EA3-64C5-421C-BA6F-EA524897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A38-0071-4A6B-BCA3-EC12B168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DF7-4571-43C3-8776-DFCFF3A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CA7-E5AC-486D-9699-884B1BC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AA0-A518-4454-A704-D697D1B8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CAB-9330-4BC6-91C9-151A6B00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2BF-829C-4EA5-B321-F8FA243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B54-164B-467B-8AE3-37AA251B4E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42C-3CDB-4EE0-8017-8B18AB0B70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468360" y="260280"/>
            <a:ext cx="8351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 Т  И  Ц  Ы       Л  Е   С  А  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332000" y="2905200"/>
            <a:ext cx="6769080" cy="395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готовила: ученица 2б клас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каченко Мар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DCE0257"/>
          <p:cNvPicPr/>
          <p:nvPr/>
        </p:nvPicPr>
        <p:blipFill>
          <a:blip r:embed="rId1"/>
          <a:stretch/>
        </p:blipFill>
        <p:spPr>
          <a:xfrm>
            <a:off x="-684360" y="0"/>
            <a:ext cx="10225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755640" y="40464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ЁСТРЫЙ  ДЯТЕ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971640" y="1595520"/>
            <a:ext cx="6886440" cy="457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дятел с шишк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правляется.Найдёт шиш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пелее и несёт  её  в "кузнецу"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дерево.Вставит  дятел в щел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ишку и работает.Цел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а шишек  накапливается.     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7B47E60F"/>
          <p:cNvPicPr/>
          <p:nvPr/>
        </p:nvPicPr>
        <p:blipFill>
          <a:blip r:embed="rId1"/>
          <a:stretch/>
        </p:blipFill>
        <p:spPr>
          <a:xfrm>
            <a:off x="-1116000" y="-1539720"/>
            <a:ext cx="11304720" cy="147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476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ПИВ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539640" y="1844640"/>
            <a:ext cx="7993080" cy="439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чка маленькая,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даленькая,короткий з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ный хвостик так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чит вверх. Непо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 эта птичка.То в ку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х мелькнёт,то в ст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е дупло заглянет,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зарослях бурьяна е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идишь!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E585A9F5"/>
          <p:cNvPicPr/>
          <p:nvPr/>
        </p:nvPicPr>
        <p:blipFill>
          <a:blip r:embed="rId1"/>
          <a:stretch/>
        </p:blipFill>
        <p:spPr>
          <a:xfrm>
            <a:off x="-1116000" y="-243000"/>
            <a:ext cx="11160000" cy="10441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50920" y="476280"/>
            <a:ext cx="82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ПОЛЗЕ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395280" y="1484280"/>
            <a:ext cx="7632720" cy="53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ь день по стволам деревьев бегает,на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ых  разыскивает.То ввер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 стволу побежит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 вниз головой спускае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F02A4CB"/>
          <p:cNvPicPr/>
          <p:nvPr/>
        </p:nvPicPr>
        <p:blipFill>
          <a:blip r:embed="rId1"/>
          <a:stretch/>
        </p:blipFill>
        <p:spPr>
          <a:xfrm>
            <a:off x="-1044720" y="-747720"/>
            <a:ext cx="10730160" cy="10001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24000" y="404640"/>
            <a:ext cx="712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ЯН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95280" y="1857240"/>
            <a:ext cx="8209080" cy="4308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щё снег не везде со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ёл,а она уже тут ка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т,собирает с зем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гусениц,ули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к,паучков. На зем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 и гнездо строит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5792411"/>
          <p:cNvPicPr/>
          <p:nvPr/>
        </p:nvPicPr>
        <p:blipFill>
          <a:blip r:embed="rId1"/>
          <a:stretch/>
        </p:blipFill>
        <p:spPr>
          <a:xfrm>
            <a:off x="-324000" y="-1324080"/>
            <a:ext cx="10728360" cy="15764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395280" y="476280"/>
            <a:ext cx="770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ВСЯ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539640" y="1916280"/>
            <a:ext cx="7632720" cy="432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своё строит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ушке леса,в низк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старнике.Снесёт ов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янка в гнезде 4-5яиц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ысиживают их об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я.То один по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дит,то другой-по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енцы выведу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DAFE0FD"/>
          <p:cNvPicPr/>
          <p:nvPr/>
        </p:nvPicPr>
        <p:blipFill>
          <a:blip r:embed="rId1"/>
          <a:stretch/>
        </p:blipFill>
        <p:spPr>
          <a:xfrm>
            <a:off x="0" y="0"/>
            <a:ext cx="9144000" cy="18954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404640" y="762120"/>
            <a:ext cx="667548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вайте,посмотрим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1258920" y="1484280"/>
            <a:ext cx="6840360" cy="460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 какие  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ут,как  они  кор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ывают  и  гнёз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я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60C05147"/>
          <p:cNvPicPr/>
          <p:nvPr/>
        </p:nvPicPr>
        <p:blipFill>
          <a:blip r:embed="rId1"/>
          <a:stretch/>
        </p:blipFill>
        <p:spPr>
          <a:xfrm>
            <a:off x="-396720" y="-171360"/>
            <a:ext cx="10369440" cy="1108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7348CF23"/>
          <p:cNvPicPr/>
          <p:nvPr/>
        </p:nvPicPr>
        <p:blipFill>
          <a:blip r:embed="rId1"/>
          <a:stretch/>
        </p:blipFill>
        <p:spPr>
          <a:xfrm>
            <a:off x="0" y="0"/>
            <a:ext cx="10188720" cy="731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611280" y="260280"/>
            <a:ext cx="640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НОЧ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539640" y="1989000"/>
            <a:ext cx="7632720" cy="417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чка маленькая,быс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я, с тоненьким клю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м.С таким клювом п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ы только насеком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я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Picture 5" descr="24CC91ED"/>
          <p:cNvPicPr/>
          <p:nvPr/>
        </p:nvPicPr>
        <p:blipFill>
          <a:blip r:embed="rId1"/>
          <a:stretch/>
        </p:blipFill>
        <p:spPr>
          <a:xfrm>
            <a:off x="-612720" y="-243000"/>
            <a:ext cx="10369440" cy="10020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900000" y="47628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НОЙ  КОНЁ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826920" y="1628640"/>
            <a:ext cx="7490160" cy="453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но утром,когда ещ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а на траве не обсо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,запевает свою пе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ку лесной конёк.В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ко взлетит,на верхуш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е дерева усядется и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ёт. Песенка у нег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онкая,весёлая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1F22EE7"/>
          <p:cNvPicPr/>
          <p:nvPr/>
        </p:nvPicPr>
        <p:blipFill>
          <a:blip r:embed="rId1"/>
          <a:stretch/>
        </p:blipFill>
        <p:spPr>
          <a:xfrm>
            <a:off x="0" y="0"/>
            <a:ext cx="9755280" cy="1419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684360" y="26028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ВКА-ЧЕРНОГОЛОВКА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50920" y="1595520"/>
            <a:ext cx="8208720" cy="449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яркая окраска у эт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чки:сама серая,а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ве шапочка чёрна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то голос громкий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лодичный,красивы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делает в гущ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стов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55D608D"/>
          <p:cNvPicPr/>
          <p:nvPr/>
        </p:nvPicPr>
        <p:blipFill>
          <a:blip r:embed="rId1"/>
          <a:stretch/>
        </p:blipFill>
        <p:spPr>
          <a:xfrm>
            <a:off x="-1405080" y="-1900080"/>
            <a:ext cx="11161800" cy="979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95280" y="333360"/>
            <a:ext cx="81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ХОЛОВКА-ПЕСТРУШКА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585720" y="1700280"/>
            <a:ext cx="7972560" cy="5157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страя птичка!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идела минуту тихо,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ом вдруг сорвалас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ветки и схватила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ту какую-то мушку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BA42B829"/>
          <p:cNvPicPr/>
          <p:nvPr/>
        </p:nvPicPr>
        <p:blipFill>
          <a:blip r:embed="rId1"/>
          <a:stretch/>
        </p:blipFill>
        <p:spPr>
          <a:xfrm>
            <a:off x="-684360" y="-674640"/>
            <a:ext cx="10982520" cy="20959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6F31B85"/>
          <p:cNvPicPr/>
          <p:nvPr/>
        </p:nvPicPr>
        <p:blipFill>
          <a:blip r:embed="rId1"/>
          <a:stretch/>
        </p:blipFill>
        <p:spPr>
          <a:xfrm>
            <a:off x="-2052720" y="-819000"/>
            <a:ext cx="12312720" cy="767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korolek"/>
          <p:cNvPicPr/>
          <p:nvPr/>
        </p:nvPicPr>
        <p:blipFill>
          <a:blip r:embed="rId2"/>
          <a:stretch/>
        </p:blipFill>
        <p:spPr>
          <a:xfrm>
            <a:off x="2411280" y="8397720"/>
            <a:ext cx="4286520" cy="2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826920" y="333360"/>
            <a:ext cx="777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ЁРНЫЙ   ДРОЗД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ая эта птица:сам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ёрная,как сажа,а клюв и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дки вокруг  глаз-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ёлтые.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на дереве строит: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ает из глины основу,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потом сухие стебельки,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оминки заплетает.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E84BB51F"/>
          <p:cNvPicPr/>
          <p:nvPr/>
        </p:nvPicPr>
        <p:blipFill>
          <a:blip r:embed="rId1"/>
          <a:stretch/>
        </p:blipFill>
        <p:spPr>
          <a:xfrm>
            <a:off x="-1189080" y="-603360"/>
            <a:ext cx="11304720" cy="1449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395280" y="333360"/>
            <a:ext cx="648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ВОРЕ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468360" y="1773360"/>
            <a:ext cx="8136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привыкли,что он окол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 живёт.А это 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гда бывает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ворцы любят стар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ки и лес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925CDB"/>
          <p:cNvPicPr/>
          <p:nvPr/>
        </p:nvPicPr>
        <p:blipFill>
          <a:blip r:embed="rId1"/>
          <a:stretch/>
        </p:blipFill>
        <p:spPr>
          <a:xfrm>
            <a:off x="-541440" y="0"/>
            <a:ext cx="10514160" cy="11761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-828720" y="476280"/>
            <a:ext cx="943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ВЧИЙ  ДРОЗД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468360" y="1484280"/>
            <a:ext cx="8207280" cy="460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ёт замечательно:на закат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нца усядется на вершин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ёлки и на весь лес  высвист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ет.Голос звучны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земле под листья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ыскивает насеком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B2FF66A1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50920" y="404640"/>
            <a:ext cx="828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РОКОПУТ-ЖУЛАН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539640" y="1557360"/>
            <a:ext cx="77774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большая птичка, 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рабрая:появится ястре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лизости,сразу жу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 прогони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строит в чащ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стов. Птенцов крупны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 жуками,ящерицами в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мливает.А если доб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 много-храни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C9F8357D"/>
          <p:cNvPicPr/>
          <p:nvPr/>
        </p:nvPicPr>
        <p:blipFill>
          <a:blip r:embed="rId1"/>
          <a:stretch/>
        </p:blipFill>
        <p:spPr>
          <a:xfrm>
            <a:off x="0" y="0"/>
            <a:ext cx="9144000" cy="1039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95280" y="33336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ИЦА-ГАИ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684360" y="1339920"/>
            <a:ext cx="73436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нькая,а шапочка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ве-чёрная.Клюв у гаич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 маленький,тонень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гнезда дупло себ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алблива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енью гаички  соби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тся в небольшие стай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кочуют по нашим лесам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7685A193"/>
          <p:cNvPicPr/>
          <p:nvPr/>
        </p:nvPicPr>
        <p:blipFill>
          <a:blip r:embed="rId1"/>
          <a:stretch/>
        </p:blipFill>
        <p:spPr>
          <a:xfrm>
            <a:off x="0" y="-1395360"/>
            <a:ext cx="10044000" cy="892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84360" y="333360"/>
            <a:ext cx="604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ЯБЛ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826920" y="1773360"/>
            <a:ext cx="8066160" cy="431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ылышки у зяблика   нарядные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то  раскрашенные.  А  как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е  гнездо  строят!Внутр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рышками,тонкими волоскам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хом  устлано. А  снаружи так  лов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  лишайником замаскирован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-2928600" y="7963560"/>
            <a:ext cx="50004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 разных пт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ёт в наших лесах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а любит листвен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,другую тольк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ельнике  встретиш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84360" y="333360"/>
            <a:ext cx="691200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ЫЧ-ВОРОБЕЙ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468360" y="1341360"/>
            <a:ext cx="7488360" cy="482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просто сова,тольк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енькая,с дрозда ро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м.Нет от него спа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я вредным грызуна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нём сидит сыч непо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жно,а ночью летает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хоти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енцов по 5-6 шту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и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ушастая сова"/>
          <p:cNvPicPr/>
          <p:nvPr/>
        </p:nvPicPr>
        <p:blipFill>
          <a:blip r:embed="rId1"/>
          <a:stretch/>
        </p:blipFill>
        <p:spPr>
          <a:xfrm>
            <a:off x="395280" y="260280"/>
            <a:ext cx="4421160" cy="5977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-973080" y="9693360"/>
            <a:ext cx="1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  <a:ea typeface="Arial"/>
              </a:rPr>
              <a:t>Ушаст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снежная сова"/>
          <p:cNvPicPr/>
          <p:nvPr/>
        </p:nvPicPr>
        <p:blipFill>
          <a:blip r:embed="rId2"/>
          <a:stretch/>
        </p:blipFill>
        <p:spPr>
          <a:xfrm>
            <a:off x="4859280" y="260280"/>
            <a:ext cx="4021200" cy="5977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 flipH="1" flipV="1">
            <a:off x="-1044720" y="4931640"/>
            <a:ext cx="1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  <a:ea typeface="Arial"/>
              </a:rPr>
              <a:t>Снежн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691F68F"/>
          <p:cNvPicPr/>
          <p:nvPr/>
        </p:nvPicPr>
        <p:blipFill>
          <a:blip r:embed="rId1"/>
          <a:stretch/>
        </p:blipFill>
        <p:spPr>
          <a:xfrm>
            <a:off x="-1260360" y="0"/>
            <a:ext cx="11161440" cy="1166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68360" y="404640"/>
            <a:ext cx="828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ШАСТАЯ  С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324000" y="2060640"/>
            <a:ext cx="8064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голове у неё торча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рышки-совсем как м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нькие ушки.Бесшум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летает сова.Гнёз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троит,занимает ст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е гнёзда сорок.В ию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являются совят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93588E75"/>
          <p:cNvPicPr/>
          <p:nvPr/>
        </p:nvPicPr>
        <p:blipFill>
          <a:blip r:embed="rId1"/>
          <a:stretch/>
        </p:blipFill>
        <p:spPr>
          <a:xfrm>
            <a:off x="-1116000" y="0"/>
            <a:ext cx="1087272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468360" y="404640"/>
            <a:ext cx="792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ЕСТ-ЕЛОВИ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611280" y="1484280"/>
            <a:ext cx="7416720" cy="460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ельник,там и клест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аска яркая,красна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юв крючко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енцов клесты вы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т в любое время год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о бы шишек много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мороз не страшен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5597D4B"/>
          <p:cNvPicPr/>
          <p:nvPr/>
        </p:nvPicPr>
        <p:blipFill>
          <a:blip r:embed="rId1"/>
          <a:stretch/>
        </p:blipFill>
        <p:spPr>
          <a:xfrm>
            <a:off x="-1189080" y="0"/>
            <a:ext cx="11090160" cy="124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68360" y="404640"/>
            <a:ext cx="691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И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324000" y="2119320"/>
            <a:ext cx="7993080" cy="397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енькая синичка тож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льники любит.Живё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круглый год.Труд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ей приходится зимой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лодно и голодн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969C1091"/>
          <p:cNvPicPr/>
          <p:nvPr/>
        </p:nvPicPr>
        <p:blipFill>
          <a:blip r:embed="rId1"/>
          <a:stretch/>
        </p:blipFill>
        <p:spPr>
          <a:xfrm>
            <a:off x="1171440" y="223920"/>
            <a:ext cx="6801120" cy="6410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29CC71C7"/>
          <p:cNvPicPr/>
          <p:nvPr/>
        </p:nvPicPr>
        <p:blipFill>
          <a:blip r:embed="rId2"/>
          <a:stretch/>
        </p:blipFill>
        <p:spPr>
          <a:xfrm>
            <a:off x="-1405080" y="-387360"/>
            <a:ext cx="1144908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042920" y="404640"/>
            <a:ext cx="640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ж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611280" y="1595520"/>
            <a:ext cx="7489800" cy="457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у птицу привык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летке видеть.В лес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жа не сразу и заме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шь.Для гнезда он вет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 повыше  выбира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зиму чижи от н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улетаю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067D913"/>
          <p:cNvPicPr/>
          <p:nvPr/>
        </p:nvPicPr>
        <p:blipFill>
          <a:blip r:embed="rId1"/>
          <a:stretch/>
        </p:blipFill>
        <p:spPr>
          <a:xfrm>
            <a:off x="-757080" y="0"/>
            <a:ext cx="10225080" cy="8369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57C066D"/>
          <p:cNvPicPr/>
          <p:nvPr/>
        </p:nvPicPr>
        <p:blipFill>
          <a:blip r:embed="rId1"/>
          <a:stretch/>
        </p:blipFill>
        <p:spPr>
          <a:xfrm>
            <a:off x="-973080" y="0"/>
            <a:ext cx="5761080" cy="601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B420D003"/>
          <p:cNvPicPr/>
          <p:nvPr/>
        </p:nvPicPr>
        <p:blipFill>
          <a:blip r:embed="rId2"/>
          <a:stretch/>
        </p:blipFill>
        <p:spPr>
          <a:xfrm>
            <a:off x="-468360" y="-3051000"/>
            <a:ext cx="12277800" cy="1726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5300640"/>
            <a:ext cx="77724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33"/>
                </a:solidFill>
                <a:latin typeface="Garamond"/>
              </a:rPr>
              <a:t>сова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4" descr="Рисунок2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59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66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-111600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581040" y="1557360"/>
            <a:ext cx="7981920" cy="453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людей мало,где ле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ухой,там живёт филин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с у него гром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кто не знает его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ет ночью в лесу и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гаться. Потому и зо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ут ещё филина-пугач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бояться-то и нечег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5280" y="571680"/>
            <a:ext cx="8748720" cy="571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птицы принося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у большу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у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и-вредных насе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ых и их личи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ничтожают, другие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шей и полёвок ло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ят, третьи- семена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рняков поедаю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395280" y="33336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и какой же эт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900000" y="1484280"/>
            <a:ext cx="712800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    Е    С 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395280" y="350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там не пою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 rot="522600">
            <a:off x="682200" y="4833720"/>
            <a:ext cx="755820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8000"/>
                </a:gradFill>
                <a:latin typeface="Impact"/>
              </a:rPr>
              <a:t>П  Т  И  Ц  Ы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8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468360" y="404640"/>
            <a:ext cx="8064360" cy="445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  надо береч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хранять,не беспо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ить,а зимой, в труд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е голодное время,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468360" y="5084640"/>
            <a:ext cx="8675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 о д к а р м л и в а т ь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6" name="Picture 5" descr="66EE783"/>
          <p:cNvPicPr/>
          <p:nvPr/>
        </p:nvPicPr>
        <p:blipFill>
          <a:blip r:embed="rId1"/>
          <a:stretch/>
        </p:blipFill>
        <p:spPr>
          <a:xfrm>
            <a:off x="900000" y="0"/>
            <a:ext cx="10368000" cy="1426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A9371BCC"/>
          <p:cNvPicPr/>
          <p:nvPr/>
        </p:nvPicPr>
        <p:blipFill>
          <a:blip r:embed="rId2"/>
          <a:stretch/>
        </p:blipFill>
        <p:spPr>
          <a:xfrm>
            <a:off x="4284720" y="3141720"/>
            <a:ext cx="6985080" cy="914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EC180FBA"/>
          <p:cNvPicPr/>
          <p:nvPr/>
        </p:nvPicPr>
        <p:blipFill>
          <a:blip r:embed="rId3"/>
          <a:stretch/>
        </p:blipFill>
        <p:spPr>
          <a:xfrm>
            <a:off x="0" y="-819000"/>
            <a:ext cx="4284720" cy="993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8529FD8"/>
          <p:cNvPicPr/>
          <p:nvPr/>
        </p:nvPicPr>
        <p:blipFill>
          <a:blip r:embed="rId4"/>
          <a:stretch/>
        </p:blipFill>
        <p:spPr>
          <a:xfrm>
            <a:off x="14797080" y="549360"/>
            <a:ext cx="7886880" cy="4457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2F568BA6"/>
          <p:cNvPicPr/>
          <p:nvPr/>
        </p:nvPicPr>
        <p:blipFill>
          <a:blip r:embed="rId5"/>
          <a:stretch/>
        </p:blipFill>
        <p:spPr>
          <a:xfrm>
            <a:off x="4284720" y="0"/>
            <a:ext cx="727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95280" y="476280"/>
            <a:ext cx="705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ИХВОСТКА 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95280" y="2276640"/>
            <a:ext cx="7993080" cy="381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ая  птичка.Везд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опится  побывать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 муху,где  пауч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люнет.Только хво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к  огоньком мель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т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7D28799"/>
          <p:cNvPicPr/>
          <p:nvPr/>
        </p:nvPicPr>
        <p:blipFill>
          <a:blip r:embed="rId1"/>
          <a:stretch/>
        </p:blipFill>
        <p:spPr>
          <a:xfrm>
            <a:off x="-2700360" y="-316080"/>
            <a:ext cx="12096720" cy="1203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0" y="620640"/>
            <a:ext cx="687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ЯТЕЛ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611280" y="1700280"/>
            <a:ext cx="7993080" cy="5157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НА-это чёрный дятел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оточки у  желны острые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пкие.По дереву, словно п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сенке,бегает.Большим кл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м постукивает-жучков,ли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нок  ищ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Рисунок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260280"/>
            <a:ext cx="6985080" cy="5905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17440" y="5714640"/>
            <a:ext cx="163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яте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85327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4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0:39:26Z</dcterms:created>
  <dc:creator>Admin</dc:creator>
  <dc:description/>
  <dc:language>en-US</dc:language>
  <cp:lastModifiedBy>SamLab.ws</cp:lastModifiedBy>
  <dcterms:modified xsi:type="dcterms:W3CDTF">2010-05-13T19:44:09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