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36.jpeg" ContentType="image/jpeg"/>
  <Override PartName="/ppt/media/image9.jpeg" ContentType="image/jpeg"/>
  <Override PartName="/ppt/media/image13.png" ContentType="image/png"/>
  <Override PartName="/ppt/media/image12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10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8A56-F5F7-4C5D-892E-1637010B3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5900-5F1C-49DE-9673-9889694F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A5AA-F161-44D8-BBEA-83DF512C9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353E-0991-4EA6-B598-6F15C7245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6F46-CE49-483C-9135-007B128D3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18E0-5AF2-4EB3-A3E8-FB8AA58E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8618-2C40-4A63-968E-4E55390D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3A43-F3C7-4279-ADA4-24C7BCB7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EC25-CE92-492F-B344-76453543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6A7F-D890-4046-A73D-FC9C2FE4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C35A-9DDB-4BA0-BB4E-86ECC4F3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4649-528C-4DD1-BFBE-DDE024DE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E334-3C76-4C4B-AD7D-D35A02ED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7076-BA61-4B0A-AAD1-1539D67F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888D-4E90-4C7F-B632-28823680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8F37-A9A1-4C25-81E4-88E713366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40EB-6244-44CA-B470-7FCAE9174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14C7-666C-4765-899B-534FC394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87AB-50ED-4DAC-932B-095CB2EF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2F10-E3F1-4FC3-ABFE-50E584AC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611A-4F2B-4AEC-A312-BDABBCC5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D0D1-ED85-4CF1-985A-576E6AAB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02DC-A29C-41C5-80D1-7902DDFC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0C85-8C4C-4C0F-AE2F-6CD9337C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9AE5-FC1C-471B-9640-E03D80D7380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8362-8028-4050-A9BF-A065C0C18CE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468360" y="260280"/>
            <a:ext cx="835164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  Т  И  Ц  Ы       Л  Е   С  А  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1332000" y="2905200"/>
            <a:ext cx="6769080" cy="3952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дготовила: ученица 2б класс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           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каченко Мар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DDCE0257"/>
          <p:cNvPicPr/>
          <p:nvPr/>
        </p:nvPicPr>
        <p:blipFill>
          <a:blip r:embed="rId1"/>
          <a:stretch/>
        </p:blipFill>
        <p:spPr>
          <a:xfrm>
            <a:off x="-684360" y="0"/>
            <a:ext cx="1022508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755640" y="404640"/>
            <a:ext cx="7201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ЁСТРЫЙ  ДЯТЕ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WordArt 5"/>
          <p:cNvSpPr txBox="1"/>
          <p:nvPr/>
        </p:nvSpPr>
        <p:spPr>
          <a:xfrm>
            <a:off x="971640" y="1595520"/>
            <a:ext cx="6886440" cy="45702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дятел с шишкам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правляется.Найдёт шишку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спелее и несёт  её  в "кузнецу"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 дерево.Вставит  дятел в щел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ишку и работает.Цела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ора шишек  накапливается.       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7B47E60F"/>
          <p:cNvPicPr/>
          <p:nvPr/>
        </p:nvPicPr>
        <p:blipFill>
          <a:blip r:embed="rId1"/>
          <a:stretch/>
        </p:blipFill>
        <p:spPr>
          <a:xfrm>
            <a:off x="-1116000" y="-1539720"/>
            <a:ext cx="11304720" cy="14724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4"/>
          <p:cNvSpPr txBox="1"/>
          <p:nvPr/>
        </p:nvSpPr>
        <p:spPr>
          <a:xfrm>
            <a:off x="539640" y="476280"/>
            <a:ext cx="720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ПИВНИ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WordArt 5"/>
          <p:cNvSpPr txBox="1"/>
          <p:nvPr/>
        </p:nvSpPr>
        <p:spPr>
          <a:xfrm>
            <a:off x="539640" y="1844640"/>
            <a:ext cx="7993080" cy="4392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тичка маленькая,д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даленькая,короткий за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рный хвостик так 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орчит вверх. Непос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а эта птичка.То в ку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ах мелькнёт,то в ста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е дупло заглянет,т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зарослях бурьяна её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видишь!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E585A9F5"/>
          <p:cNvPicPr/>
          <p:nvPr/>
        </p:nvPicPr>
        <p:blipFill>
          <a:blip r:embed="rId1"/>
          <a:stretch/>
        </p:blipFill>
        <p:spPr>
          <a:xfrm>
            <a:off x="-1116000" y="-243000"/>
            <a:ext cx="11160000" cy="104410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4"/>
          <p:cNvSpPr txBox="1"/>
          <p:nvPr/>
        </p:nvSpPr>
        <p:spPr>
          <a:xfrm>
            <a:off x="250920" y="476280"/>
            <a:ext cx="8208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ПОЛЗЕН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WordArt 5"/>
          <p:cNvSpPr txBox="1"/>
          <p:nvPr/>
        </p:nvSpPr>
        <p:spPr>
          <a:xfrm>
            <a:off x="395280" y="1484280"/>
            <a:ext cx="7632720" cy="537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сь день по стволам деревьев бегает,нас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мых  разыскивает.То вверх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  стволу побежит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о вниз головой спускается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BF02A4CB"/>
          <p:cNvPicPr/>
          <p:nvPr/>
        </p:nvPicPr>
        <p:blipFill>
          <a:blip r:embed="rId1"/>
          <a:stretch/>
        </p:blipFill>
        <p:spPr>
          <a:xfrm>
            <a:off x="-1044720" y="-747720"/>
            <a:ext cx="10730160" cy="10001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324000" y="404640"/>
            <a:ext cx="7127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РЯНК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WordArt 5"/>
          <p:cNvSpPr txBox="1"/>
          <p:nvPr/>
        </p:nvSpPr>
        <p:spPr>
          <a:xfrm>
            <a:off x="395280" y="1857240"/>
            <a:ext cx="8209080" cy="4308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щё снег не везде со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ёл,а она уже тут ка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ут,собирает с земл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ных гусениц,ули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ок,паучков. На зем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е и гнездо строит.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55792411"/>
          <p:cNvPicPr/>
          <p:nvPr/>
        </p:nvPicPr>
        <p:blipFill>
          <a:blip r:embed="rId1"/>
          <a:stretch/>
        </p:blipFill>
        <p:spPr>
          <a:xfrm>
            <a:off x="-324000" y="-1324080"/>
            <a:ext cx="10728360" cy="15764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4"/>
          <p:cNvSpPr txBox="1"/>
          <p:nvPr/>
        </p:nvSpPr>
        <p:spPr>
          <a:xfrm>
            <a:off x="395280" y="476280"/>
            <a:ext cx="7705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ВСЯН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WordArt 5"/>
          <p:cNvSpPr txBox="1"/>
          <p:nvPr/>
        </p:nvSpPr>
        <p:spPr>
          <a:xfrm>
            <a:off x="539640" y="1916280"/>
            <a:ext cx="7632720" cy="4321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нездо своё строит н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ушке леса,в низко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устарнике.Снесёт ов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янка в гнезде 4-5яиц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высиживают их об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дителя.То один по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идит,то другой-пок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тенцы выведутся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DDAFE0FD"/>
          <p:cNvPicPr/>
          <p:nvPr/>
        </p:nvPicPr>
        <p:blipFill>
          <a:blip r:embed="rId1"/>
          <a:stretch/>
        </p:blipFill>
        <p:spPr>
          <a:xfrm>
            <a:off x="0" y="0"/>
            <a:ext cx="9144000" cy="18954720"/>
          </a:xfrm>
          <a:prstGeom prst="rect">
            <a:avLst/>
          </a:prstGeom>
          <a:ln w="0">
            <a:noFill/>
          </a:ln>
        </p:spPr>
      </p:pic>
      <p:sp>
        <p:nvSpPr>
          <p:cNvPr id="89" name="WordArt 5"/>
          <p:cNvSpPr txBox="1"/>
          <p:nvPr/>
        </p:nvSpPr>
        <p:spPr>
          <a:xfrm>
            <a:off x="404640" y="762120"/>
            <a:ext cx="6675480" cy="86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вайте,посмотрим,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WordArt 6"/>
          <p:cNvSpPr txBox="1"/>
          <p:nvPr/>
        </p:nvSpPr>
        <p:spPr>
          <a:xfrm>
            <a:off x="1258920" y="1484280"/>
            <a:ext cx="6840360" cy="4608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де  какие  птиц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вут,как  они  кор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бывают  и  гнёз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оят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60C05147"/>
          <p:cNvPicPr/>
          <p:nvPr/>
        </p:nvPicPr>
        <p:blipFill>
          <a:blip r:embed="rId1"/>
          <a:stretch/>
        </p:blipFill>
        <p:spPr>
          <a:xfrm>
            <a:off x="-396720" y="-171360"/>
            <a:ext cx="10369440" cy="11088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7348CF23"/>
          <p:cNvPicPr/>
          <p:nvPr/>
        </p:nvPicPr>
        <p:blipFill>
          <a:blip r:embed="rId1"/>
          <a:stretch/>
        </p:blipFill>
        <p:spPr>
          <a:xfrm>
            <a:off x="0" y="0"/>
            <a:ext cx="10188720" cy="7316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611280" y="260280"/>
            <a:ext cx="6408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НОЧ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539640" y="1989000"/>
            <a:ext cx="7632720" cy="4176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тичка маленькая,быс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рая, с тоненьким клю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м.С таким клювом пт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ы только насекомых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дят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7" name="Picture 5" descr="24CC91ED"/>
          <p:cNvPicPr/>
          <p:nvPr/>
        </p:nvPicPr>
        <p:blipFill>
          <a:blip r:embed="rId1"/>
          <a:stretch/>
        </p:blipFill>
        <p:spPr>
          <a:xfrm>
            <a:off x="-612720" y="-243000"/>
            <a:ext cx="10369440" cy="100202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4"/>
          <p:cNvSpPr txBox="1"/>
          <p:nvPr/>
        </p:nvSpPr>
        <p:spPr>
          <a:xfrm>
            <a:off x="900000" y="476280"/>
            <a:ext cx="7272360" cy="720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СНОЙ  КОНЁ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WordArt 5"/>
          <p:cNvSpPr txBox="1"/>
          <p:nvPr/>
        </p:nvSpPr>
        <p:spPr>
          <a:xfrm>
            <a:off x="826920" y="1628640"/>
            <a:ext cx="7490160" cy="4537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но утром,когда ещё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са на траве не обсох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а,запевает свою пес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ку лесной конёк.Вы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ко взлетит,на верхуш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е дерева усядется и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ёт. Песенка у нег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вонкая,весёлая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C1F22EE7"/>
          <p:cNvPicPr/>
          <p:nvPr/>
        </p:nvPicPr>
        <p:blipFill>
          <a:blip r:embed="rId1"/>
          <a:stretch/>
        </p:blipFill>
        <p:spPr>
          <a:xfrm>
            <a:off x="0" y="0"/>
            <a:ext cx="9755280" cy="14196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4"/>
          <p:cNvSpPr txBox="1"/>
          <p:nvPr/>
        </p:nvSpPr>
        <p:spPr>
          <a:xfrm>
            <a:off x="684360" y="260280"/>
            <a:ext cx="7704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АВКА-ЧЕРНОГОЛОВКА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WordArt 5"/>
          <p:cNvSpPr txBox="1"/>
          <p:nvPr/>
        </p:nvSpPr>
        <p:spPr>
          <a:xfrm>
            <a:off x="250920" y="1595520"/>
            <a:ext cx="8208720" cy="4497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яркая окраска у это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тички:сама серая,а н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олове шапочка чёрная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то голос громкий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лодичный,красивый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нездо делает в гуще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устов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155D608D"/>
          <p:cNvPicPr/>
          <p:nvPr/>
        </p:nvPicPr>
        <p:blipFill>
          <a:blip r:embed="rId1"/>
          <a:stretch/>
        </p:blipFill>
        <p:spPr>
          <a:xfrm>
            <a:off x="-1405080" y="-1900080"/>
            <a:ext cx="11161800" cy="9793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395280" y="333360"/>
            <a:ext cx="813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ХОЛОВКА-ПЕСТРУШКА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WordArt 5"/>
          <p:cNvSpPr txBox="1"/>
          <p:nvPr/>
        </p:nvSpPr>
        <p:spPr>
          <a:xfrm>
            <a:off x="585720" y="1700280"/>
            <a:ext cx="7972560" cy="5157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ёстрая птичка! 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сидела минуту тихо,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том вдруг сорвалас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 ветки и схватила н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ету какую-то мушку.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BA42B829"/>
          <p:cNvPicPr/>
          <p:nvPr/>
        </p:nvPicPr>
        <p:blipFill>
          <a:blip r:embed="rId1"/>
          <a:stretch/>
        </p:blipFill>
        <p:spPr>
          <a:xfrm>
            <a:off x="-684360" y="-674640"/>
            <a:ext cx="10982520" cy="209595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F6F31B85"/>
          <p:cNvPicPr/>
          <p:nvPr/>
        </p:nvPicPr>
        <p:blipFill>
          <a:blip r:embed="rId1"/>
          <a:stretch/>
        </p:blipFill>
        <p:spPr>
          <a:xfrm>
            <a:off x="-2052720" y="-819000"/>
            <a:ext cx="12312720" cy="7677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korolek"/>
          <p:cNvPicPr/>
          <p:nvPr/>
        </p:nvPicPr>
        <p:blipFill>
          <a:blip r:embed="rId2"/>
          <a:stretch/>
        </p:blipFill>
        <p:spPr>
          <a:xfrm>
            <a:off x="2411280" y="8397720"/>
            <a:ext cx="4286520" cy="21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4"/>
          <p:cNvSpPr txBox="1"/>
          <p:nvPr/>
        </p:nvSpPr>
        <p:spPr>
          <a:xfrm>
            <a:off x="826920" y="333360"/>
            <a:ext cx="7777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ЁРНЫЙ   ДРОЗД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WordArt 5"/>
          <p:cNvSpPr txBox="1"/>
          <p:nvPr/>
        </p:nvSpPr>
        <p:spPr>
          <a:xfrm>
            <a:off x="324000" y="1125360"/>
            <a:ext cx="8569080" cy="4896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асивая эта птица:сама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ёрная,как сажа,а клюв и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одки вокруг  глаз-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ёлтые.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нездо на дереве строит: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лает из глины основу,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потом сухие стебельки,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ломинки заплетает.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E84BB51F"/>
          <p:cNvPicPr/>
          <p:nvPr/>
        </p:nvPicPr>
        <p:blipFill>
          <a:blip r:embed="rId1"/>
          <a:stretch/>
        </p:blipFill>
        <p:spPr>
          <a:xfrm>
            <a:off x="-1189080" y="-603360"/>
            <a:ext cx="11304720" cy="14495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4"/>
          <p:cNvSpPr txBox="1"/>
          <p:nvPr/>
        </p:nvSpPr>
        <p:spPr>
          <a:xfrm>
            <a:off x="395280" y="333360"/>
            <a:ext cx="64818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КВОРЕЦ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WordArt 5"/>
          <p:cNvSpPr txBox="1"/>
          <p:nvPr/>
        </p:nvSpPr>
        <p:spPr>
          <a:xfrm>
            <a:off x="468360" y="1773360"/>
            <a:ext cx="8136000" cy="43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се привыкли,что он окол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ка живёт.А это н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сегда бывает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кворцы любят стар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рки и леса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5C925CDB"/>
          <p:cNvPicPr/>
          <p:nvPr/>
        </p:nvPicPr>
        <p:blipFill>
          <a:blip r:embed="rId1"/>
          <a:stretch/>
        </p:blipFill>
        <p:spPr>
          <a:xfrm>
            <a:off x="-541440" y="0"/>
            <a:ext cx="10514160" cy="117619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4"/>
          <p:cNvSpPr txBox="1"/>
          <p:nvPr/>
        </p:nvSpPr>
        <p:spPr>
          <a:xfrm>
            <a:off x="-828720" y="476280"/>
            <a:ext cx="943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ВЧИЙ  ДРОЗД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WordArt 5"/>
          <p:cNvSpPr txBox="1"/>
          <p:nvPr/>
        </p:nvSpPr>
        <p:spPr>
          <a:xfrm>
            <a:off x="468360" y="1484280"/>
            <a:ext cx="8207280" cy="4608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ёт замечательно:на закат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лнца усядется на вершину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ёлки и на весь лес  высвист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ает.Голос звучный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земле под листьям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ыскивает насекомых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B2FF66A1"/>
          <p:cNvPicPr/>
          <p:nvPr/>
        </p:nvPicPr>
        <p:blipFill>
          <a:blip r:embed="rId1"/>
          <a:stretch/>
        </p:blipFill>
        <p:spPr>
          <a:xfrm>
            <a:off x="0" y="-531720"/>
            <a:ext cx="9144000" cy="7389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250920" y="404640"/>
            <a:ext cx="8281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РОКОПУТ-ЖУЛАН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WordArt 5"/>
          <p:cNvSpPr txBox="1"/>
          <p:nvPr/>
        </p:nvSpPr>
        <p:spPr>
          <a:xfrm>
            <a:off x="539640" y="1557360"/>
            <a:ext cx="777744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большая птичка, 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рабрая:появится ястреб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близости,сразу жулан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го прогонит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нездо строит в чащ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устов. Птенцов крупны-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и жуками,ящерицами вы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рмливает.А если добы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и много-хранит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C9F8357D"/>
          <p:cNvPicPr/>
          <p:nvPr/>
        </p:nvPicPr>
        <p:blipFill>
          <a:blip r:embed="rId1"/>
          <a:stretch/>
        </p:blipFill>
        <p:spPr>
          <a:xfrm>
            <a:off x="0" y="0"/>
            <a:ext cx="9144000" cy="10395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4"/>
          <p:cNvSpPr txBox="1"/>
          <p:nvPr/>
        </p:nvSpPr>
        <p:spPr>
          <a:xfrm>
            <a:off x="395280" y="333360"/>
            <a:ext cx="806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НИЦА-ГАИЧ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WordArt 5"/>
          <p:cNvSpPr txBox="1"/>
          <p:nvPr/>
        </p:nvSpPr>
        <p:spPr>
          <a:xfrm>
            <a:off x="684360" y="1339920"/>
            <a:ext cx="734364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ренькая,а шапочка н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олове-чёрная.Клюв у гаич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и маленький,тоненький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ля гнезда дупло себ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далбливает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енью гаички  собир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ются в небольшие стайк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кочуют по нашим лесам.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7685A193"/>
          <p:cNvPicPr/>
          <p:nvPr/>
        </p:nvPicPr>
        <p:blipFill>
          <a:blip r:embed="rId1"/>
          <a:stretch/>
        </p:blipFill>
        <p:spPr>
          <a:xfrm>
            <a:off x="0" y="-1395360"/>
            <a:ext cx="10044000" cy="892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684360" y="333360"/>
            <a:ext cx="6048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ЯБЛИ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WordArt 5"/>
          <p:cNvSpPr txBox="1"/>
          <p:nvPr/>
        </p:nvSpPr>
        <p:spPr>
          <a:xfrm>
            <a:off x="826920" y="1773360"/>
            <a:ext cx="8066160" cy="4319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ылышки у зяблика   нарядные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удто  раскрашенные.  А  како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е  гнездо  строят!Внутр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ёрышками,тонкими волосками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ухом  устлано. А  снаружи так  лов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  лишайником замаскировано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WordArt 6"/>
          <p:cNvSpPr txBox="1"/>
          <p:nvPr/>
        </p:nvSpPr>
        <p:spPr>
          <a:xfrm>
            <a:off x="-2928600" y="7963560"/>
            <a:ext cx="50004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ного разных пти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вёт в наших лесах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дна любит лиственны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с,другую тольк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ельнике  встретишь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newsflash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4"/>
          <p:cNvSpPr txBox="1"/>
          <p:nvPr/>
        </p:nvSpPr>
        <p:spPr>
          <a:xfrm>
            <a:off x="684360" y="333360"/>
            <a:ext cx="691200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ЫЧ-ВОРОБЕЙ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WordArt 5"/>
          <p:cNvSpPr txBox="1"/>
          <p:nvPr/>
        </p:nvSpPr>
        <p:spPr>
          <a:xfrm>
            <a:off x="468360" y="1341360"/>
            <a:ext cx="7488360" cy="4824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это просто сова,тольк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ленькая,с дрозда ро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ом.Нет от него спас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ия вредным грызунам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нём сидит сыч непод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ижно,а ночью летает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хотится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тенцов по 5-6 шту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водится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ушастая сова"/>
          <p:cNvPicPr/>
          <p:nvPr/>
        </p:nvPicPr>
        <p:blipFill>
          <a:blip r:embed="rId1"/>
          <a:stretch/>
        </p:blipFill>
        <p:spPr>
          <a:xfrm>
            <a:off x="395280" y="260280"/>
            <a:ext cx="4421160" cy="59770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-973080" y="9693360"/>
            <a:ext cx="183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b812f"/>
                </a:solidFill>
                <a:latin typeface="Arial"/>
                <a:ea typeface="Arial"/>
              </a:rPr>
              <a:t>Ушастая с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снежная сова"/>
          <p:cNvPicPr/>
          <p:nvPr/>
        </p:nvPicPr>
        <p:blipFill>
          <a:blip r:embed="rId2"/>
          <a:stretch/>
        </p:blipFill>
        <p:spPr>
          <a:xfrm>
            <a:off x="4859280" y="260280"/>
            <a:ext cx="4021200" cy="59770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 flipH="1" flipV="1">
            <a:off x="-1044720" y="4931640"/>
            <a:ext cx="18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b812f"/>
                </a:solidFill>
                <a:latin typeface="Arial"/>
                <a:ea typeface="Arial"/>
              </a:rPr>
              <a:t>Снежная с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691F68F"/>
          <p:cNvPicPr/>
          <p:nvPr/>
        </p:nvPicPr>
        <p:blipFill>
          <a:blip r:embed="rId1"/>
          <a:stretch/>
        </p:blipFill>
        <p:spPr>
          <a:xfrm>
            <a:off x="-1260360" y="0"/>
            <a:ext cx="11161440" cy="11669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4"/>
          <p:cNvSpPr txBox="1"/>
          <p:nvPr/>
        </p:nvSpPr>
        <p:spPr>
          <a:xfrm>
            <a:off x="468360" y="404640"/>
            <a:ext cx="8280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ШАСТАЯ  СОВА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WordArt 5"/>
          <p:cNvSpPr txBox="1"/>
          <p:nvPr/>
        </p:nvSpPr>
        <p:spPr>
          <a:xfrm>
            <a:off x="324000" y="2060640"/>
            <a:ext cx="806436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голове у неё торча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ёрышки-совсем как ма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енькие ушки.Бесшум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о летает сова.Гнёзд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 строит,занимает ста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ые гнёзда сорок.В июн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являются совята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93588E75"/>
          <p:cNvPicPr/>
          <p:nvPr/>
        </p:nvPicPr>
        <p:blipFill>
          <a:blip r:embed="rId1"/>
          <a:stretch/>
        </p:blipFill>
        <p:spPr>
          <a:xfrm>
            <a:off x="-1116000" y="0"/>
            <a:ext cx="1087272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4"/>
          <p:cNvSpPr txBox="1"/>
          <p:nvPr/>
        </p:nvSpPr>
        <p:spPr>
          <a:xfrm>
            <a:off x="468360" y="404640"/>
            <a:ext cx="7920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ЛЕСТ-ЕЛОВИК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WordArt 5"/>
          <p:cNvSpPr txBox="1"/>
          <p:nvPr/>
        </p:nvSpPr>
        <p:spPr>
          <a:xfrm>
            <a:off x="611280" y="1484280"/>
            <a:ext cx="7416720" cy="4608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де ельник,там и клесты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краска яркая,красная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люв крючком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тенцов клесты выв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ят в любое время года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ыло бы шишек много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мороз не страшен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C5597D4B"/>
          <p:cNvPicPr/>
          <p:nvPr/>
        </p:nvPicPr>
        <p:blipFill>
          <a:blip r:embed="rId1"/>
          <a:stretch/>
        </p:blipFill>
        <p:spPr>
          <a:xfrm>
            <a:off x="-1189080" y="0"/>
            <a:ext cx="11090160" cy="124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4"/>
          <p:cNvSpPr txBox="1"/>
          <p:nvPr/>
        </p:nvSpPr>
        <p:spPr>
          <a:xfrm>
            <a:off x="468360" y="404640"/>
            <a:ext cx="69120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НИЦ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WordArt 5"/>
          <p:cNvSpPr txBox="1"/>
          <p:nvPr/>
        </p:nvSpPr>
        <p:spPr>
          <a:xfrm>
            <a:off x="324000" y="2119320"/>
            <a:ext cx="7993080" cy="3973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ленькая синичка тож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льники любит.Живё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 нас круглый год.Труд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о ей приходится зимой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олодно и голодно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969C1091"/>
          <p:cNvPicPr/>
          <p:nvPr/>
        </p:nvPicPr>
        <p:blipFill>
          <a:blip r:embed="rId1"/>
          <a:stretch/>
        </p:blipFill>
        <p:spPr>
          <a:xfrm>
            <a:off x="1171440" y="223920"/>
            <a:ext cx="6801120" cy="6410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29CC71C7"/>
          <p:cNvPicPr/>
          <p:nvPr/>
        </p:nvPicPr>
        <p:blipFill>
          <a:blip r:embed="rId2"/>
          <a:stretch/>
        </p:blipFill>
        <p:spPr>
          <a:xfrm>
            <a:off x="-1405080" y="-387360"/>
            <a:ext cx="11449080" cy="72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4"/>
          <p:cNvSpPr txBox="1"/>
          <p:nvPr/>
        </p:nvSpPr>
        <p:spPr>
          <a:xfrm>
            <a:off x="1042920" y="404640"/>
            <a:ext cx="6408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иж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WordArt 5"/>
          <p:cNvSpPr txBox="1"/>
          <p:nvPr/>
        </p:nvSpPr>
        <p:spPr>
          <a:xfrm>
            <a:off x="611280" y="1595520"/>
            <a:ext cx="7489800" cy="45702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Эту птицу привыкл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клетке видеть.В лесу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ижа не сразу и заме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ишь.Для гнезда он вет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у повыше  выбирает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зиму чижи от на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 улетают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8067D913"/>
          <p:cNvPicPr/>
          <p:nvPr/>
        </p:nvPicPr>
        <p:blipFill>
          <a:blip r:embed="rId1"/>
          <a:stretch/>
        </p:blipFill>
        <p:spPr>
          <a:xfrm>
            <a:off x="-757080" y="0"/>
            <a:ext cx="10225080" cy="83692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D57C066D"/>
          <p:cNvPicPr/>
          <p:nvPr/>
        </p:nvPicPr>
        <p:blipFill>
          <a:blip r:embed="rId1"/>
          <a:stretch/>
        </p:blipFill>
        <p:spPr>
          <a:xfrm>
            <a:off x="-973080" y="0"/>
            <a:ext cx="5761080" cy="6010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B420D003"/>
          <p:cNvPicPr/>
          <p:nvPr/>
        </p:nvPicPr>
        <p:blipFill>
          <a:blip r:embed="rId2"/>
          <a:stretch/>
        </p:blipFill>
        <p:spPr>
          <a:xfrm>
            <a:off x="-468360" y="-3051000"/>
            <a:ext cx="12277800" cy="17268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5300640"/>
            <a:ext cx="7772400" cy="22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06633"/>
                </a:solidFill>
                <a:latin typeface="Garamond"/>
              </a:rPr>
              <a:t>сова</a:t>
            </a:r>
            <a:endParaRPr b="0" lang="en-US" sz="5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4" name="Picture 4" descr="Рисунок2"/>
          <p:cNvPicPr/>
          <p:nvPr/>
        </p:nvPicPr>
        <p:blipFill>
          <a:blip r:embed="rId1"/>
          <a:stretch/>
        </p:blipFill>
        <p:spPr>
          <a:xfrm>
            <a:off x="324000" y="189000"/>
            <a:ext cx="8424720" cy="5976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866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4"/>
          <p:cNvSpPr txBox="1"/>
          <p:nvPr/>
        </p:nvSpPr>
        <p:spPr>
          <a:xfrm>
            <a:off x="-1116000" y="476280"/>
            <a:ext cx="792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ЛИ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WordArt 5"/>
          <p:cNvSpPr txBox="1"/>
          <p:nvPr/>
        </p:nvSpPr>
        <p:spPr>
          <a:xfrm>
            <a:off x="581040" y="1557360"/>
            <a:ext cx="7981920" cy="4535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де людей мало,где ле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ухой,там живёт филин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олос у него громкий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сли кто не знает его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жет ночью в лесу и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угаться. Потому и зо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ут ещё филина-пугач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бояться-то и нечего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4"/>
          <p:cNvSpPr txBox="1"/>
          <p:nvPr/>
        </p:nvSpPr>
        <p:spPr>
          <a:xfrm>
            <a:off x="395280" y="571680"/>
            <a:ext cx="8748720" cy="5715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е птицы принося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ловеку большую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у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дни-вредных насе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мых и их личино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ничтожают, другие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ышей и полёвок ло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ят, третьи- семена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рняков поедают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newsflash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4"/>
          <p:cNvSpPr txBox="1"/>
          <p:nvPr/>
        </p:nvSpPr>
        <p:spPr>
          <a:xfrm>
            <a:off x="395280" y="333360"/>
            <a:ext cx="842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 и какой же эт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WordArt 5"/>
          <p:cNvSpPr txBox="1"/>
          <p:nvPr/>
        </p:nvSpPr>
        <p:spPr>
          <a:xfrm>
            <a:off x="900000" y="1484280"/>
            <a:ext cx="7128000" cy="220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    Е    С ,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1" name="WordArt 6"/>
          <p:cNvSpPr txBox="1"/>
          <p:nvPr/>
        </p:nvSpPr>
        <p:spPr>
          <a:xfrm>
            <a:off x="395280" y="3500280"/>
            <a:ext cx="799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сли там не поют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WordArt 7"/>
          <p:cNvSpPr txBox="1"/>
          <p:nvPr/>
        </p:nvSpPr>
        <p:spPr>
          <a:xfrm rot="522600">
            <a:off x="682200" y="4833720"/>
            <a:ext cx="7558200" cy="21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338000"/>
                </a:gradFill>
                <a:latin typeface="Impact"/>
              </a:rPr>
              <a:t>П  Т  И  Ц  Ы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338000"/>
              </a:gradFill>
              <a:latin typeface="Impact"/>
              <a:ea typeface="Impact"/>
            </a:endParaRPr>
          </a:p>
        </p:txBody>
      </p:sp>
    </p:spTree>
  </p:cSld>
  <p:transition>
    <p:newsflash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4"/>
          <p:cNvSpPr txBox="1"/>
          <p:nvPr/>
        </p:nvSpPr>
        <p:spPr>
          <a:xfrm>
            <a:off x="468360" y="404640"/>
            <a:ext cx="8064360" cy="445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ТИЦ  надо беречь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хранять,не беспо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ить,а зимой, в труд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е голодное время,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WordArt 5"/>
          <p:cNvSpPr txBox="1"/>
          <p:nvPr/>
        </p:nvSpPr>
        <p:spPr>
          <a:xfrm>
            <a:off x="468360" y="5084640"/>
            <a:ext cx="867564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 о д к а р м л и в а т ь 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newsflash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6" name="Picture 5" descr="66EE783"/>
          <p:cNvPicPr/>
          <p:nvPr/>
        </p:nvPicPr>
        <p:blipFill>
          <a:blip r:embed="rId1"/>
          <a:stretch/>
        </p:blipFill>
        <p:spPr>
          <a:xfrm>
            <a:off x="900000" y="0"/>
            <a:ext cx="10368000" cy="142635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A9371BCC"/>
          <p:cNvPicPr/>
          <p:nvPr/>
        </p:nvPicPr>
        <p:blipFill>
          <a:blip r:embed="rId2"/>
          <a:stretch/>
        </p:blipFill>
        <p:spPr>
          <a:xfrm>
            <a:off x="4284720" y="3141720"/>
            <a:ext cx="6985080" cy="9144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EC180FBA"/>
          <p:cNvPicPr/>
          <p:nvPr/>
        </p:nvPicPr>
        <p:blipFill>
          <a:blip r:embed="rId3"/>
          <a:stretch/>
        </p:blipFill>
        <p:spPr>
          <a:xfrm>
            <a:off x="0" y="-819000"/>
            <a:ext cx="4284720" cy="9936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A8529FD8"/>
          <p:cNvPicPr/>
          <p:nvPr/>
        </p:nvPicPr>
        <p:blipFill>
          <a:blip r:embed="rId4"/>
          <a:stretch/>
        </p:blipFill>
        <p:spPr>
          <a:xfrm>
            <a:off x="14797080" y="549360"/>
            <a:ext cx="7886880" cy="4457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2F568BA6"/>
          <p:cNvPicPr/>
          <p:nvPr/>
        </p:nvPicPr>
        <p:blipFill>
          <a:blip r:embed="rId5"/>
          <a:stretch/>
        </p:blipFill>
        <p:spPr>
          <a:xfrm>
            <a:off x="4284720" y="0"/>
            <a:ext cx="7272360" cy="4103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395280" y="476280"/>
            <a:ext cx="7056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РИХВОСТКА 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395280" y="2276640"/>
            <a:ext cx="7993080" cy="3816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звая  птичка.Везд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оропится  побывать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де  муху,где  паучк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клюнет.Только хво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ик  огоньком мельк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т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47D28799"/>
          <p:cNvPicPr/>
          <p:nvPr/>
        </p:nvPicPr>
        <p:blipFill>
          <a:blip r:embed="rId1"/>
          <a:stretch/>
        </p:blipFill>
        <p:spPr>
          <a:xfrm>
            <a:off x="-2700360" y="-316080"/>
            <a:ext cx="12096720" cy="12030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0" y="620640"/>
            <a:ext cx="6877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ЯТЕЛ 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WordArt 3"/>
          <p:cNvSpPr txBox="1"/>
          <p:nvPr/>
        </p:nvSpPr>
        <p:spPr>
          <a:xfrm>
            <a:off x="611280" y="1700280"/>
            <a:ext cx="7993080" cy="5157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ЕЛНА-это чёрный дятел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готочки у  желны острые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епкие.По дереву, словно п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есенке,бегает.Большим клю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м постукивает-жучков,ли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инок  ищет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            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Рисунок9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95280" y="260280"/>
            <a:ext cx="6985080" cy="59054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917440" y="5714640"/>
            <a:ext cx="163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дяте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853272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944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0:39:26Z</dcterms:created>
  <dc:creator>Admin</dc:creator>
  <dc:description/>
  <dc:language>en-US</dc:language>
  <cp:lastModifiedBy>SamLab.ws</cp:lastModifiedBy>
  <dcterms:modified xsi:type="dcterms:W3CDTF">2010-05-13T19:44:09Z</dcterms:modified>
  <cp:revision>2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