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2BF-2F13-4821-AAEC-D43774E7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E33-7690-485D-8DEA-4D118EE4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F14-2435-4FA3-BB34-6BFDA33E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E99E-2801-4752-A6CF-90E28269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5DD3-D373-4062-B0EA-6B192CEB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A66F-2D9B-45C1-B8C9-79526AC8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0034-4EB3-4895-9FFD-BE53302C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86B5-B15B-43CD-B73E-1E720DC1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957E-799B-45B9-8E96-ACED0940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44B5-4339-407D-9B98-BFC150B1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4AEF-5D66-49BE-B6A2-5FA7D3A2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6F7F-D431-466D-A8B7-FC931E22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A542-6017-4B41-AAA6-24A03E91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0E9E-8DD1-4B30-990A-AF787D89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4A33-CF80-49CD-8C62-B61C41B5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6F39-2EAB-45EB-A408-269FBA5C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DD41-BC08-40C1-B0B8-5BC68765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50350-4C67-4C28-817E-37DFB60D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795B6-028E-42FE-8934-02DCF099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E4D67-8977-4CAF-A87D-39CAB08F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A2FC49-1402-4765-A3D3-59B652B9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F87DD-0724-427A-A0D7-1D4EE416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7FB-48D2-4CFE-9BEE-16FEF406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B90C5-4127-4F46-8AB4-9E136B78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16416-C36A-4AB6-AE97-B747BAA6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65D8D1-6A28-4E5C-B404-F178BDB7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461E1-587C-4CBA-8670-5C7E1DB9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CE004-988A-4049-B4E0-266338EB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A9F40-B28E-49B2-BB6E-6C47AFF4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C0E8B-D2F4-425B-BA80-377E6EB4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93AB2-031D-4AA5-9A16-466F219E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F7024-AD64-4737-B327-AF3778D1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85746-C55B-4834-9C32-AF7DD7EB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D728-6734-4AD7-8597-CBA400DA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60533-9738-46C0-8BB2-60E3D01E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37F08-B648-49EE-ACB7-B2DF1309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0EB8A-E4E9-4CB9-BCD8-613864E4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70ABD-A2AC-47A7-86DD-87FE890A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9F4BB-74E6-47B2-A1F0-61ECEF98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2D3BE-4872-4C8F-8F30-DE151AE8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9CEF4-EEAC-488A-B574-8D002666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B4B80-4815-43A6-BB0D-030D7307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62576-C3E6-4D96-8CF5-F748476A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00FC6-859D-4B31-8D14-246B7832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C79-3913-430D-924C-59A767E4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7C7370-F867-4210-BE80-F1C44CE9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77FB3C-C7EF-4AA2-AC2A-CBC6F7EF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DABE9-92FB-4564-98F1-BD2E0E4C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7317CC-C948-4E13-AEBA-E5E41061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548575-01AC-43BA-8CCD-AD1DF02B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5614F-15FA-41BE-AD42-D7B08612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F4D346-2B95-4393-BD9E-967F4245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EE253-8530-4F3D-86CE-72BA7ECA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645468-6CA2-4360-9767-11B63771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7B3F27-3221-4D1E-83F0-AC40472D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812-E185-4463-9FFC-7A7661D8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40F32E-CC49-4A21-95F5-64BDFEAD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FD5AE3-FBD7-4E72-93B2-DE1C3BED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37561B-BED4-4EE9-9AC3-7D98D183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A2D5BC-BFA6-4863-A594-CD3C9F71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629480-9445-45C1-9E7A-96AED382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306053-EE63-415A-BBE9-F58DF42D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6D95BE-CE6E-408D-8CEE-A0FC9BA3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12D8C-DCE7-402C-948F-CA894C5A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64657C-DD03-4087-8FFF-D7880E42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67CE89-C137-413A-8B30-229F4931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1C45-CC4B-4F61-80B4-BBD450AE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C6668B-1EC7-476F-B51D-83AD1E64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409217-71C2-4A64-9F6B-0831FEEE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C43615-A2CB-49BD-AA6F-97221105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8DC6B-E538-4D01-A535-AF575CF1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92C256-AB7F-41C7-921A-AD31008C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212F69-F954-49F1-B951-A783E9C4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1681AF-828E-427E-A777-B6A960E9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D9F67C-F8C4-4739-A5C6-42F37390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28258-1308-4A2D-8076-ABCACD4A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A89395-7829-4B28-8F57-EC812E4D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91F-BE85-400F-994D-5F376DA7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F555F0-EDEF-4025-98B3-4F59EB22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782F36-389B-45E0-8326-CDA6019E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B9E012-CFB6-4607-9CA2-0154E331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8D483C-A96D-4839-BC09-973D0286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E61AF6-00FE-4E7C-85D6-2651E16D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C97-A726-4A0E-9652-C085BEDB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62B2-F498-46E1-B3CC-BA77D34E175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ECCD-C0AF-4C76-9903-71F28023F12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5C21-2DE8-4CE0-A5FC-1358E9EAE12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E72F-1897-4EEC-B792-6747764460C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9D25-2C3E-4C7E-BD87-D057FFA1C2D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3FE1-79A0-4EAB-9138-FF47A148E0F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D638-29A7-4FF6-946B-214DD4FF112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28440" y="571320"/>
            <a:ext cx="75294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 Schoolbook"/>
              </a:rPr>
              <a:t>УРОК РУССКОГО ЯЗЫКА                                </a:t>
            </a:r>
            <a:r>
              <a:rPr b="1" lang="ru-RU" sz="4800" spc="-1" strike="noStrike">
                <a:solidFill>
                  <a:srgbClr val="c00000"/>
                </a:solidFill>
                <a:latin typeface="Century Schoolbook"/>
              </a:rPr>
              <a:t>«ИМЯ ПРИЛАГАТЕЛЬНОЕ». 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071440" y="3785760"/>
            <a:ext cx="61722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КОБЫЛЕНКО ГАЛИНА ИВАНОВ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МАОУ СОШ №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28400" y="157140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Schoolbook"/>
              </a:rPr>
              <a:t>            </a:t>
            </a:r>
            <a:r>
              <a:rPr b="0" lang="ru-RU" sz="3600" spc="-1" strike="noStrike">
                <a:solidFill>
                  <a:srgbClr val="c00000"/>
                </a:solidFill>
                <a:latin typeface="Century Schoolbook"/>
              </a:rPr>
              <a:t>(какая?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Schoolbook"/>
              </a:rPr>
              <a:t>Стоит снежная зим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Schoolbook"/>
              </a:rPr>
              <a:t>                              </a:t>
            </a:r>
            <a:r>
              <a:rPr b="0" lang="ru-RU" sz="3600" spc="-1" strike="noStrike">
                <a:solidFill>
                  <a:srgbClr val="c00000"/>
                </a:solidFill>
                <a:latin typeface="Century Schoolbook"/>
              </a:rPr>
              <a:t>(какие?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Schoolbook"/>
              </a:rPr>
              <a:t>В классе растут комнатные растения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714240" y="1428840"/>
            <a:ext cx="7572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Имена прилагательные обозначают признаки предметов, делают нашу речь точной и выразительной. В предложении чаще всего связано с именем существительны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entury Schoolbook"/>
              </a:rPr>
              <a:t>ПРИЛАГАТЕЛЬНЫЕ ОТВЕЧАЮТ НА ВОПРОСЫ: КАКАЯ? КАКОЙ? КАКОЕ? КАКИЕ?                                   В ПРЕДЛОЖЕНИИ СВЯЗАНЫ С ИМЕНЕМ СУЩЕСТВИТЕЛЬНЫМ.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Schoolbook"/>
              </a:rPr>
              <a:t>ИМЯ ПРИЛАГАТЕЛЬНОЕ ИЗМЕНЯЕТСЯ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600200"/>
            <a:ext cx="84009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о родам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о числам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о падежам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500040"/>
            <a:ext cx="7467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В единственном числе имена прилагательные изменяются по родам и по падежам. Род имени прилагательного определяется по роду имени существительного, к которому оно относится.                                                  Чтобы узнать род имени прилагательного надо:                                                                                  1) найти в предложении имя существительное, с которым связано по смыслу имя прилагательное;                                                                                2) определить род имени существительного;                                                     3) по роду имени существительного узнать род имени прилагательного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Прямоугольник 3"/>
          <p:cNvSpPr/>
          <p:nvPr/>
        </p:nvSpPr>
        <p:spPr>
          <a:xfrm>
            <a:off x="1000080" y="1571760"/>
            <a:ext cx="6475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рилагательные во множественном числе изменяется только по падежам. По родам они не изменяют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entury Schoolbook"/>
              </a:rPr>
              <a:t>В ПРЕДЛОЖЕНИИ ИМЯ ПРИЛАГАТЕЛЬНОЕ ЯВЛЯЕТСЯ ОПРЕДЕЛЕНИЕМ.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9:31:34Z</dcterms:created>
  <dc:creator>Максимко</dc:creator>
  <dc:description/>
  <dc:language>en-US</dc:language>
  <cp:lastModifiedBy>дом</cp:lastModifiedBy>
  <dcterms:modified xsi:type="dcterms:W3CDTF">2013-02-24T17:10:36Z</dcterms:modified>
  <cp:revision>12</cp:revision>
  <dc:subject/>
  <dc:title>Урок – лекция.                                 «Имя прилагательное». </dc:title>
</cp:coreProperties>
</file>