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297-5B2C-4798-B6AC-296078D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AE7-5D0D-482A-AA9D-6141328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9A9-C6E1-49D9-BC7B-E107DD2C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575-4EF3-4F27-B1E3-F3E1C5B8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A71-4B45-462A-BC6C-7F69C5E4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A9EE-6592-42FE-A0D7-058C082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7CAC-84B5-4D01-B5F5-9ABB1D4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847-C83E-4206-8260-3EACEAE9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03F-0911-414C-B93E-D813DDD7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B31-69B8-4A45-BD07-599B0C1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7F4B-3B86-40B5-97C6-AC25689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F32-DC35-4E90-93F8-D60BB87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5819-C7CA-4749-8FD8-2B713A3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1BF3-F3C8-43CC-AFC7-E2F60C5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D8F6-E96B-4F5E-86F4-26CFE4F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A2B3-DE20-4F2B-87D8-172E37FA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7936-DDAB-4DF8-A1F1-93F5F611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9FC2B-0A04-4A81-9ADE-39E76208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0928E-C032-44CD-BFD0-DA0EC28C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6D868-F7A3-41D2-874F-6F507CE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1D6F4-5381-40DE-B926-B5BD2B0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26876-6C32-4445-81AB-789F7475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D4B-23F7-4EDA-8A63-77507DC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20CD1-F75B-4A4A-8F1F-72CB2043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3EC80-8533-49CB-92BC-BFECF56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C9C47-2623-4ADD-BE44-3B02F02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51381-358F-4701-A2C7-068A28C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21C15-CB34-48C4-A547-81B2333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4C368-D5B5-4D14-8331-1C422CD9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CC7C8-292E-4B9D-B6F4-E735B2DB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1E13-598C-4E67-9B20-404810AB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2D28-508C-43ED-BAA5-37DCF2E5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6BDA-EC3F-4A3A-8CFD-B42F279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36C-B666-4EB9-A9DD-1AEF064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34F2-4995-4776-9ADD-E647B554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1B20-1603-480A-82CA-4495420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F799-0A5D-46E5-8D2F-FAC600B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D6FB-2197-47A1-8F1D-56614A65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623E-F0AC-4563-9138-BD96AB95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F45E-7CAD-4EF0-BF14-AD82A4C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1AF4-A737-4229-9199-4E0255B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5352-BCB8-4CB6-A4AD-16C850B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73B23-B95C-4DED-B862-30942CD6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F493B-A84D-4723-A8A0-80EA731F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6EB-D69D-4792-8222-AD354E9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36610-8049-4CF8-AA26-C17BFD4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60484-D23F-45FC-B7C4-F54BDF3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3DEA4-3E62-4082-AB2B-C0B53A4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A2B87-BF97-49F0-AD79-049DEAD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BE78C-8693-4FD0-8FEC-0882406A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A0B4D-0438-491D-9F62-F85125E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A22AB-17ED-4A27-B49E-527E9D6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A53F8-0FDC-4867-8702-66D4422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A0143-B4FC-4E97-AC4A-D314EB0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D5F3B-DD51-491C-88A4-E30D27E5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498-82FC-4581-8F21-F8EC57B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72890-2A91-424F-9A09-BCCB1EE2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CDF4E-74EC-4AC3-8ADB-D8BD5DD1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E6855-9F63-4FAF-B5A6-73AAC4B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95044-074E-4CDE-8E2C-9ADA368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92811-A31D-4EC0-8ABB-F7AF138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EFC62-1517-4F5B-9F8B-B29B11A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93AF1-1A25-4C5E-8ECE-C071F84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4AD73-4B5C-422D-9CAF-FD62160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984FA-38B0-47DB-AD99-CB11090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900F2-4DAB-4A1D-BEB6-42EB4FB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E91-EE2F-445F-96F6-3605E33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FC776-4065-446A-8715-267EEBF0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DABC0-BAA7-4BCB-8FF7-0F42130E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2F66B-FD3C-4871-B03C-7C4244B7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F1069-CD44-4E4D-8931-D6E51A4C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0AB9D-58DC-4256-B361-166312F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8680D-B9E1-42BE-840F-873A125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BE1F8-3DA3-48C8-9B77-1408D2C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DB129-8E54-4B17-9343-F8949DEC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27685-E88A-4C2B-B671-56E18DA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C89CC-04DD-47F3-A1AD-7097B7D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6A6-E4C3-426C-A3D7-1A2D011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95BD3-E6C2-49C8-80EC-EB118BA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DC97B-BB69-49D4-B52B-931C186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2A7D5-18F6-42FC-AF40-0D5AF2B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C52F0-490B-4EEB-B4B6-8F85549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F3AB3-2C01-4A23-868A-2CDD5896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563-252A-4C0A-AA7A-236C9D3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62C-3623-46CA-BDBE-A8E9713F46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D591-E439-4696-844A-6B92EF95EA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32C-C053-4315-A793-57E4A90B6D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BD9-4F5E-4A79-9816-2BD0564B08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981F-71B8-4E78-997C-A06A5F337F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A75-2CB9-41F3-B7B9-2104CC063E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DF8-AD2D-4AD5-BB71-DCAE3FA424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440" y="571320"/>
            <a:ext cx="75294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УРОК РУССКОГО ЯЗЫКА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«ИМЯ ПРИЛАГАТЕЛЬНОЕ».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71440" y="3785760"/>
            <a:ext cx="6172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КОБЫЛЕНКО ГАЛИНА ИВАН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МАОУ СОШ №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40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(какая?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Стоит снежная зим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      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(какие?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В классе растут комнатные растен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714240" y="1428840"/>
            <a:ext cx="757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мена прилагательные обозначают признаки предметов, делают нашу речь точной и выразительной. В предложении чаще всего связано с именем существитель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entury Schoolbook"/>
              </a:rPr>
              <a:t>ПРИЛАГАТЕЛЬНЫЕ ОТВЕЧАЮТ НА ВОПРОСЫ: КАКАЯ? КАКОЙ? КАКОЕ? КАКИЕ?                                   В ПРЕДЛОЖЕНИИ СВЯЗАНЫ С ИМЕНЕМ СУЩЕСТВИТЕЛЬНЫМ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ИМЯ ПРИЛАГАТЕЛЬНОЕ ИЗМЕНЯЕТС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400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родам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числа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падежам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единственном числе имена прилагательные изменяются по родам и по падежам. Род имени прилагательного определяется по роду имени существительного, к которому оно относится.                                                  Чтобы узнать род имени прилагательного надо:                                                                                  1) найти в предложении имя существительное, с которым связано по смыслу имя прилагательное;                                                                                2) определить род имени существительного;                                                     3) по роду имени существительного узнать род имени прилагательного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1000080" y="1571760"/>
            <a:ext cx="647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илагательные во множественном числе изменяется только по падежам. По родам они не изменяю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Schoolbook"/>
              </a:rPr>
              <a:t>В ПРЕДЛОЖЕНИИ ИМЯ ПРИЛАГАТЕЛЬНОЕ ЯВЛЯЕТСЯ ОПРЕДЕЛЕНИЕМ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31:34Z</dcterms:created>
  <dc:creator>Максимко</dc:creator>
  <dc:description/>
  <dc:language>en-US</dc:language>
  <cp:lastModifiedBy>дом</cp:lastModifiedBy>
  <dcterms:modified xsi:type="dcterms:W3CDTF">2013-02-24T17:10:36Z</dcterms:modified>
  <cp:revision>12</cp:revision>
  <dc:subject/>
  <dc:title>Урок – лекция.                                 «Имя прилагательное». </dc:title>
</cp:coreProperties>
</file>