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645-EB9B-4EC5-AA52-5570934E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554-C01E-42B8-AC16-1F7C6870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770-4AEC-407C-A43E-E6EFDDC2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FA2-490A-4DD8-A8C0-50BDD092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295-2AC4-4516-B0C0-1B4B9B6D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B24-3FA0-4AE6-AE8B-691DBDD5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113-9714-4B0A-9653-03A380C5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A6D-0180-4437-A521-9961FCB8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A53-1A71-44A2-B75A-C52F6694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858-B5AD-49D8-9923-3D6A33C2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B78-0972-4C28-BA95-1BF650E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E64-A3DA-4CA1-8DB0-E3F7CAF2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6DBE-6D3B-4036-A1A0-049D3A9F7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«Ваза с цветами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имированная презентация к уроку ИЗО в 1 классе, содержащая пошаговую инструкцию для учащихся по созданию аппликац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3640" y="3886200"/>
            <a:ext cx="516276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а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СОШ №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дюг И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изготовления цветочной в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8760" y="1071720"/>
            <a:ext cx="83628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ять лист цветной бумаги и свернуть его попо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прямую линию от угла до середины нижнего края и отрезать по этой ли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уть и приклеить вазу на фоновую бума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324000" y="4005360"/>
            <a:ext cx="2592360" cy="244800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276720" y="4005360"/>
            <a:ext cx="1439640" cy="24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169236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H="1">
            <a:off x="3850920" y="4005360"/>
            <a:ext cx="863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5364000" y="4005360"/>
            <a:ext cx="1872000" cy="2448000"/>
          </a:xfrm>
          <a:prstGeom prst="flowChartManualOperation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пы изготовления цветов и лис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ём цветную бумагу и накладываем на неё шабл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водим аккуратно по краю шаблона карандаш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вырезаем ножницами по кон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лучаем из зелёной бумаги- листья, из красной бумаги- ц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nt"/>
          <p:cNvSpPr/>
          <p:nvPr/>
        </p:nvSpPr>
        <p:spPr>
          <a:xfrm>
            <a:off x="3203640" y="3429000"/>
            <a:ext cx="2520720" cy="2376360"/>
          </a:xfrm>
          <a:custGeom>
            <a:avLst/>
            <a:gdLst>
              <a:gd name="textAreaLeft" fmla="*/ 828360 w 2520720"/>
              <a:gd name="textAreaRight" fmla="*/ 1697400 w 2520720"/>
              <a:gd name="textAreaTop" fmla="*/ 1110240 h 2376360"/>
              <a:gd name="textAreaBottom" fmla="*/ 1493280 h 2376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3429000"/>
            <a:ext cx="2736720" cy="2736720"/>
          </a:xfrm>
          <a:prstGeom prst="rect">
            <a:avLst/>
          </a:prstGeom>
          <a:solidFill>
            <a:srgbClr val="f836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nt"/>
          <p:cNvSpPr/>
          <p:nvPr/>
        </p:nvSpPr>
        <p:spPr>
          <a:xfrm>
            <a:off x="395280" y="3645000"/>
            <a:ext cx="2448000" cy="2376360"/>
          </a:xfrm>
          <a:custGeom>
            <a:avLst/>
            <a:gdLst>
              <a:gd name="textAreaLeft" fmla="*/ 804600 w 2448000"/>
              <a:gd name="textAreaRight" fmla="*/ 1648440 w 2448000"/>
              <a:gd name="textAreaTop" fmla="*/ 1110240 h 2376360"/>
              <a:gd name="textAreaBottom" fmla="*/ 1493280 h 2376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940360" y="3429000"/>
            <a:ext cx="2808360" cy="252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nt"/>
          <p:cNvSpPr/>
          <p:nvPr/>
        </p:nvSpPr>
        <p:spPr>
          <a:xfrm>
            <a:off x="6084720" y="3500280"/>
            <a:ext cx="2521080" cy="2376720"/>
          </a:xfrm>
          <a:custGeom>
            <a:avLst/>
            <a:gdLst>
              <a:gd name="textAreaLeft" fmla="*/ 828720 w 2521080"/>
              <a:gd name="textAreaRight" fmla="*/ 1697760 w 2521080"/>
              <a:gd name="textAreaTop" fmla="*/ 1110600 h 2376720"/>
              <a:gd name="textAreaBottom" fmla="*/ 1493640 h 2376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лючительный этап изготовления апплик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клеить на фоновую бумагу изображение цветочной вазы, затем наклеить зелёные листья и между ними красиво расположить красные ц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ем дорисовать карандашом стебельки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этого украсить вазу небольшими звёздоч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4560" y="1600200"/>
            <a:ext cx="900108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4221000"/>
          </a:xfrm>
          <a:prstGeom prst="rect">
            <a:avLst/>
          </a:prstGeom>
          <a:solidFill>
            <a:srgbClr val="a2fc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492360" y="4508640"/>
            <a:ext cx="1944720" cy="1584360"/>
          </a:xfrm>
          <a:prstGeom prst="flowChartManualOperation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8"/>
          <p:cNvSpPr/>
          <p:nvPr/>
        </p:nvSpPr>
        <p:spPr>
          <a:xfrm>
            <a:off x="4427640" y="3213000"/>
            <a:ext cx="2043000" cy="1243080"/>
          </a:xfrm>
          <a:custGeom>
            <a:avLst/>
            <a:gdLst>
              <a:gd name="textAreaLeft" fmla="*/ 0 w 2043000"/>
              <a:gd name="textAreaRight" fmla="*/ 2043360 w 2043000"/>
              <a:gd name="textAreaTop" fmla="*/ 0 h 1243080"/>
              <a:gd name="textAreaBottom" fmla="*/ 1243080 h 1243080"/>
            </a:gdLst>
            <a:ahLst/>
            <a:rect l="textAreaLeft" t="textAreaTop" r="textAreaRight" b="textAreaBottom"/>
            <a:pathLst>
              <a:path w="1287" h="783">
                <a:moveTo>
                  <a:pt x="0" y="783"/>
                </a:moveTo>
                <a:cubicBezTo>
                  <a:pt x="27" y="742"/>
                  <a:pt x="38" y="695"/>
                  <a:pt x="54" y="648"/>
                </a:cubicBezTo>
                <a:cubicBezTo>
                  <a:pt x="60" y="630"/>
                  <a:pt x="59" y="607"/>
                  <a:pt x="72" y="594"/>
                </a:cubicBezTo>
                <a:cubicBezTo>
                  <a:pt x="116" y="550"/>
                  <a:pt x="165" y="515"/>
                  <a:pt x="225" y="495"/>
                </a:cubicBezTo>
                <a:cubicBezTo>
                  <a:pt x="271" y="449"/>
                  <a:pt x="331" y="428"/>
                  <a:pt x="387" y="396"/>
                </a:cubicBezTo>
                <a:cubicBezTo>
                  <a:pt x="421" y="376"/>
                  <a:pt x="443" y="344"/>
                  <a:pt x="477" y="324"/>
                </a:cubicBezTo>
                <a:cubicBezTo>
                  <a:pt x="541" y="287"/>
                  <a:pt x="655" y="225"/>
                  <a:pt x="729" y="216"/>
                </a:cubicBezTo>
                <a:cubicBezTo>
                  <a:pt x="768" y="211"/>
                  <a:pt x="807" y="210"/>
                  <a:pt x="846" y="207"/>
                </a:cubicBezTo>
                <a:cubicBezTo>
                  <a:pt x="919" y="189"/>
                  <a:pt x="996" y="188"/>
                  <a:pt x="1071" y="180"/>
                </a:cubicBezTo>
                <a:cubicBezTo>
                  <a:pt x="1094" y="174"/>
                  <a:pt x="1118" y="173"/>
                  <a:pt x="1134" y="153"/>
                </a:cubicBezTo>
                <a:cubicBezTo>
                  <a:pt x="1143" y="143"/>
                  <a:pt x="1143" y="126"/>
                  <a:pt x="1152" y="117"/>
                </a:cubicBezTo>
                <a:cubicBezTo>
                  <a:pt x="1167" y="102"/>
                  <a:pt x="1188" y="93"/>
                  <a:pt x="1206" y="81"/>
                </a:cubicBezTo>
                <a:cubicBezTo>
                  <a:pt x="1228" y="66"/>
                  <a:pt x="1252" y="48"/>
                  <a:pt x="1269" y="27"/>
                </a:cubicBezTo>
                <a:cubicBezTo>
                  <a:pt x="1276" y="19"/>
                  <a:pt x="1287" y="0"/>
                  <a:pt x="12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 flipV="1">
            <a:off x="2050920" y="3429000"/>
            <a:ext cx="2376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0"/>
          <p:cNvSpPr/>
          <p:nvPr/>
        </p:nvSpPr>
        <p:spPr>
          <a:xfrm>
            <a:off x="4414680" y="2171880"/>
            <a:ext cx="892440" cy="2314440"/>
          </a:xfrm>
          <a:custGeom>
            <a:avLst/>
            <a:gdLst>
              <a:gd name="textAreaLeft" fmla="*/ 0 w 892440"/>
              <a:gd name="textAreaRight" fmla="*/ 892800 w 892440"/>
              <a:gd name="textAreaTop" fmla="*/ 0 h 2314440"/>
              <a:gd name="textAreaBottom" fmla="*/ 2314800 h 2314440"/>
            </a:gdLst>
            <a:ahLst/>
            <a:rect l="textAreaLeft" t="textAreaTop" r="textAreaRight" b="textAreaBottom"/>
            <a:pathLst>
              <a:path w="562" h="1458">
                <a:moveTo>
                  <a:pt x="0" y="1458"/>
                </a:moveTo>
                <a:cubicBezTo>
                  <a:pt x="4" y="1377"/>
                  <a:pt x="9" y="1153"/>
                  <a:pt x="54" y="1062"/>
                </a:cubicBezTo>
                <a:cubicBezTo>
                  <a:pt x="66" y="1039"/>
                  <a:pt x="87" y="1022"/>
                  <a:pt x="99" y="999"/>
                </a:cubicBezTo>
                <a:cubicBezTo>
                  <a:pt x="108" y="955"/>
                  <a:pt x="115" y="896"/>
                  <a:pt x="135" y="855"/>
                </a:cubicBezTo>
                <a:cubicBezTo>
                  <a:pt x="167" y="790"/>
                  <a:pt x="139" y="871"/>
                  <a:pt x="171" y="792"/>
                </a:cubicBezTo>
                <a:cubicBezTo>
                  <a:pt x="178" y="774"/>
                  <a:pt x="183" y="756"/>
                  <a:pt x="189" y="738"/>
                </a:cubicBezTo>
                <a:cubicBezTo>
                  <a:pt x="197" y="714"/>
                  <a:pt x="222" y="698"/>
                  <a:pt x="234" y="675"/>
                </a:cubicBezTo>
                <a:cubicBezTo>
                  <a:pt x="238" y="667"/>
                  <a:pt x="237" y="655"/>
                  <a:pt x="243" y="648"/>
                </a:cubicBezTo>
                <a:cubicBezTo>
                  <a:pt x="250" y="640"/>
                  <a:pt x="262" y="637"/>
                  <a:pt x="270" y="630"/>
                </a:cubicBezTo>
                <a:cubicBezTo>
                  <a:pt x="323" y="586"/>
                  <a:pt x="358" y="553"/>
                  <a:pt x="423" y="531"/>
                </a:cubicBezTo>
                <a:cubicBezTo>
                  <a:pt x="452" y="492"/>
                  <a:pt x="484" y="480"/>
                  <a:pt x="513" y="441"/>
                </a:cubicBezTo>
                <a:cubicBezTo>
                  <a:pt x="522" y="414"/>
                  <a:pt x="531" y="387"/>
                  <a:pt x="540" y="360"/>
                </a:cubicBezTo>
                <a:cubicBezTo>
                  <a:pt x="543" y="351"/>
                  <a:pt x="549" y="333"/>
                  <a:pt x="549" y="333"/>
                </a:cubicBezTo>
                <a:cubicBezTo>
                  <a:pt x="544" y="259"/>
                  <a:pt x="562" y="171"/>
                  <a:pt x="495" y="126"/>
                </a:cubicBezTo>
                <a:cubicBezTo>
                  <a:pt x="455" y="66"/>
                  <a:pt x="404" y="18"/>
                  <a:pt x="333" y="0"/>
                </a:cubicBezTo>
                <a:cubicBezTo>
                  <a:pt x="90" y="9"/>
                  <a:pt x="177" y="9"/>
                  <a:pt x="72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1"/>
          <p:cNvSpPr/>
          <p:nvPr/>
        </p:nvSpPr>
        <p:spPr>
          <a:xfrm>
            <a:off x="2154240" y="3909960"/>
            <a:ext cx="1217520" cy="91908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767" h="579">
                <a:moveTo>
                  <a:pt x="767" y="57"/>
                </a:moveTo>
                <a:cubicBezTo>
                  <a:pt x="719" y="41"/>
                  <a:pt x="694" y="23"/>
                  <a:pt x="641" y="12"/>
                </a:cubicBezTo>
                <a:cubicBezTo>
                  <a:pt x="447" y="18"/>
                  <a:pt x="404" y="0"/>
                  <a:pt x="272" y="39"/>
                </a:cubicBezTo>
                <a:cubicBezTo>
                  <a:pt x="228" y="52"/>
                  <a:pt x="202" y="67"/>
                  <a:pt x="164" y="84"/>
                </a:cubicBezTo>
                <a:cubicBezTo>
                  <a:pt x="147" y="92"/>
                  <a:pt x="110" y="102"/>
                  <a:pt x="110" y="102"/>
                </a:cubicBezTo>
                <a:cubicBezTo>
                  <a:pt x="86" y="174"/>
                  <a:pt x="122" y="90"/>
                  <a:pt x="74" y="138"/>
                </a:cubicBezTo>
                <a:cubicBezTo>
                  <a:pt x="67" y="145"/>
                  <a:pt x="70" y="157"/>
                  <a:pt x="65" y="165"/>
                </a:cubicBezTo>
                <a:cubicBezTo>
                  <a:pt x="54" y="184"/>
                  <a:pt x="29" y="219"/>
                  <a:pt x="29" y="219"/>
                </a:cubicBezTo>
                <a:cubicBezTo>
                  <a:pt x="13" y="282"/>
                  <a:pt x="0" y="514"/>
                  <a:pt x="83" y="570"/>
                </a:cubicBezTo>
                <a:cubicBezTo>
                  <a:pt x="197" y="554"/>
                  <a:pt x="110" y="579"/>
                  <a:pt x="164" y="5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"/>
          <p:cNvSpPr/>
          <p:nvPr/>
        </p:nvSpPr>
        <p:spPr>
          <a:xfrm>
            <a:off x="5343480" y="3657600"/>
            <a:ext cx="1013040" cy="743040"/>
          </a:xfrm>
          <a:custGeom>
            <a:avLst/>
            <a:gdLst>
              <a:gd name="textAreaLeft" fmla="*/ 0 w 1013040"/>
              <a:gd name="textAreaRight" fmla="*/ 1013400 w 10130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638" h="468">
                <a:moveTo>
                  <a:pt x="0" y="18"/>
                </a:moveTo>
                <a:cubicBezTo>
                  <a:pt x="55" y="0"/>
                  <a:pt x="107" y="27"/>
                  <a:pt x="162" y="9"/>
                </a:cubicBezTo>
                <a:cubicBezTo>
                  <a:pt x="190" y="18"/>
                  <a:pt x="226" y="21"/>
                  <a:pt x="252" y="36"/>
                </a:cubicBezTo>
                <a:cubicBezTo>
                  <a:pt x="340" y="85"/>
                  <a:pt x="272" y="63"/>
                  <a:pt x="342" y="81"/>
                </a:cubicBezTo>
                <a:cubicBezTo>
                  <a:pt x="384" y="123"/>
                  <a:pt x="416" y="127"/>
                  <a:pt x="468" y="162"/>
                </a:cubicBezTo>
                <a:cubicBezTo>
                  <a:pt x="505" y="187"/>
                  <a:pt x="536" y="212"/>
                  <a:pt x="567" y="243"/>
                </a:cubicBezTo>
                <a:cubicBezTo>
                  <a:pt x="584" y="313"/>
                  <a:pt x="638" y="438"/>
                  <a:pt x="549" y="468"/>
                </a:cubicBezTo>
                <a:cubicBezTo>
                  <a:pt x="501" y="449"/>
                  <a:pt x="520" y="450"/>
                  <a:pt x="495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3"/>
          <p:cNvSpPr/>
          <p:nvPr/>
        </p:nvSpPr>
        <p:spPr>
          <a:xfrm>
            <a:off x="2117880" y="2770200"/>
            <a:ext cx="296640" cy="687240"/>
          </a:xfrm>
          <a:custGeom>
            <a:avLst/>
            <a:gdLst>
              <a:gd name="textAreaLeft" fmla="*/ 0 w 296640"/>
              <a:gd name="textAreaRight" fmla="*/ 297000 w 2966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87" h="433">
                <a:moveTo>
                  <a:pt x="34" y="433"/>
                </a:moveTo>
                <a:cubicBezTo>
                  <a:pt x="0" y="330"/>
                  <a:pt x="16" y="186"/>
                  <a:pt x="25" y="91"/>
                </a:cubicBezTo>
                <a:cubicBezTo>
                  <a:pt x="30" y="40"/>
                  <a:pt x="51" y="12"/>
                  <a:pt x="97" y="1"/>
                </a:cubicBezTo>
                <a:cubicBezTo>
                  <a:pt x="131" y="6"/>
                  <a:pt x="187" y="0"/>
                  <a:pt x="187" y="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nt"/>
          <p:cNvSpPr/>
          <p:nvPr/>
        </p:nvSpPr>
        <p:spPr>
          <a:xfrm>
            <a:off x="5580000" y="4292640"/>
            <a:ext cx="1090800" cy="1017720"/>
          </a:xfrm>
          <a:custGeom>
            <a:avLst/>
            <a:gdLst>
              <a:gd name="textAreaLeft" fmla="*/ 358560 w 1090800"/>
              <a:gd name="textAreaRight" fmla="*/ 734760 w 1090800"/>
              <a:gd name="textAreaTop" fmla="*/ 475560 h 1017720"/>
              <a:gd name="textAreaBottom" fmla="*/ 639720 h 1017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nt"/>
          <p:cNvSpPr/>
          <p:nvPr/>
        </p:nvSpPr>
        <p:spPr>
          <a:xfrm>
            <a:off x="3851280" y="1773360"/>
            <a:ext cx="1090440" cy="1017360"/>
          </a:xfrm>
          <a:custGeom>
            <a:avLst/>
            <a:gdLst>
              <a:gd name="textAreaLeft" fmla="*/ 358200 w 1090440"/>
              <a:gd name="textAreaRight" fmla="*/ 734400 w 1090440"/>
              <a:gd name="textAreaTop" fmla="*/ 475200 h 1017360"/>
              <a:gd name="textAreaBottom" fmla="*/ 639360 h 101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nt"/>
          <p:cNvSpPr/>
          <p:nvPr/>
        </p:nvSpPr>
        <p:spPr>
          <a:xfrm>
            <a:off x="5003640" y="2276640"/>
            <a:ext cx="1090800" cy="1017360"/>
          </a:xfrm>
          <a:custGeom>
            <a:avLst/>
            <a:gdLst>
              <a:gd name="textAreaLeft" fmla="*/ 358560 w 1090800"/>
              <a:gd name="textAreaRight" fmla="*/ 734760 w 1090800"/>
              <a:gd name="textAreaTop" fmla="*/ 475200 h 1017360"/>
              <a:gd name="textAreaBottom" fmla="*/ 639360 h 101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nt"/>
          <p:cNvSpPr/>
          <p:nvPr/>
        </p:nvSpPr>
        <p:spPr>
          <a:xfrm>
            <a:off x="2556000" y="3068640"/>
            <a:ext cx="1090440" cy="1017720"/>
          </a:xfrm>
          <a:custGeom>
            <a:avLst/>
            <a:gdLst>
              <a:gd name="textAreaLeft" fmla="*/ 358200 w 1090440"/>
              <a:gd name="textAreaRight" fmla="*/ 734400 w 1090440"/>
              <a:gd name="textAreaTop" fmla="*/ 475560 h 1017720"/>
              <a:gd name="textAreaBottom" fmla="*/ 639720 h 1017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nt"/>
          <p:cNvSpPr/>
          <p:nvPr/>
        </p:nvSpPr>
        <p:spPr>
          <a:xfrm>
            <a:off x="6372360" y="2421000"/>
            <a:ext cx="1439640" cy="1233360"/>
          </a:xfrm>
          <a:custGeom>
            <a:avLst/>
            <a:gdLst>
              <a:gd name="textAreaLeft" fmla="*/ 473040 w 1439640"/>
              <a:gd name="textAreaRight" fmla="*/ 969480 w 1439640"/>
              <a:gd name="textAreaTop" fmla="*/ 576360 h 1233360"/>
              <a:gd name="textAreaBottom" fmla="*/ 775080 h 1233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8363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nt"/>
          <p:cNvSpPr/>
          <p:nvPr/>
        </p:nvSpPr>
        <p:spPr>
          <a:xfrm>
            <a:off x="1979640" y="2492280"/>
            <a:ext cx="689040" cy="689040"/>
          </a:xfrm>
          <a:custGeom>
            <a:avLst/>
            <a:gdLst>
              <a:gd name="textAreaLeft" fmla="*/ 226440 w 689040"/>
              <a:gd name="textAreaRight" fmla="*/ 464040 w 689040"/>
              <a:gd name="textAreaTop" fmla="*/ 321840 h 689040"/>
              <a:gd name="textAreaBottom" fmla="*/ 433080 h 6890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nt"/>
          <p:cNvSpPr/>
          <p:nvPr/>
        </p:nvSpPr>
        <p:spPr>
          <a:xfrm>
            <a:off x="3851280" y="2924280"/>
            <a:ext cx="1192320" cy="976320"/>
          </a:xfrm>
          <a:custGeom>
            <a:avLst/>
            <a:gdLst>
              <a:gd name="textAreaLeft" fmla="*/ 391680 w 1192320"/>
              <a:gd name="textAreaRight" fmla="*/ 802800 w 1192320"/>
              <a:gd name="textAreaTop" fmla="*/ 456120 h 976320"/>
              <a:gd name="textAreaBottom" fmla="*/ 613440 h 9763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nt"/>
          <p:cNvSpPr/>
          <p:nvPr/>
        </p:nvSpPr>
        <p:spPr>
          <a:xfrm>
            <a:off x="1979640" y="4365720"/>
            <a:ext cx="1090440" cy="946080"/>
          </a:xfrm>
          <a:custGeom>
            <a:avLst/>
            <a:gdLst>
              <a:gd name="textAreaLeft" fmla="*/ 358200 w 1090440"/>
              <a:gd name="textAreaRight" fmla="*/ 734400 w 1090440"/>
              <a:gd name="textAreaTop" fmla="*/ 442080 h 946080"/>
              <a:gd name="textAreaBottom" fmla="*/ 594720 h 94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nt"/>
          <p:cNvSpPr/>
          <p:nvPr/>
        </p:nvSpPr>
        <p:spPr>
          <a:xfrm>
            <a:off x="5292720" y="3357720"/>
            <a:ext cx="1192320" cy="833400"/>
          </a:xfrm>
          <a:custGeom>
            <a:avLst/>
            <a:gdLst>
              <a:gd name="textAreaLeft" fmla="*/ 391680 w 1192320"/>
              <a:gd name="textAreaRight" fmla="*/ 802800 w 1192320"/>
              <a:gd name="textAreaTop" fmla="*/ 389520 h 833400"/>
              <a:gd name="textAreaBottom" fmla="*/ 523800 h 8334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wnRibbonSharp"/>
          <p:cNvSpPr/>
          <p:nvPr/>
        </p:nvSpPr>
        <p:spPr>
          <a:xfrm>
            <a:off x="0" y="404640"/>
            <a:ext cx="9144000" cy="50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ппликация «Цветы в ваз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9"/>
          <p:cNvSpPr/>
          <p:nvPr/>
        </p:nvSpPr>
        <p:spPr>
          <a:xfrm>
            <a:off x="3708360" y="4797360"/>
            <a:ext cx="289080" cy="287280"/>
          </a:xfrm>
          <a:custGeom>
            <a:avLst/>
            <a:gdLst>
              <a:gd name="textAreaLeft" fmla="*/ 65880 w 289080"/>
              <a:gd name="textAreaRight" fmla="*/ 223200 w 28908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fd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0"/>
          <p:cNvSpPr/>
          <p:nvPr/>
        </p:nvSpPr>
        <p:spPr>
          <a:xfrm>
            <a:off x="4284720" y="5589720"/>
            <a:ext cx="288720" cy="287280"/>
          </a:xfrm>
          <a:custGeom>
            <a:avLst/>
            <a:gdLst>
              <a:gd name="textAreaLeft" fmla="*/ 65880 w 288720"/>
              <a:gd name="textAreaRight" fmla="*/ 222840 w 28872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fd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1"/>
          <p:cNvSpPr/>
          <p:nvPr/>
        </p:nvSpPr>
        <p:spPr>
          <a:xfrm>
            <a:off x="4067280" y="5157720"/>
            <a:ext cx="288720" cy="287280"/>
          </a:xfrm>
          <a:custGeom>
            <a:avLst/>
            <a:gdLst>
              <a:gd name="textAreaLeft" fmla="*/ 65880 w 288720"/>
              <a:gd name="textAreaRight" fmla="*/ 222840 w 28872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fd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2"/>
          <p:cNvSpPr/>
          <p:nvPr/>
        </p:nvSpPr>
        <p:spPr>
          <a:xfrm>
            <a:off x="4643280" y="5157720"/>
            <a:ext cx="289080" cy="287280"/>
          </a:xfrm>
          <a:custGeom>
            <a:avLst/>
            <a:gdLst>
              <a:gd name="textAreaLeft" fmla="*/ 65880 w 289080"/>
              <a:gd name="textAreaRight" fmla="*/ 223200 w 28908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fd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3"/>
          <p:cNvSpPr/>
          <p:nvPr/>
        </p:nvSpPr>
        <p:spPr>
          <a:xfrm>
            <a:off x="4859280" y="4797360"/>
            <a:ext cx="289080" cy="287280"/>
          </a:xfrm>
          <a:custGeom>
            <a:avLst/>
            <a:gdLst>
              <a:gd name="textAreaLeft" fmla="*/ 65880 w 289080"/>
              <a:gd name="textAreaRight" fmla="*/ 223200 w 28908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fd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4"/>
          <p:cNvSpPr/>
          <p:nvPr/>
        </p:nvSpPr>
        <p:spPr>
          <a:xfrm>
            <a:off x="4356000" y="4797360"/>
            <a:ext cx="289080" cy="287280"/>
          </a:xfrm>
          <a:custGeom>
            <a:avLst/>
            <a:gdLst>
              <a:gd name="textAreaLeft" fmla="*/ 65880 w 289080"/>
              <a:gd name="textAreaRight" fmla="*/ 223200 w 28908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fd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nt"/>
          <p:cNvSpPr/>
          <p:nvPr/>
        </p:nvSpPr>
        <p:spPr>
          <a:xfrm rot="1474800">
            <a:off x="2700360" y="3213000"/>
            <a:ext cx="730080" cy="657360"/>
          </a:xfrm>
          <a:custGeom>
            <a:avLst/>
            <a:gdLst>
              <a:gd name="textAreaLeft" fmla="*/ 239760 w 730080"/>
              <a:gd name="textAreaRight" fmla="*/ 491760 w 730080"/>
              <a:gd name="textAreaTop" fmla="*/ 307080 h 657360"/>
              <a:gd name="textAreaBottom" fmla="*/ 413280 h 6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43a7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nt"/>
          <p:cNvSpPr/>
          <p:nvPr/>
        </p:nvSpPr>
        <p:spPr>
          <a:xfrm>
            <a:off x="4067280" y="1989000"/>
            <a:ext cx="730080" cy="657360"/>
          </a:xfrm>
          <a:custGeom>
            <a:avLst/>
            <a:gdLst>
              <a:gd name="textAreaLeft" fmla="*/ 239760 w 730080"/>
              <a:gd name="textAreaRight" fmla="*/ 491760 w 730080"/>
              <a:gd name="textAreaTop" fmla="*/ 307080 h 657360"/>
              <a:gd name="textAreaBottom" fmla="*/ 413280 h 6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43a7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nt"/>
          <p:cNvSpPr/>
          <p:nvPr/>
        </p:nvSpPr>
        <p:spPr>
          <a:xfrm>
            <a:off x="5148360" y="2492280"/>
            <a:ext cx="730080" cy="657360"/>
          </a:xfrm>
          <a:custGeom>
            <a:avLst/>
            <a:gdLst>
              <a:gd name="textAreaLeft" fmla="*/ 239760 w 730080"/>
              <a:gd name="textAreaRight" fmla="*/ 491760 w 730080"/>
              <a:gd name="textAreaTop" fmla="*/ 307080 h 657360"/>
              <a:gd name="textAreaBottom" fmla="*/ 413280 h 6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43a7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nt"/>
          <p:cNvSpPr/>
          <p:nvPr/>
        </p:nvSpPr>
        <p:spPr>
          <a:xfrm>
            <a:off x="6732720" y="2708280"/>
            <a:ext cx="730080" cy="657360"/>
          </a:xfrm>
          <a:custGeom>
            <a:avLst/>
            <a:gdLst>
              <a:gd name="textAreaLeft" fmla="*/ 239760 w 730080"/>
              <a:gd name="textAreaRight" fmla="*/ 491760 w 730080"/>
              <a:gd name="textAreaTop" fmla="*/ 307080 h 657360"/>
              <a:gd name="textAreaBottom" fmla="*/ 413280 h 6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43a7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nt"/>
          <p:cNvSpPr/>
          <p:nvPr/>
        </p:nvSpPr>
        <p:spPr>
          <a:xfrm rot="1221600">
            <a:off x="5795640" y="4508640"/>
            <a:ext cx="720720" cy="657000"/>
          </a:xfrm>
          <a:custGeom>
            <a:avLst/>
            <a:gdLst>
              <a:gd name="textAreaLeft" fmla="*/ 236880 w 720720"/>
              <a:gd name="textAreaRight" fmla="*/ 485280 w 720720"/>
              <a:gd name="textAreaTop" fmla="*/ 307080 h 657000"/>
              <a:gd name="textAreaBottom" fmla="*/ 412920 h 657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43a7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nt"/>
          <p:cNvSpPr/>
          <p:nvPr/>
        </p:nvSpPr>
        <p:spPr>
          <a:xfrm>
            <a:off x="1547640" y="3213000"/>
            <a:ext cx="730440" cy="657360"/>
          </a:xfrm>
          <a:custGeom>
            <a:avLst/>
            <a:gdLst>
              <a:gd name="textAreaLeft" fmla="*/ 240120 w 730440"/>
              <a:gd name="textAreaRight" fmla="*/ 491760 w 730440"/>
              <a:gd name="textAreaTop" fmla="*/ 307080 h 657360"/>
              <a:gd name="textAreaBottom" fmla="*/ 413280 h 6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43a7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5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1:17:06Z</dcterms:created>
  <dc:creator>оля</dc:creator>
  <dc:description/>
  <dc:language>en-US</dc:language>
  <cp:lastModifiedBy>User</cp:lastModifiedBy>
  <dcterms:modified xsi:type="dcterms:W3CDTF">2013-02-24T17:37:22Z</dcterms:modified>
  <cp:revision>21</cp:revision>
  <dc:subject/>
  <dc:title>Слайд 1</dc:title>
</cp:coreProperties>
</file>