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jpeg" ContentType="image/jpeg"/>
  <Override PartName="/ppt/media/image2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B60-14B3-4BBB-973E-1A7E01B5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2AC8-AEE0-4F99-BE04-85CB74B4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AEF-6346-4D3A-B51E-EFE99439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4E88-8F2A-4E72-84BC-A0395AC6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C0B3-FA26-42B0-89A7-178EAB8A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E78D-DE16-4B92-924C-5E19A0AC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366-5A53-49FC-9FE8-684EC0B7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1E8-41F1-4F78-B2C2-562DBF61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E41-2D24-4B3E-B88A-D6C1D365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9F3-7CEF-4FEC-8635-71B317FE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80B-9BD0-489D-B0C5-3AB42633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932-56A3-4D0C-9C6C-14C488D9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ADBE-27AE-4424-9F3F-B84968D91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7.xml"/><Relationship Id="rId10" Type="http://schemas.openxmlformats.org/officeDocument/2006/relationships/slide" Target="slide19.xml"/><Relationship Id="rId11" Type="http://schemas.openxmlformats.org/officeDocument/2006/relationships/slide" Target="slide21.xml"/><Relationship Id="rId12" Type="http://schemas.openxmlformats.org/officeDocument/2006/relationships/slide" Target="slide24.xml"/><Relationship Id="rId13" Type="http://schemas.openxmlformats.org/officeDocument/2006/relationships/slide" Target="slide24.xml"/><Relationship Id="rId14" Type="http://schemas.openxmlformats.org/officeDocument/2006/relationships/image" Target="../media/image3.jpeg"/><Relationship Id="rId1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deti86.ru/" TargetMode="External"/><Relationship Id="rId5" Type="http://schemas.openxmlformats.org/officeDocument/2006/relationships/hyperlink" Target="http://ru.wikipedia.org/" TargetMode="External"/><Relationship Id="rId6" Type="http://schemas.openxmlformats.org/officeDocument/2006/relationships/hyperlink" Target="http://www.openclass.ru/node/196671" TargetMode="External"/><Relationship Id="rId7" Type="http://schemas.openxmlformats.org/officeDocument/2006/relationships/hyperlink" Target="http://www.sunhome.ru/" TargetMode="External"/><Relationship Id="rId8" Type="http://schemas.openxmlformats.org/officeDocument/2006/relationships/hyperlink" Target="http://www.sunhome.ru/" TargetMode="External"/><Relationship Id="rId9" Type="http://schemas.openxmlformats.org/officeDocument/2006/relationships/image" Target="../media/image24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Monotype Corsiva"/>
              </a:rPr>
              <a:t>Проект «Осенняя мозаика»</a:t>
            </a:r>
            <a:br>
              <a:rPr sz="5400"/>
            </a:br>
            <a:r>
              <a:rPr b="1" lang="en-US" sz="4400" spc="-1" strike="noStrike">
                <a:solidFill>
                  <a:srgbClr val="ff3399"/>
                </a:solidFill>
                <a:latin typeface="Monotype Corsiva"/>
              </a:rPr>
              <a:t>Команда «Спелые яблочки»</a:t>
            </a:r>
            <a:br>
              <a:rPr sz="4400"/>
            </a:b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Презентация</a:t>
            </a:r>
            <a:br>
              <a:rPr sz="4000"/>
            </a:br>
            <a:r>
              <a:rPr b="1" lang="en-US" sz="6000" spc="-1" strike="noStrike">
                <a:solidFill>
                  <a:srgbClr val="336600"/>
                </a:solidFill>
                <a:latin typeface="Monotype Corsiva"/>
              </a:rPr>
              <a:t>«ВСЁ О ЯБЛОЧКАХ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19360" y="3885840"/>
            <a:ext cx="4724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99"/>
                </a:solidFill>
                <a:uFillTx/>
                <a:latin typeface="Monotype Corsiva"/>
              </a:rPr>
              <a:t>Подготови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обучающиеся 2 а и 2 б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МБОУ «СОШ № 8 г. Петров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Саратовской обла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99"/>
                </a:solidFill>
                <a:uFillTx/>
                <a:latin typeface="Monotype Corsiva"/>
              </a:rPr>
              <a:t>Руководители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:  Борисова Е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               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Шитова И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6472080"/>
            <a:ext cx="990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Monotype Corsiva"/>
              </a:rPr>
              <a:t>201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3733920" cy="27446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3399"/>
                </a:solidFill>
                <a:uFillTx/>
                <a:latin typeface="Monotype Corsiva"/>
              </a:rPr>
              <a:t>Пословицы о яблока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Хочешь съесть яблоко – посади яблон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Не залезешь на дерево – не сорвёшь яблок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Будет пчела на цветке – будет и яблоко на ст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Всякое яблоко стремится стать яблон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У соседа яблоки всегда кажутся вкусн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Не срывай яблока, пока зелено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созреет – само упадё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Кто яблоко в день съеда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тот у врача не</a:t>
            </a:r>
            <a:r>
              <a:rPr b="0" lang="en-US" sz="3600" spc="-1" strike="noStrike">
                <a:solidFill>
                  <a:srgbClr val="990099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быв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705720" y="4038480"/>
            <a:ext cx="2077920" cy="2819520"/>
          </a:xfrm>
          <a:prstGeom prst="rect">
            <a:avLst/>
          </a:prstGeom>
          <a:ln w="0">
            <a:noFill/>
          </a:ln>
        </p:spPr>
      </p:pic>
      <p:sp>
        <p:nvSpPr>
          <p:cNvPr id="67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9546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99"/>
                </a:solidFill>
                <a:uFillTx/>
                <a:latin typeface="Monotype Corsiva"/>
              </a:rPr>
              <a:t>Стихи о яблок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43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сенние яблоки. </a:t>
            </a:r>
            <a:br>
              <a:rPr sz="2000"/>
            </a:b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Осень кисточку достала,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Листья красить принялась,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Но, раскрасив щедро клены,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Все равно не унялась.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Забрела, гуляя, осень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В облетевшие сады –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На ветвях в прозрачных кронах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Яблоки как фонари.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Осень даже растерялась –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Хватит ли её на все: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Очень много поздних яблок,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Мало красок у нее.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Поразмыслила немного,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И решила не мудрить,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Да на яблоках зеленых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Щечки красным окропить.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Тем, что с желтыми плодами –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Гуще сделала тона,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А бордовым (как «китайка»)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Фиолетовый дала.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Долго осень рисовала,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Краски выложила все,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Но теперь плодам осенним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Не откажешь в крас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2880" y="761760"/>
            <a:ext cx="4191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ЯБЛОКО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Стучится яблоко в окно.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ружинит, гнётся ветка.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В саду промозгло и темно.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Гудит в трубе от ветра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Со всеми, кажется, росло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И солнцем наливалось,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Теперь на ветке, как назло,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Забытое осталось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Что проку в яблоке одном!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А знать - совсем немало.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Сорвал его, принёс я в дом,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И солнечнее стало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Запахло сеном и росой,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Грозою и рассветом,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И ливень, и июльский зной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В клубке пахучем этом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В него веселья сок налит...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Ненастною порою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ускай мне сердце веселит,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Когда буфет открою...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6600cc"/>
                </a:solidFill>
                <a:latin typeface="Arial"/>
              </a:rPr>
              <a:t>Михаил Садов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 вправо 9"/>
          <p:cNvSpPr/>
          <p:nvPr/>
        </p:nvSpPr>
        <p:spPr>
          <a:xfrm>
            <a:off x="4343400" y="6400800"/>
            <a:ext cx="1295280" cy="457200"/>
          </a:xfrm>
          <a:prstGeom prst="rightArrow">
            <a:avLst>
              <a:gd name="adj1" fmla="val 50000"/>
              <a:gd name="adj2" fmla="val 62682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61722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3399"/>
                </a:solidFill>
                <a:uFillTx/>
                <a:latin typeface="Monotype Corsiva"/>
              </a:rPr>
              <a:t>Книги </a:t>
            </a:r>
            <a:br>
              <a:rPr sz="6600"/>
            </a:br>
            <a:r>
              <a:rPr b="1" lang="en-US" sz="6600" spc="-1" strike="noStrike" u="sng">
                <a:solidFill>
                  <a:srgbClr val="ff3399"/>
                </a:solidFill>
                <a:uFillTx/>
                <a:latin typeface="Monotype Corsiva"/>
              </a:rPr>
              <a:t>о яблока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228564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10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Monotype Corsiva"/>
              </a:rPr>
              <a:t>Иван Бунин - «Антоновские ябло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10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Monotype Corsiva"/>
              </a:rPr>
              <a:t>Иван Дубровин - «Все об обычных яблока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10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Monotype Corsiva"/>
              </a:rPr>
              <a:t>Алексей Толстой – «Сказка о молодильных яблоках и живой вод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10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Monotype Corsiva"/>
              </a:rPr>
              <a:t>Владимир Сутеев – «Мешок яб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10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Monotype Corsiva"/>
              </a:rPr>
              <a:t>Эдуард Доминов – «Яблочный уксу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10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Monotype Corsiva"/>
              </a:rPr>
              <a:t>Вадим Зеланд – «Яблоки падают в небо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2284560"/>
          </a:xfrm>
          <a:prstGeom prst="rect">
            <a:avLst/>
          </a:prstGeom>
          <a:ln w="0">
            <a:noFill/>
          </a:ln>
        </p:spPr>
      </p:pic>
      <p:sp>
        <p:nvSpPr>
          <p:cNvPr id="75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9546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3399"/>
                </a:solidFill>
                <a:uFillTx/>
                <a:latin typeface="Monotype Corsiva"/>
              </a:rPr>
              <a:t>Яблоко в наших снах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Видеть </a:t>
            </a:r>
            <a:r>
              <a:rPr b="1" lang="en-US" sz="3600" spc="-1" strike="noStrike">
                <a:solidFill>
                  <a:srgbClr val="ff3399"/>
                </a:solidFill>
                <a:latin typeface="Monotype Corsiva"/>
              </a:rPr>
              <a:t>яблоки</a:t>
            </a: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 во сне – очень хорош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3399"/>
                </a:solidFill>
                <a:latin typeface="Monotype Corsiva"/>
              </a:rPr>
              <a:t>Красные яблоки</a:t>
            </a: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 на деревьях в зелёной листве – благоприятный с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3399"/>
                </a:solidFill>
                <a:latin typeface="Monotype Corsiva"/>
              </a:rPr>
              <a:t>Есть</a:t>
            </a: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 порченые яблоки – сон не сулит добра.</a:t>
            </a:r>
            <a:br>
              <a:rPr sz="3600"/>
            </a:br>
            <a:r>
              <a:rPr b="1" lang="en-US" sz="3600" spc="-1" strike="noStrike">
                <a:solidFill>
                  <a:srgbClr val="ff3399"/>
                </a:solidFill>
                <a:latin typeface="Monotype Corsiva"/>
              </a:rPr>
              <a:t>Спелые яблоки</a:t>
            </a: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 на дереве – настало время смело двигаться вперёд.</a:t>
            </a:r>
            <a:br>
              <a:rPr sz="3600"/>
            </a:b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Спелые яблоки </a:t>
            </a:r>
            <a:r>
              <a:rPr b="1" lang="en-US" sz="3600" spc="-1" strike="noStrike">
                <a:solidFill>
                  <a:srgbClr val="ff3399"/>
                </a:solidFill>
                <a:latin typeface="Monotype Corsiva"/>
              </a:rPr>
              <a:t>на вершине</a:t>
            </a: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 дерева – не заноситесь в своих желаниях слишком высоко;</a:t>
            </a:r>
            <a:br>
              <a:rPr sz="3600"/>
            </a:br>
            <a:r>
              <a:rPr b="1" lang="en-US" sz="3600" spc="-1" strike="noStrike">
                <a:solidFill>
                  <a:srgbClr val="ff3399"/>
                </a:solidFill>
                <a:latin typeface="Monotype Corsiva"/>
              </a:rPr>
              <a:t>Яблоки на земле</a:t>
            </a: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 – Вам причинят вред фальшивые друзья и льстецы;</a:t>
            </a:r>
            <a:br>
              <a:rPr sz="3600"/>
            </a:br>
            <a:r>
              <a:rPr b="1" lang="en-US" sz="3600" spc="-1" strike="noStrike">
                <a:solidFill>
                  <a:srgbClr val="ff3399"/>
                </a:solidFill>
                <a:latin typeface="Monotype Corsiva"/>
              </a:rPr>
              <a:t>Гнилые</a:t>
            </a: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 яблоки – бесплодные усил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315200" y="152280"/>
            <a:ext cx="1576440" cy="1671840"/>
          </a:xfrm>
          <a:prstGeom prst="rect">
            <a:avLst/>
          </a:prstGeom>
          <a:ln w="0">
            <a:noFill/>
          </a:ln>
        </p:spPr>
      </p:pic>
      <p:sp>
        <p:nvSpPr>
          <p:cNvPr id="79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9546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99"/>
                </a:solidFill>
                <a:uFillTx/>
                <a:latin typeface="Monotype Corsiva"/>
              </a:rPr>
              <a:t>Это интересн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40000"/>
              </a:lnSpc>
              <a:spcBef>
                <a:spcPts val="700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Самая длинная яблочная кожура занесена в Книгу рекордов Гиннеса. Американка Кэти Волфер 16 октября 1976 года в Нью-Йорке чистила яблоко в течении 11 часов 30 минут и получила кожуру длиной 52 метра 51 сантимет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40000"/>
              </a:lnSpc>
              <a:spcBef>
                <a:spcPts val="700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Самое тяжелое яблоко было выращено японцем Хисато Ивасаки, его вес составил 1,85 килогра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40000"/>
              </a:lnSpc>
              <a:spcBef>
                <a:spcPts val="700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Яблоневые сады занимают на Земле почти 5 миллионов гектаров, чуть ли не каждое второе плодовое дерево – это ябло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40000"/>
              </a:lnSpc>
              <a:spcBef>
                <a:spcPts val="700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Чем меньше яблоко, тем больше оно содержит витами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9"/>
          <p:cNvSpPr/>
          <p:nvPr/>
        </p:nvSpPr>
        <p:spPr>
          <a:xfrm>
            <a:off x="7467480" y="5943600"/>
            <a:ext cx="1219320" cy="380880"/>
          </a:xfrm>
          <a:prstGeom prst="rightArrow">
            <a:avLst>
              <a:gd name="adj1" fmla="val 50000"/>
              <a:gd name="adj2" fmla="val 70829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3399"/>
                </a:solidFill>
                <a:uFillTx/>
                <a:latin typeface="Monotype Corsiva"/>
              </a:rPr>
              <a:t>Структура и навигаци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2" action="ppaction://hlinksldjump"/>
              </a:rPr>
              <a:t>Что такое яблок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3" action="ppaction://hlinksldjump"/>
              </a:rPr>
              <a:t>Сорта ябл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4" action="ppaction://hlinksldjump"/>
              </a:rPr>
              <a:t>Целебная польза ябл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5" action="ppaction://hlinksldjump"/>
              </a:rPr>
              <a:t>Загадки о ябло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6" action="ppaction://hlinksldjump"/>
              </a:rPr>
              <a:t>Пословицы о ябло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7" action="ppaction://hlinksldjump"/>
              </a:rPr>
              <a:t>Стихи о ябло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Книги о ябло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9" action="ppaction://hlinksldjump"/>
              </a:rPr>
              <a:t>Яблоко в наших с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10" action="ppaction://hlinksldjump"/>
              </a:rPr>
              <a:t>Это интерес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11" action="ppaction://hlinksldjump"/>
              </a:rPr>
              <a:t>Что можно приготовить из ябл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9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12" action="ppaction://hlinksldjump"/>
              </a:rPr>
              <a:t>Источники информации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Monotype Corsiva"/>
                <a:hlinkClick r:id="rId13" action="ppaction://hlinksldjump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4"/>
          <a:stretch/>
        </p:blipFill>
        <p:spPr>
          <a:xfrm>
            <a:off x="4191120" y="1295280"/>
            <a:ext cx="4800600" cy="36068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66"/>
                </a:solidFill>
                <a:uFillTx/>
                <a:latin typeface="Monotype Corsiva"/>
              </a:rPr>
              <a:t>Хранить яблоки</a:t>
            </a:r>
            <a:r>
              <a:rPr b="1" lang="en-US" sz="4000" spc="-1" strike="noStrike" u="sng">
                <a:solidFill>
                  <a:srgbClr val="ff0066"/>
                </a:solidFill>
                <a:uFillTx/>
                <a:latin typeface="Monotype Corsiva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нужно в темном прохладном месте, лучше всего, если это будет погреб, так можно сохранить фрукты на более длительный срок.</a:t>
            </a:r>
            <a:r>
              <a:rPr b="1" lang="en-US" sz="4800" spc="-1" strike="noStrike">
                <a:solidFill>
                  <a:srgbClr val="990099"/>
                </a:solidFill>
                <a:latin typeface="Monotype Corsiv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7043760" cy="480060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9546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3399"/>
                </a:solidFill>
                <a:uFillTx/>
                <a:latin typeface="Monotype Corsiva"/>
              </a:rPr>
              <a:t>Что можно приготовить из яблок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838080"/>
            <a:ext cx="5334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Яблоки едят свежие, мочёные,  печёные, засахаренные, квашеные, маринова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Из яблок делают сок, яблочный  квас, сиропы, компоты, салаты,  муссы, пюре, суфле, шарлотку,  оладьи, пироги, торты, мармел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Их режут кусочками и </a:t>
            </a:r>
            <a:r>
              <a:rPr b="1" i="1" lang="en-US" sz="3200" spc="-1" strike="noStrike">
                <a:solidFill>
                  <a:srgbClr val="990099"/>
                </a:solidFill>
                <a:latin typeface="Monotype Corsiva"/>
              </a:rPr>
              <a:t>cy</a:t>
            </a: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шат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Варят из яблок варенье, джем, повидло и т.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05520" y="882720"/>
            <a:ext cx="4038480" cy="2388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81480" y="3772080"/>
            <a:ext cx="3810240" cy="2854080"/>
          </a:xfrm>
          <a:prstGeom prst="rect">
            <a:avLst/>
          </a:prstGeom>
          <a:ln w="0">
            <a:noFill/>
          </a:ln>
        </p:spPr>
      </p:pic>
      <p:sp>
        <p:nvSpPr>
          <p:cNvPr id="90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9546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Monotype Corsiva"/>
              </a:rPr>
              <a:t>Мы любим яблоки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6019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99"/>
                </a:solidFill>
                <a:uFillTx/>
                <a:latin typeface="Monotype Corsiva"/>
              </a:rPr>
              <a:t>Источники информ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mages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eti86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ru.wikipedia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openclass.ru/node/1966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sunhome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6095880" y="152280"/>
            <a:ext cx="2772000" cy="2081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2362320" y="4133880"/>
            <a:ext cx="4114800" cy="2724120"/>
          </a:xfrm>
          <a:prstGeom prst="rect">
            <a:avLst/>
          </a:prstGeom>
          <a:ln w="0">
            <a:noFill/>
          </a:ln>
        </p:spPr>
      </p:pic>
      <p:sp>
        <p:nvSpPr>
          <p:cNvPr id="97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9546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Monotype Corsiva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14400" y="831960"/>
            <a:ext cx="7467480" cy="58798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3399"/>
                </a:solidFill>
                <a:uFillTx/>
                <a:latin typeface="Monotype Corsiva"/>
              </a:rPr>
              <a:t>Что такое яблоко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00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Monotype Corsiva"/>
              </a:rPr>
              <a:t>Яблоко</a:t>
            </a: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 — плод яблон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который употребляе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в пищу в свежем вид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служит сырьём в кулинарии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для приготовления напитк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Считается, что родиной яблони является Центральная Аз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867280" y="152280"/>
            <a:ext cx="3159360" cy="3295800"/>
          </a:xfrm>
          <a:prstGeom prst="rect">
            <a:avLst/>
          </a:prstGeom>
          <a:ln w="0">
            <a:noFill/>
          </a:ln>
        </p:spPr>
      </p:pic>
      <p:sp>
        <p:nvSpPr>
          <p:cNvPr id="51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9546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34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3399"/>
                </a:solidFill>
                <a:uFillTx/>
                <a:latin typeface="Monotype Corsiva"/>
              </a:rPr>
              <a:t>Сорта ябл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Monotype Corsiva"/>
              </a:rPr>
              <a:t>Летние:</a:t>
            </a:r>
            <a:r>
              <a:rPr b="1" i="1" lang="ru-RU" sz="32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Мелба, Белый нали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Золотая китай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Московская груш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Monotype Corsiva"/>
              </a:rPr>
              <a:t>Осенние:</a:t>
            </a:r>
            <a:r>
              <a:rPr b="1" i="1" lang="ru-RU" sz="32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Алма, Жигулевское, Антоновка, Слава победителю, Орловское полосатое, Апорт, Бессемянка новая, Боровинка, Волжская красавица, Анис а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Monotype Corsiva"/>
              </a:rPr>
              <a:t>Зимние:</a:t>
            </a:r>
            <a:r>
              <a:rPr b="1" i="1" lang="ru-RU" sz="32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Богатырь, Апрельское, Лобо, Пепин шафранный, Память Мичурина, Голд, Беркутовское, Лесостепное, Россошанское полосатое, Ренет золотой Курский, Кортланд, Синап северный, Амарилл, Антоновка обыкновенная, Анис новый, Башкирский красавец, Бабушк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57800" y="96840"/>
            <a:ext cx="3733920" cy="2751120"/>
          </a:xfrm>
          <a:prstGeom prst="rect">
            <a:avLst/>
          </a:prstGeom>
          <a:ln w="0">
            <a:noFill/>
          </a:ln>
        </p:spPr>
      </p:pic>
      <p:sp>
        <p:nvSpPr>
          <p:cNvPr id="55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9546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56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99"/>
                </a:solidFill>
                <a:uFillTx/>
                <a:latin typeface="Monotype Corsiva"/>
              </a:rPr>
              <a:t>Целебная польза ябл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726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Яблоки содержат много железа, их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справедливо считают хорошим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помощником при анеми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26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Яблоки применяются при авитаминозе, понижении уровня витамина С, малокровии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26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Яблоки способствуют нормализации деятельности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желудочно-кишечного тракта и пищеварительной системы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26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Яблоки снижают уровень холестерина в крови из-за содержания пектина и соответствующих волокон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26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Сок яблок хорошо укрепляет сердечно-сосудистую систему, полезен людям умственного труда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26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Кислые сорта яблок принимают при заболеваниях желудк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224760" y="0"/>
            <a:ext cx="2919240" cy="2197080"/>
          </a:xfrm>
          <a:prstGeom prst="rect">
            <a:avLst/>
          </a:prstGeom>
          <a:ln w="0">
            <a:noFill/>
          </a:ln>
        </p:spPr>
      </p:pic>
      <p:sp>
        <p:nvSpPr>
          <p:cNvPr id="59" name="Стрелка вправо 9"/>
          <p:cNvSpPr/>
          <p:nvPr/>
        </p:nvSpPr>
        <p:spPr>
          <a:xfrm>
            <a:off x="7620120" y="5943600"/>
            <a:ext cx="1295280" cy="457200"/>
          </a:xfrm>
          <a:prstGeom prst="rightArrow">
            <a:avLst>
              <a:gd name="adj1" fmla="val 50000"/>
              <a:gd name="adj2" fmla="val 62682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3399"/>
                </a:solidFill>
                <a:uFillTx/>
                <a:latin typeface="Monotype Corsiva"/>
              </a:rPr>
              <a:t>Загадки о яблока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Само с кулачок, красный боч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Потрогаешь - гладко, откусишь – слад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Monotype Corsiva"/>
              </a:rPr>
              <a:t>Сочные, душистые, румяные, волшеб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6600cc"/>
                </a:solidFill>
                <a:latin typeface="Monotype Corsiva"/>
              </a:rPr>
              <a:t>На деревьях мы растем.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Круглое, румяное с дерева достану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На тарелку положу, «Кушай, мамочка»,- скаж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Monotype Corsiva"/>
              </a:rPr>
              <a:t>Я румяную Матрешку от подруг не оторв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6600cc"/>
                </a:solidFill>
                <a:latin typeface="Monotype Corsiva"/>
              </a:rPr>
              <a:t>Подожду, когда Матрешка упадёт сама в тра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Круглое, румяное,   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Я расту на вет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Любят меня взросл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И маленькие де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562720" y="4724280"/>
            <a:ext cx="2004840" cy="2000520"/>
          </a:xfrm>
          <a:prstGeom prst="rect">
            <a:avLst/>
          </a:prstGeom>
          <a:ln w="0">
            <a:noFill/>
          </a:ln>
        </p:spPr>
      </p:pic>
      <p:sp>
        <p:nvSpPr>
          <p:cNvPr id="63" name="Стрелка вправо 9"/>
          <p:cNvSpPr/>
          <p:nvPr/>
        </p:nvSpPr>
        <p:spPr>
          <a:xfrm>
            <a:off x="7620120" y="6400800"/>
            <a:ext cx="1218960" cy="457200"/>
          </a:xfrm>
          <a:prstGeom prst="rightArrow">
            <a:avLst>
              <a:gd name="adj1" fmla="val 50000"/>
              <a:gd name="adj2" fmla="val 58988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mily2011</cp:lastModifiedBy>
  <dcterms:modified xsi:type="dcterms:W3CDTF">2012-11-10T18:38:2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