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38B-2B34-4FC9-B2F2-A5CBE992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270-8DE6-486B-8EEC-6A7A07E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DA3-15B1-4FE9-B830-C7A1DA4F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2C3-A244-481D-9952-D85AADB2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6EC-346D-4142-B9D5-9AD99139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3AC-4CA0-46F6-B9A7-DCE97BA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08A-E26D-4F6E-A93C-C808B5C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46F-BDA1-424A-819F-FD20323A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179-86B3-4BAB-A6CD-38F8BB40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A63-2D46-4CCD-AFFA-A405CE1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450-D2D0-4C1B-B758-4C420B1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30D-DF96-42DA-89A7-E60312A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D80-018C-4991-A237-8B7377998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deti86.ru/" TargetMode="External"/><Relationship Id="rId5" Type="http://schemas.openxmlformats.org/officeDocument/2006/relationships/hyperlink" Target="http://ru.wikipedia.org/" TargetMode="External"/><Relationship Id="rId6" Type="http://schemas.openxmlformats.org/officeDocument/2006/relationships/hyperlink" Target="http://www.openclass.ru/node/196671" TargetMode="External"/><Relationship Id="rId7" Type="http://schemas.openxmlformats.org/officeDocument/2006/relationships/hyperlink" Target="http://www.sunhome.ru/" TargetMode="External"/><Relationship Id="rId8" Type="http://schemas.openxmlformats.org/officeDocument/2006/relationships/hyperlink" Target="http://www.sunhome.ru/" TargetMode="External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Monotype Corsiva"/>
              </a:rPr>
              <a:t>Проект «Осенняя мозаика»</a:t>
            </a:r>
            <a:br>
              <a:rPr sz="5400"/>
            </a:br>
            <a:r>
              <a:rPr b="1" lang="en-US" sz="4400" spc="-1" strike="noStrike">
                <a:solidFill>
                  <a:srgbClr val="ff3399"/>
                </a:solidFill>
                <a:latin typeface="Monotype Corsiva"/>
              </a:rPr>
              <a:t>Команда «Спелые яблочки»</a:t>
            </a:r>
            <a:br>
              <a:rPr sz="44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Презентация</a:t>
            </a:r>
            <a:br>
              <a:rPr sz="4000"/>
            </a:br>
            <a:r>
              <a:rPr b="1" lang="en-US" sz="6000" spc="-1" strike="noStrike">
                <a:solidFill>
                  <a:srgbClr val="336600"/>
                </a:solidFill>
                <a:latin typeface="Monotype Corsiva"/>
              </a:rPr>
              <a:t>«ВСЁ О ЯБЛОЧКАХ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3885840"/>
            <a:ext cx="4724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99"/>
                </a:solidFill>
                <a:uFillTx/>
                <a:latin typeface="Monotype Corsiva"/>
              </a:rPr>
              <a:t>Подготов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обучающиеся 2 а и 2 б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МБОУ «СОШ № 8 г. Петров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Саратовской обла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99"/>
                </a:solidFill>
                <a:uFillTx/>
                <a:latin typeface="Monotype Corsiva"/>
              </a:rPr>
              <a:t>Руководители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:  Борис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              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Шит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6472080"/>
            <a:ext cx="99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Monotype Corsiva"/>
              </a:rPr>
              <a:t>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3733920" cy="27446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Пословицы о яблок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Хочешь съесть яблоко – посади ябло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Не залезешь на дерево – не сорвёшь ябло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Будет пчела на цветке – будет и яблоко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Всякое яблоко стремится стать ябло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У соседа яблоки всегда кажутся вкус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Не срывай яблока, пока зелено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созреет – само упадё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Кто яблоко в день съед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тот у врача не</a:t>
            </a:r>
            <a:r>
              <a:rPr b="0" lang="en-US" sz="36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бы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207792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Стихи о яблок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Осенние яблоки. 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сень кисточку достал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Листья красить принялась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о, раскрасив щедро клены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Все равно не унялась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Забрела, гуляя, осень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В облетевшие сады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а ветвях в прозрачных кронах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Яблоки как фонари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сень даже растерялась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Хватит ли её на все: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чень много поздних яблок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Мало красок у нее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размыслила немного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И решила не мудрить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Да на яблоках зеленых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Щечки красным окропить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Тем, что с желтыми плодами –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Гуще сделала тон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А бордовым (как «китайка»)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Фиолетовый дала.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Долго осень рисовала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Краски выложила все,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о теперь плодам осенним </a:t>
            </a:r>
            <a:br>
              <a:rPr sz="18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Не откажешь в крас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ЯБЛОКО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тучится яблоко в окн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ружинит, гнётся ветка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саду промозгло и темн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Гудит в трубе от ветра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о всеми, кажется, росло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солнцем наливалось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Теперь на ветке, как назло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абытое осталось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Что проку в яблоке одном!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А знать - совсем немало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орвал его, принёс я в дом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солнечнее стало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апахло сеном и росой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Грозою и рассветом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 ливень, и июльский зной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лубке пахучем этом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него веселья сок налит..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Ненастною порою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ускай мне сердце веселит,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Когда буфет открою... 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Михаил Садов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право 9"/>
          <p:cNvSpPr/>
          <p:nvPr/>
        </p:nvSpPr>
        <p:spPr>
          <a:xfrm>
            <a:off x="4343400" y="6400800"/>
            <a:ext cx="1295280" cy="457200"/>
          </a:xfrm>
          <a:prstGeom prst="rightArrow">
            <a:avLst>
              <a:gd name="adj1" fmla="val 50000"/>
              <a:gd name="adj2" fmla="val 62682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172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Книги </a:t>
            </a:r>
            <a:br>
              <a:rPr sz="6600"/>
            </a:b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о ябло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Иван Бунин - «Антоновские ябло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Иван Дубровин - «Все об обычных яблок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Алексей Толстой – «Сказка о молодильных яблоках и живой вод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Владимир Сутеев – «Мешок яб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Эдуард Доминов – «Яблочный укс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Monotype Corsiva"/>
              </a:rPr>
              <a:t>Вадим Зеланд – «Яблоки падают в неб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84560"/>
          </a:xfrm>
          <a:prstGeom prst="rect">
            <a:avLst/>
          </a:prstGeom>
          <a:ln w="0">
            <a:noFill/>
          </a:ln>
        </p:spPr>
      </p:pic>
      <p:sp>
        <p:nvSpPr>
          <p:cNvPr id="7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Яблоко в наших снах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Видеть 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во сне – очень хорош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Красные 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на деревьях в зелёной листве – благоприятный с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Есть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порченые яблоки – сон не сулит добра.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Спелые яблоки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на дереве – настало время смело двигаться вперёд.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Спелые яблоки </a:t>
            </a: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на вершин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дерева – не заноситесь в своих желаниях слишком высоко;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Яблоки на земл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– Вам причинят вред фальшивые друзья и льстецы;</a:t>
            </a:r>
            <a:br>
              <a:rPr sz="3600"/>
            </a:br>
            <a:r>
              <a:rPr b="1" lang="en-US" sz="3600" spc="-1" strike="noStrike">
                <a:solidFill>
                  <a:srgbClr val="ff3399"/>
                </a:solidFill>
                <a:latin typeface="Monotype Corsiva"/>
              </a:rPr>
              <a:t>Гнилые</a:t>
            </a:r>
            <a:r>
              <a:rPr b="1" lang="en-US" sz="3600" spc="-1" strike="noStrike">
                <a:solidFill>
                  <a:srgbClr val="990099"/>
                </a:solidFill>
                <a:latin typeface="Monotype Corsiva"/>
              </a:rPr>
              <a:t> яблоки – бесплодные уси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576440" cy="167184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Это интерес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Самая длинная яблочная кожура занесена в Книгу рекордов Гиннеса. Американка Кэти Волфер 16 октября 1976 года в Нью-Йорке чистила яблоко в течении 11 часов 30 минут и получила кожуру длиной 52 метра 51 сантиме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Самое тяжелое яблоко было выращено японцем Хисато Ивасаки, его вес составил 1,85 кил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Яблоневые сады занимают на Земле почти 5 миллионов гектаров, чуть ли не каждое второе плодовое дерево – это ябл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4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Чем меньше яблоко, тем больше оно содержит витам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9"/>
          <p:cNvSpPr/>
          <p:nvPr/>
        </p:nvSpPr>
        <p:spPr>
          <a:xfrm>
            <a:off x="7467480" y="5943600"/>
            <a:ext cx="1219320" cy="380880"/>
          </a:xfrm>
          <a:prstGeom prst="rightArrow">
            <a:avLst>
              <a:gd name="adj1" fmla="val 50000"/>
              <a:gd name="adj2" fmla="val 70829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99"/>
                </a:solidFill>
                <a:uFillTx/>
                <a:latin typeface="Monotype Corsiva"/>
              </a:rPr>
              <a:t>Структура и навигац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2" action="ppaction://hlinksldjump"/>
              </a:rPr>
              <a:t>Что такое ябл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3" action="ppaction://hlinksldjump"/>
              </a:rPr>
              <a:t>Сорта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4" action="ppaction://hlinksldjump"/>
              </a:rPr>
              <a:t>Целебная польза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Загадк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Пословицы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Стих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Книги о ябл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Яблоко в наших с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1" action="ppaction://hlinksldjump"/>
              </a:rPr>
              <a:t>Что можно приготовить из яб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9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12" action="ppaction://hlinksldjump"/>
              </a:rPr>
              <a:t>Источники информации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Monotype Corsiva"/>
                <a:hlinkClick r:id="rId13" action="ppaction://hlinksldjump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4"/>
          <a:stretch/>
        </p:blipFill>
        <p:spPr>
          <a:xfrm>
            <a:off x="4191120" y="1295280"/>
            <a:ext cx="4800600" cy="36068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Monotype Corsiva"/>
              </a:rPr>
              <a:t>Хранить яблоки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Monotype Corsiva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нужно в темном прохладном месте, лучше всего, если это будет погреб, так можно сохранить фрукты на более длительный срок.</a:t>
            </a:r>
            <a:r>
              <a:rPr b="1" lang="en-US" sz="4800" spc="-1" strike="noStrike">
                <a:solidFill>
                  <a:srgbClr val="990099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043760" cy="480060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Что можно приготовить из ябло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38080"/>
            <a:ext cx="5334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Яблоки едят свежие, мочёные,  печёные, засахаренные, квашеные, маринов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Из яблок делают сок, яблочный  квас, сиропы, компоты, салаты,  муссы, пюре, суфле, шарлотку,  оладьи, пироги, торты, марме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Их режут кусочками и </a:t>
            </a: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cy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ша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Варят из яблок варенье, джем, повидло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882720"/>
            <a:ext cx="4038480" cy="238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81480" y="3772080"/>
            <a:ext cx="3810240" cy="285408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Мы любим ябло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6019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99"/>
                </a:solidFill>
                <a:uFillTx/>
                <a:latin typeface="Monotype Corsiva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eti86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openclass.ru/node/196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unhom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095880" y="152280"/>
            <a:ext cx="2772000" cy="2081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362320" y="4133880"/>
            <a:ext cx="4114800" cy="272412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831960"/>
            <a:ext cx="7467480" cy="58798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Что такое яблок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Monotype Corsiva"/>
              </a:rPr>
              <a:t>Яблоко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 — плод яблон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который употреб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в пищу в свежем вид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служит сырьём в кулинари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для приготовления напит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Считается, что родиной яблони является Центральная Аз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3159360" cy="329580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99"/>
                </a:solidFill>
                <a:uFillTx/>
                <a:latin typeface="Monotype Corsiva"/>
              </a:rPr>
              <a:t>Сорта ябл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Лет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Мелба, Белый нали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Золотая китай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Московская груш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Осен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Алма, Жигулевское, Антоновка, Слава победителю, Орловское полосатое, Апорт, Бессемянка новая, Боровинка, Волжская красавица, Анис а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Зимние:</a:t>
            </a: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Monotype Corsiva"/>
              </a:rPr>
              <a:t>Богатырь, Апрельское, Лобо, Пепин шафранный, Память Мичурина, Голд, Беркутовское, Лесостепное, Россошанское полосатое, Ренет золотой Курский, Кортланд, Синап северный, Амарилл, Антоновка обыкновенная, Анис новый, Башкирский красавец, Бабуш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96840"/>
            <a:ext cx="3733920" cy="275112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9546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99"/>
                </a:solidFill>
                <a:uFillTx/>
                <a:latin typeface="Monotype Corsiva"/>
              </a:rPr>
              <a:t>Целебная польза ябл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одержат много железа, их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справедливо считают хорошим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помощником при анеми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применяются при авитаминозе, понижении уровня витамина С, малокрови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пособствуют нормализации деятельност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желудочно-кишечного тракта и пищеварительной систем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Яблоки снижают уровень холестерина в крови из-за содержания пектина и соответствующих волокон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Сок яблок хорошо укрепляет сердечно-сосудистую систему, полезен людям умственного труда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26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99"/>
                </a:solidFill>
                <a:latin typeface="Monotype Corsiva"/>
              </a:rPr>
              <a:t>Кислые сорта яблок принимают при заболеваниях желуд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4760" y="0"/>
            <a:ext cx="2919240" cy="2197080"/>
          </a:xfrm>
          <a:prstGeom prst="rect">
            <a:avLst/>
          </a:prstGeom>
          <a:ln w="0">
            <a:noFill/>
          </a:ln>
        </p:spPr>
      </p:pic>
      <p:sp>
        <p:nvSpPr>
          <p:cNvPr id="59" name="Стрелка вправо 9"/>
          <p:cNvSpPr/>
          <p:nvPr/>
        </p:nvSpPr>
        <p:spPr>
          <a:xfrm>
            <a:off x="7620120" y="5943600"/>
            <a:ext cx="1295280" cy="457200"/>
          </a:xfrm>
          <a:prstGeom prst="rightArrow">
            <a:avLst>
              <a:gd name="adj1" fmla="val 50000"/>
              <a:gd name="adj2" fmla="val 62682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99"/>
                </a:solidFill>
                <a:uFillTx/>
                <a:latin typeface="Monotype Corsiva"/>
              </a:rPr>
              <a:t>Загадки о ябло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Само с кулачок, красный боч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Потрогаешь - гладко, откусишь – сла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Сочные, душистые, румяные, волшеб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На деревьях мы растем.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Круглое, румяное с дерева достану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На тарелку положу, «Кушай, мамочка»,- ска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Я румяную Матрешку от подруг не отор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Подожду, когда Матрешка упадёт сама в тр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Круглое, румяное,   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Любят меня взросл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Monotype Corsiva"/>
              </a:rPr>
              <a:t>И маленькие д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62720" y="4724280"/>
            <a:ext cx="2004840" cy="2000520"/>
          </a:xfrm>
          <a:prstGeom prst="rect">
            <a:avLst/>
          </a:prstGeom>
          <a:ln w="0">
            <a:noFill/>
          </a:ln>
        </p:spPr>
      </p:pic>
      <p:sp>
        <p:nvSpPr>
          <p:cNvPr id="63" name="Стрелка вправо 9"/>
          <p:cNvSpPr/>
          <p:nvPr/>
        </p:nvSpPr>
        <p:spPr>
          <a:xfrm>
            <a:off x="7620120" y="6400800"/>
            <a:ext cx="1218960" cy="457200"/>
          </a:xfrm>
          <a:prstGeom prst="rightArrow">
            <a:avLst>
              <a:gd name="adj1" fmla="val 50000"/>
              <a:gd name="adj2" fmla="val 58988"/>
            </a:avLst>
          </a:prstGeom>
          <a:solidFill>
            <a:srgbClr val="bbe0e3"/>
          </a:solidFill>
          <a:ln w="25560">
            <a:solidFill>
              <a:srgbClr val="a5a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mily2011</cp:lastModifiedBy>
  <dcterms:modified xsi:type="dcterms:W3CDTF">2012-11-10T18:38:2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