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3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390-D1AD-4B5A-B933-A92657F7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ECA-0107-4AFF-ADB5-9EBD3B0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38C-22C6-415A-A56B-B961A177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ECA-DB12-47B1-8DAD-DDF3BA79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5BA-8B92-440F-A76D-9173EEDA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B19-5E6E-41ED-9A71-FE38FA13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849-4F71-404C-9D8A-AE030220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4A9-6CEC-448A-9DEE-617CBA0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133-2140-40F2-A4D1-3766E1E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C5A-A387-407E-90BB-F103CBD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DF1-7163-453C-B0ED-2E71FE5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B7D-48B3-4EB4-B08A-58A6F2D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92B-DD31-4232-8061-1E26D266B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14400" y="8607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 НАЧАЛЬНОЙ ШК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ЗИЦИИ ТРЕБОВАНИЙ ФГОС Н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4"/>
          <p:cNvSpPr/>
          <p:nvPr/>
        </p:nvSpPr>
        <p:spPr>
          <a:xfrm>
            <a:off x="6705720" y="1295280"/>
            <a:ext cx="2286000" cy="438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305000" y="1573200"/>
            <a:ext cx="2011320" cy="35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04640" y="102240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04640" y="290052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уковой анализ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04640" y="481824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ф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762200" y="2114640"/>
            <a:ext cx="109692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гласных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828800" y="3352680"/>
            <a:ext cx="109692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согласных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4572000" y="1066680"/>
            <a:ext cx="1371600" cy="11890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 по словар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4267080" y="2590920"/>
            <a:ext cx="1600200" cy="1371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ОСП с помощью изменения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495680" y="4446720"/>
            <a:ext cx="167652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ОСП с помощью родственных с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7315200" y="1752480"/>
            <a:ext cx="1096920" cy="82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, оконч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7391520" y="2971800"/>
            <a:ext cx="1096920" cy="82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нь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391520" y="4114800"/>
            <a:ext cx="1189080" cy="82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тавка, суфф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990720" y="1981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91440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V="1">
            <a:off x="1523880" y="2895480"/>
            <a:ext cx="457200" cy="1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447920" y="388620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1523880" y="4190760"/>
            <a:ext cx="609840" cy="671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523880" y="1295280"/>
            <a:ext cx="21337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581280" y="144792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 flipV="1">
            <a:off x="1523880" y="5257440"/>
            <a:ext cx="30481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352680" y="3048120"/>
            <a:ext cx="1027080" cy="20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3200400" y="4267080"/>
            <a:ext cx="1351080" cy="64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V="1">
            <a:off x="5867280" y="2438280"/>
            <a:ext cx="152424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784872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777240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6171840" y="3581280"/>
            <a:ext cx="121932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7"/>
          <p:cNvSpPr txBox="1"/>
          <p:nvPr/>
        </p:nvSpPr>
        <p:spPr>
          <a:xfrm>
            <a:off x="7086600" y="1143000"/>
            <a:ext cx="155412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чимые части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990720" y="-28080"/>
            <a:ext cx="72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арта  движения по русскому языку ( 2 класс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609480" y="57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4822920" y="99252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3963960" y="15386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-609480" y="217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7164360" y="29102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5"/>
          <p:cNvSpPr/>
          <p:nvPr/>
        </p:nvSpPr>
        <p:spPr>
          <a:xfrm>
            <a:off x="175248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7"/>
          <p:cNvSpPr/>
          <p:nvPr/>
        </p:nvSpPr>
        <p:spPr>
          <a:xfrm>
            <a:off x="6326280" y="22244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341280" y="38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822920" y="398340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34128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990720" y="5743440"/>
            <a:ext cx="35938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словные обознач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ый цвет -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мы зна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цвет -  находится в ситуации формир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 flipV="1">
            <a:off x="3124080" y="19047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ценочный лист «СПИСЫ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оцен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шиб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шиб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р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ая ст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бу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оценивания. Моделировани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ирова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0"/>
          <p:cNvGraphicFramePr/>
          <p:nvPr/>
        </p:nvGraphicFramePr>
        <p:xfrm>
          <a:off x="5105520" y="1447920"/>
          <a:ext cx="240336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2403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7" descr="File0989"/>
          <p:cNvPicPr/>
          <p:nvPr/>
        </p:nvPicPr>
        <p:blipFill>
          <a:blip r:embed="rId3"/>
          <a:stretch/>
        </p:blipFill>
        <p:spPr>
          <a:xfrm>
            <a:off x="609480" y="1676520"/>
            <a:ext cx="3581640" cy="21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File0976"/>
          <p:cNvPicPr/>
          <p:nvPr/>
        </p:nvPicPr>
        <p:blipFill>
          <a:blip r:embed="rId4"/>
          <a:stretch/>
        </p:blipFill>
        <p:spPr>
          <a:xfrm>
            <a:off x="5892840" y="3962520"/>
            <a:ext cx="271764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12"/>
          <p:cNvGraphicFramePr/>
          <p:nvPr/>
        </p:nvGraphicFramePr>
        <p:xfrm>
          <a:off x="2666880" y="3962520"/>
          <a:ext cx="2889360" cy="2187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962520"/>
                    <a:ext cx="2889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ки для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ЗВАНИЯ   КОМПОНЕНТОВ   СЛОЖЕНИЯ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                  +                4             =         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                 +                3             =         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Часть                         Часть                      Цело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лагаемое                Слагаемое               Сум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НАЗВАНИЯ  КОМПОНЕНТОВ   ВЫЧИТА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                -                  4              =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                 -                  3              =          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Целое                        Часть                       Част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Уменьшаемое           Вычитаемое            Разност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МН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Чтобы найти целое, надо сложить част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Чтобы найти одну часть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до из целого отнять вторую част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адо зн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фограмма – это такое место в слов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ы выбираем бу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исьме орфограммы подчёркива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куратно двумя чертами карандаш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бывают орф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Орфограмма начала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чало предложения всегда пишется с больш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Орфограмма собственного и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большой буквы пишутся имена, фамил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ства людей, клички животных, название гор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и и другие геогра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ния……………………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Орфограмма шипящих зву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уквосочетания жи - ши пиши с буквой 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- ше пиши с буквой 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опроверка. Взаимопровер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File1000"/>
          <p:cNvPicPr/>
          <p:nvPr/>
        </p:nvPicPr>
        <p:blipFill>
          <a:blip r:embed="rId1"/>
          <a:stretch/>
        </p:blipFill>
        <p:spPr>
          <a:xfrm>
            <a:off x="941400" y="1600200"/>
            <a:ext cx="306864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ile1001"/>
          <p:cNvPicPr/>
          <p:nvPr/>
        </p:nvPicPr>
        <p:blipFill>
          <a:blip r:embed="rId2"/>
          <a:stretch/>
        </p:blipFill>
        <p:spPr>
          <a:xfrm>
            <a:off x="5168880" y="1690560"/>
            <a:ext cx="2997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сознание своего знания и незнания в решении заданий с «ловушками»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ile0804"/>
          <p:cNvPicPr/>
          <p:nvPr/>
        </p:nvPicPr>
        <p:blipFill>
          <a:blip r:embed="rId1"/>
          <a:stretch/>
        </p:blipFill>
        <p:spPr>
          <a:xfrm>
            <a:off x="976320" y="1600200"/>
            <a:ext cx="300024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File0710"/>
          <p:cNvPicPr/>
          <p:nvPr/>
        </p:nvPicPr>
        <p:blipFill>
          <a:blip r:embed="rId2"/>
          <a:stretch/>
        </p:blipFill>
        <p:spPr>
          <a:xfrm>
            <a:off x="5175360" y="1690560"/>
            <a:ext cx="29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дение 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le1004"/>
          <p:cNvPicPr/>
          <p:nvPr/>
        </p:nvPicPr>
        <p:blipFill>
          <a:blip r:embed="rId1"/>
          <a:stretch/>
        </p:blipFill>
        <p:spPr>
          <a:xfrm>
            <a:off x="954000" y="1728720"/>
            <a:ext cx="3043440" cy="426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1003"/>
          <p:cNvPicPr/>
          <p:nvPr/>
        </p:nvPicPr>
        <p:blipFill>
          <a:blip r:embed="rId2"/>
          <a:stretch/>
        </p:blipFill>
        <p:spPr>
          <a:xfrm>
            <a:off x="5122800" y="1654200"/>
            <a:ext cx="3087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дение 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File1013"/>
          <p:cNvPicPr/>
          <p:nvPr/>
        </p:nvPicPr>
        <p:blipFill>
          <a:blip r:embed="rId1"/>
          <a:stretch/>
        </p:blipFill>
        <p:spPr>
          <a:xfrm>
            <a:off x="1001880" y="1600200"/>
            <a:ext cx="294768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ile1014"/>
          <p:cNvPicPr/>
          <p:nvPr/>
        </p:nvPicPr>
        <p:blipFill>
          <a:blip r:embed="rId2"/>
          <a:stretch/>
        </p:blipFill>
        <p:spPr>
          <a:xfrm>
            <a:off x="5013360" y="1600200"/>
            <a:ext cx="330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ение портфолио «я в предме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File1005"/>
          <p:cNvPicPr/>
          <p:nvPr/>
        </p:nvPicPr>
        <p:blipFill>
          <a:blip r:embed="rId1"/>
          <a:stretch/>
        </p:blipFill>
        <p:spPr>
          <a:xfrm>
            <a:off x="457200" y="1371600"/>
            <a:ext cx="3441600" cy="487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ile1007"/>
          <p:cNvPicPr/>
          <p:nvPr/>
        </p:nvPicPr>
        <p:blipFill>
          <a:blip r:embed="rId2"/>
          <a:stretch/>
        </p:blipFill>
        <p:spPr>
          <a:xfrm>
            <a:off x="4724280" y="1447920"/>
            <a:ext cx="349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ение портфолио «я в предме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ile1008"/>
          <p:cNvPicPr/>
          <p:nvPr/>
        </p:nvPicPr>
        <p:blipFill>
          <a:blip r:embed="rId1"/>
          <a:stretch/>
        </p:blipFill>
        <p:spPr>
          <a:xfrm>
            <a:off x="457200" y="990720"/>
            <a:ext cx="4191120" cy="306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ile1009"/>
          <p:cNvPicPr/>
          <p:nvPr/>
        </p:nvPicPr>
        <p:blipFill>
          <a:blip r:embed="rId2"/>
          <a:stretch/>
        </p:blipFill>
        <p:spPr>
          <a:xfrm>
            <a:off x="5486400" y="1295280"/>
            <a:ext cx="3303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ОБРАЗ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КУЛЬТУРНОЕ, ЛИЧНОСТНОЕ И ПОЗНАВАТЕЛЬ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604440" y="1297440"/>
            <a:ext cx="79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агностика и оценка  уровней сформированност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 оценки                (Регулятивные УУ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5960" y="1603440"/>
          <a:ext cx="6904080" cy="3962160"/>
        </p:xfrm>
        <a:graphic>
          <a:graphicData uri="http://schemas.openxmlformats.org/drawingml/2006/table">
            <a:tbl>
              <a:tblPr/>
              <a:tblGrid>
                <a:gridCol w="1238400"/>
                <a:gridCol w="900000"/>
                <a:gridCol w="882720"/>
                <a:gridCol w="892080"/>
                <a:gridCol w="1027080"/>
                <a:gridCol w="981000"/>
                <a:gridCol w="982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-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-ально-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-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Documents and Settings\Елена Валентиновна\Рабочий стол\фото 2 класс\DSC02547.JPG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Елена Валентиновна\Рабочий стол\фото 2 класс\DSC02561.JPG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бный проект по «Окружающему мир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3048120" y="2157480"/>
          <a:ext cx="30477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57480"/>
                    <a:ext cx="3047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3" descr="C:\Documents and Settings\Елена Валентиновна\Мои документы\Е.В.Рожнова\фото 1 -А класс\проект моя семья\DSC02347.JPG"/>
          <p:cNvPicPr/>
          <p:nvPr/>
        </p:nvPicPr>
        <p:blipFill>
          <a:blip r:embed="rId3"/>
          <a:stretch/>
        </p:blipFill>
        <p:spPr>
          <a:xfrm>
            <a:off x="98280" y="1600200"/>
            <a:ext cx="894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еурочное занятие «Я расскажу в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Елена Валентиновна\Мои документы\Е.В.Рожнова\фото 1 -А класс\учусь учиться\занятие Я расскажу вам про\DSC02397.JPG"/>
          <p:cNvPicPr/>
          <p:nvPr/>
        </p:nvPicPr>
        <p:blipFill>
          <a:blip r:embed="rId1"/>
          <a:stretch/>
        </p:blipFill>
        <p:spPr>
          <a:xfrm>
            <a:off x="98280" y="762120"/>
            <a:ext cx="8945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усь уч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Елена Валентиновна\Мои документы\Е.В.Рожнова\фото 1 -А класс\Умники и умницы\DSC02401.JPG"/>
          <p:cNvPicPr/>
          <p:nvPr/>
        </p:nvPicPr>
        <p:blipFill>
          <a:blip r:embed="rId1"/>
          <a:stretch/>
        </p:blipFill>
        <p:spPr>
          <a:xfrm>
            <a:off x="98280" y="1143000"/>
            <a:ext cx="8945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Елена Валентиновна\Мои документы\Е.В.Рожнова\фото 1 -А класс\ЭТИКЕТ МУЛЛАЕВА\DSC02441.JPG"/>
          <p:cNvPicPr/>
          <p:nvPr/>
        </p:nvPicPr>
        <p:blipFill>
          <a:blip r:embed="rId1"/>
          <a:stretch/>
        </p:blipFill>
        <p:spPr>
          <a:xfrm>
            <a:off x="98280" y="1295280"/>
            <a:ext cx="89456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ТЬ ПО ФГОС СЛОЖНО, НО МО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и результативност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Постановка цели урока с тенденцией передач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и от  учителя к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Систематическое обучение детей осуществлять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лексивное де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Использование разнообразных форм, методов и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емов обучения, повышающих степень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ихся в учеб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Учебный ди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Эффективное (адекватно цели урока) соч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продуктивной и проблемной фор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Специальное формирование контрольно-оцен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и у 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Оценивание реального про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го 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Планирование коммуникативных задач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Принятие и поощрение выражаемой уче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ой позиции, обучение коррект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Создание атмосферы психологического комф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 Личностное воздействие «учитель –  уче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ИСТИКА ДЕЯТЕЛЬНОСТИ 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914400"/>
          <a:ext cx="8458200" cy="5138640"/>
        </p:xfrm>
        <a:graphic>
          <a:graphicData uri="http://schemas.openxmlformats.org/drawingml/2006/table">
            <a:tbl>
              <a:tblPr/>
              <a:tblGrid>
                <a:gridCol w="1978200"/>
                <a:gridCol w="2022480"/>
                <a:gridCol w="44575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чь учите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е половины времени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дл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ть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деятельность п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ая, групповая,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и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рав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йд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и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олн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анализируйте, докажите, объяс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 символами, создайте сх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модель, выберите решение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решения, оцените, изме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айте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ндартное веде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средств ИКТ, привлечение родителе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914400"/>
          <a:ext cx="8229600" cy="5244840"/>
        </p:xfrm>
        <a:graphic>
          <a:graphicData uri="http://schemas.openxmlformats.org/drawingml/2006/table">
            <a:tbl>
              <a:tblPr/>
              <a:tblGrid>
                <a:gridCol w="2057400"/>
                <a:gridCol w="1835280"/>
                <a:gridCol w="433692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, дистанцио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ё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ётся обучающими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оздают учебный материа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и…) Зонирование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, личностны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фоли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, взаимооцен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декватной самооцен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динамики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самих себ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межуточн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, коррек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457200"/>
          <a:ext cx="8686800" cy="7002360"/>
        </p:xfrm>
        <a:graphic>
          <a:graphicData uri="http://schemas.openxmlformats.org/drawingml/2006/table">
            <a:tbl>
              <a:tblPr/>
              <a:tblGrid>
                <a:gridCol w="1219320"/>
                <a:gridCol w="3429000"/>
                <a:gridCol w="403848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рвоклассника традицио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рвоклассника при введении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слуш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по указанию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 пои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 поставленной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источнико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екоменд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 выбор необходи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нтернет рес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праш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деталей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средства обучения – учебник и тетр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средства обучения  - УМК, средства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- 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–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я цели,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ивания про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по учеб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о постановке УЗ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ю способов действий, поис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бработк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09480"/>
          <a:ext cx="8763120" cy="6539040"/>
        </p:xfrm>
        <a:graphic>
          <a:graphicData uri="http://schemas.openxmlformats.org/drawingml/2006/table">
            <a:tbl>
              <a:tblPr/>
              <a:tblGrid>
                <a:gridCol w="2514600"/>
                <a:gridCol w="2516040"/>
                <a:gridCol w="3732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а 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прин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и,субъект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включение в уче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, постепенное выстра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-субъект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чёт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ариа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 задания, свобод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и 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му проце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яца + трев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недель, сн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в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ая +внеур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(проектная в т.ч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Ы стандар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на прак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ов действия (нестандар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 в т.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учителя оценк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деква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и с учётом критери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я (опыт самооценк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проверки и самопровер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урока - сдиагностировать комплексный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ЦЕЛЬ: Формирование и развитие ценностного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обучающихся к совместной учебной деятельности по определению и примен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особов действия с предметным содержанием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со сложением и вычитанием через деся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ЛИЧНОСТНЫЕ УУД (Л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МЕТАПРЕДМЕТНЫЕ УУД (регулятивные, познавательные, коммуникативные) (М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НЫЕ РЕЗУЛЬТАТЫ (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 по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вое оценивание работы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File0988"/>
          <p:cNvPicPr/>
          <p:nvPr/>
        </p:nvPicPr>
        <p:blipFill>
          <a:blip r:embed="rId1"/>
          <a:stretch/>
        </p:blipFill>
        <p:spPr>
          <a:xfrm>
            <a:off x="704880" y="1600200"/>
            <a:ext cx="35416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ile0987"/>
          <p:cNvPicPr/>
          <p:nvPr/>
        </p:nvPicPr>
        <p:blipFill>
          <a:blip r:embed="rId2"/>
          <a:stretch/>
        </p:blipFill>
        <p:spPr>
          <a:xfrm>
            <a:off x="4965840" y="1600200"/>
            <a:ext cx="340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5T04:37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