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8BC5-F1D2-4C39-BD42-0196AF56F5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DD5D-01B4-44C9-A785-873C65D818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B47-E44E-425A-A34D-3B355F86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73E-4D5A-4904-ABFF-738E5F06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DA0-E761-479A-9324-EBDF39CB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998-B9C7-4CA7-AA71-E61C8085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3EC9-A3B5-4080-973B-31D70FA0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83E7-67EC-4168-AEA2-9637801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37C1-AEAB-4143-8F6A-3D986017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290A-C49B-4A0C-BEE3-647E7A16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FD63-E75B-4FAB-ABE1-87C1B4D2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D235-45A1-4F3F-A71C-2224EBB7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023D-6A99-43CB-A5FF-595E4B2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EC5-49CC-48BD-9E3F-D6277105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2E3D-E255-4C8E-80A7-021B3D0E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65B4-53EF-4388-ADCE-05239A1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A39-2A97-4C7A-BB5A-B04345AC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1121-4EDF-478B-91D7-CA0BEB62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E42C-E9A3-4A52-8613-488BCF2D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50510-C69C-4702-94E1-6B9641D3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7373D-5A34-4729-91F0-B9060A11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D53B8-7E18-4977-86C2-AC6E0B8C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D5AD9-D4C6-489C-B172-2C17D588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46F4D-A2C0-42A7-9D95-9CACD8E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2E0-53BD-4019-A64D-114CFFDF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DE7AC-F04E-4211-BB83-E05E268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EA9F3-0324-4B71-AE66-AA57DC6A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42C91-BAAF-49C4-9906-8B5B87BD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77CB4-A08D-499B-9202-D5417E5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C6D61-0EC4-41AC-8123-3365803D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B199F-0852-4194-9D9E-7C68554E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F6CCB-3355-48B8-BAA5-6328900A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C22A-5DBA-4155-879F-4882D322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E084-74DF-4999-AB00-89A9C271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94A6-7228-4FCE-9BC2-954E64A7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199-2E24-4198-8CD7-B32FC96B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81B2-4DC7-4991-8F92-820B9008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3D04-F1AC-44E9-A4E1-E0E6AC8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4FAD0-0F9F-4EAB-BBC7-D3CB3AA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49CED-D94D-4D57-B140-4D194F9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C846-1E13-40BF-BDFA-D60B9A1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FC01-D1D5-4AC4-8025-07F8A02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CEAB-6C6A-4C0D-8772-D721B6E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449A-6813-4FC8-BC5F-8D638821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2A1B-3A35-4E14-8FFC-95E9CB6E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8AC4F-E3ED-4D7D-88B6-2277B2A6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465-FC46-4B8E-B366-FCDE6452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3D9FA-3DD7-4F5D-994B-3F7484A9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0074B-C9C3-4519-A7BF-8092BF5C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0F7EF-FE4B-48AA-8AD6-7955FD20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92907-40B4-460E-A43B-E2A7F8A5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F0D09-48E2-42C4-A349-0B6CC68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37A7F-A5D0-436B-A588-CFD4482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8A64D-AC1C-46C2-A805-0F83D63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7A481-4E6E-4C51-AF75-2EC31DAE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81E92-BF8B-4308-83E5-9CD7A7BB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F7F5F-6378-4FA7-AD96-09F7EE47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24D-A78E-4E4B-A77F-D4ECDED0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C4480-0440-4C15-AD88-2BBC66E9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106A1-623A-489B-BC4D-D97CFF5A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C0894-A83F-4BB2-AA6E-F0621A31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015B5-7497-4C95-A10B-F4ACAC19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5D40E-777C-43F8-92BB-438DA99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82C1F-E5A8-4C20-BCAC-B1BAF995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B3AE5-9976-49D9-B3CD-0B981BE6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16F68-F0DC-4BCE-A61B-46D305D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F4355-F786-4026-9847-61219D6A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DAFFD-4FC9-4126-91D9-014A706F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46F-1DEA-49AE-B6E4-88B99AB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23E75-E928-45C5-8427-4FBEA093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16A40-3476-479F-BB40-CA9C9E77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F6CF5-7DE8-4DD1-BC28-60A626E3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05772-A9BE-4146-B3EC-387DDD8A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16484-2420-4336-98AD-882BF253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65E84-17A7-4DDF-8608-86D44A96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E4639-FD1D-45F3-97D1-E6FD109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A3147-9033-4196-8216-3F2FC6F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A2135-D73D-4E2B-8258-9787D79A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252FA-54E3-4E50-96A7-1E3051E6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1EA-68BA-47AB-8A2D-4940D87B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A9D5F-1143-45EC-AC74-A70CDC84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6272E-1A32-4E4C-AABA-A908125E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12A10-259B-4825-A425-CCCE6ADA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0F7FF-908D-477F-B23D-45C3F1B7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63639-F749-4195-A7E8-08409A73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37C-5BDE-437B-9DD4-69CB69A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8D06-A3F6-450A-B258-A4712A7968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1CEE-8903-4AF7-A755-C64D190B8C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370-03C2-4A4B-AB80-E28495E28B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F60-27FF-405E-922C-34D5114DA1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63CB-B708-4A73-8355-E424CA3A7D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CED-5713-4BC8-BD43-CFB3466BB9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2E70-244E-49BF-80F8-7B9FA38831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ОМПЛЕКСНАЯ РАБОТА С ТЕКСТОМ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вторение типов реч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СТОЧНИКИ ИНФОРМАЦ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Documents and Settings\OEM\Рабочий стол\Мои файлы\Картинки\2010-09 (сен)-18\2010-09 (сен)-18\hpqscan0001.jpg"/>
          <p:cNvPicPr/>
          <p:nvPr/>
        </p:nvPicPr>
        <p:blipFill>
          <a:blip r:embed="rId1"/>
          <a:stretch/>
        </p:blipFill>
        <p:spPr>
          <a:xfrm>
            <a:off x="857160" y="1643040"/>
            <a:ext cx="1500120" cy="2239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Documents and Settings\OEM\Рабочий стол\Мои файлы\Картинки\2010-09 (сен)-18\2010-09 (сен)-18\hpqscan0002.jpg"/>
          <p:cNvPicPr/>
          <p:nvPr/>
        </p:nvPicPr>
        <p:blipFill>
          <a:blip r:embed="rId2"/>
          <a:srcRect l="5556" t="3181" r="0" b="0"/>
          <a:stretch/>
        </p:blipFill>
        <p:spPr>
          <a:xfrm>
            <a:off x="2357280" y="1643040"/>
            <a:ext cx="1500480" cy="2214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Documents and Settings\OEM\Рабочий стол\Мои файлы\Картинки\2010-09 (сен)-18\2010-09 (сен)-18\hpqscan0004.jpg"/>
          <p:cNvPicPr/>
          <p:nvPr/>
        </p:nvPicPr>
        <p:blipFill>
          <a:blip r:embed="rId3"/>
          <a:stretch/>
        </p:blipFill>
        <p:spPr>
          <a:xfrm>
            <a:off x="3857760" y="1643040"/>
            <a:ext cx="1500120" cy="2214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Documents and Settings\OEM\Рабочий стол\Мои файлы\Картинки\2010-09 (сен)-18\2010-09 (сен)-18\hpqscan0006.jpg"/>
          <p:cNvPicPr/>
          <p:nvPr/>
        </p:nvPicPr>
        <p:blipFill>
          <a:blip r:embed="rId4"/>
          <a:stretch/>
        </p:blipFill>
        <p:spPr>
          <a:xfrm>
            <a:off x="5357880" y="1643040"/>
            <a:ext cx="1500120" cy="2208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C:\Documents and Settings\OEM\Рабочий стол\Мои файлы\Картинки\2010-09 (сен)-18\2010-09 (сен)-18\hpqscan0007.jpg"/>
          <p:cNvPicPr/>
          <p:nvPr/>
        </p:nvPicPr>
        <p:blipFill>
          <a:blip r:embed="rId5"/>
          <a:stretch/>
        </p:blipFill>
        <p:spPr>
          <a:xfrm>
            <a:off x="857160" y="385776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C:\Documents and Settings\OEM\Рабочий стол\Мои файлы\Картинки\2010-09 (сен)-18\2010-09 (сен)-18\hpqscan0008.jpg"/>
          <p:cNvPicPr/>
          <p:nvPr/>
        </p:nvPicPr>
        <p:blipFill>
          <a:blip r:embed="rId6"/>
          <a:stretch/>
        </p:blipFill>
        <p:spPr>
          <a:xfrm>
            <a:off x="2357280" y="3857760"/>
            <a:ext cx="1500480" cy="21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Documents and Settings\OEM\Рабочий стол\Мои файлы\Картинки\2010-09 (сен)-18\2010-09 (сен)-18\hpqscan0010.jpg"/>
          <p:cNvPicPr/>
          <p:nvPr/>
        </p:nvPicPr>
        <p:blipFill>
          <a:blip r:embed="rId7"/>
          <a:srcRect l="3460" t="0" r="3460" b="0"/>
          <a:stretch/>
        </p:blipFill>
        <p:spPr>
          <a:xfrm>
            <a:off x="3857760" y="385776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77-02665-5"/>
          <p:cNvPicPr/>
          <p:nvPr/>
        </p:nvPicPr>
        <p:blipFill>
          <a:blip r:embed="rId8"/>
          <a:stretch/>
        </p:blipFill>
        <p:spPr>
          <a:xfrm>
            <a:off x="5357880" y="3857760"/>
            <a:ext cx="1500120" cy="20714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 И ЗАДАЧИ УРОК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стематизация сведений о признаках текста, теме и основной мысли связного высказы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культуроведческой компетенции учащихся, развитие коммуникативных ум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торение типов речи и совершенствование навыков анализа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ЧЕВАЯ РАЗМИНК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85560"/>
            <a:ext cx="38289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очитайте стихи С.Есенина и стихи Л. Кэрролла (в перево­де Б. Заход ера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) Еду. Тихо. Слышны звоны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д копытом на снегу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Только серые вороны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Расшумелись на луг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Заколдован невидимкой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ремлет лес под сказку сна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ловно белою косынкой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двязалася сосн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нагнулась, как старушка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перлася на клюку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 над самою макушкой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олбит дятел на сук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качет конь, простору много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алит снег и стелет шаль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480" y="1214280"/>
            <a:ext cx="391500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есконечная дорог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Убегает лентой вдаль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) Сверкалось... Скойкие грозды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Волчились у развел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Дрожали в лужасе грозды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И крюх засвиревел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Можно ли назвать данные стихи Л. Кэрролла текстом?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(Это не текст. Нет завершенного содержания темы, основной мыс­ли, ключевых и опорных слов.)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А стихами?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(Можно, так как отрывку задан ритм, есть рифма.)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А стихи С. Есенина можно назвать текстом?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(Это текст. Есть тема - описание зимы; основная мысль: как прекрасен зимний пейзаж! Текст можно озаглавить ("У автора - «Пороша»). Пред­ложения связаны между собой по смыслу и грамматически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Лексика образная: метафоры, сравнения, олицетворения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ЕКСТ</a:t>
            </a:r>
            <a:br>
              <a:rPr sz="3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ПРИЗНАКИ ТЕКСТА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Схема 28" descr=""/>
          <p:cNvPicPr/>
          <p:nvPr/>
        </p:nvPicPr>
        <p:blipFill>
          <a:blip r:embed="rId1"/>
          <a:stretch/>
        </p:blipFill>
        <p:spPr>
          <a:xfrm>
            <a:off x="1054080" y="1352520"/>
            <a:ext cx="71089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ТВЕТЬТЕ НА ВОПРО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Тема текст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 то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чём (или о ком) говорится в текст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Основная мысль текст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 главное, что мы хотим сказа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ризнаки смысловой завершённости текст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ма, заголовок, однотематическая лексика, иде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Грамматические средства связи предложений в тексте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ядок предложений, синонимы, антонимы, повторы, местоимения, союзы, наречия, однородные члены предложения, интонац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Способы связи предложений в тексте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араллельная, цепна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Типы речи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писание, повествование, рассуждени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ЕДЕЛИТЕ ТИП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аська был черный, пушистый, а лапки у Васьки белые, как в тапочках. Хвост у Васьки на кончике тоже беленький, будто в мелу испачкан. Глаза у него зеленые, а зрачки узкие-узки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описани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— изображение людей, предметов, животных, природы. Описывать — значит изображать, перечислять признаки, отличительные приметы, характерные особенности людей, живых существ, предметов, событий, действий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остроение текста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чин (общее представление предмета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рединная часть (перечисление отличительных признаков), концовка (вывод или предложение, просто заканчивающее перечисление признаков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К текстам описательного характера можно поставить вопрос </a:t>
            </a:r>
            <a:r>
              <a:rPr b="0" i="1" lang="ru-RU" sz="2000" spc="-1" strike="noStrike">
                <a:solidFill>
                  <a:srgbClr val="ff0000"/>
                </a:solidFill>
                <a:latin typeface="Century Schoolbook"/>
              </a:rPr>
              <a:t>какой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ЕДЕЛИТЕ ТИП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днажды я собрался ловить рыбу. Перешел болото и сел около пляжа. Просидел час, другой, а рыба так и не клюнула. Вынул я тогда удочку из воды и увидел, что на ней крючка нет. Привязал я другой крючок. Опять стал сидеть и ждать. Потом у меня клюнуло. Вытащил я удочку, а там была щуч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овествование —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ссказ о действиях и событиях в определенном порядке (что было сначала, что потом ... и наконец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Построение текста: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ступление (экспозиция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сообщается место, время события, о котором будет рассказано, представляются герои, с которыми это произошло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момент, с которого начинается событие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сновная часть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развитие действия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кульмина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момент наивысшего накала событий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развязк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окончание в развитии событий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 текстам повествовательного характера можно поставить вопрос </a:t>
            </a:r>
            <a:r>
              <a:rPr b="0" i="1" lang="ru-RU" sz="2000" spc="-1" strike="noStrike">
                <a:solidFill>
                  <a:srgbClr val="ff0000"/>
                </a:solidFill>
                <a:latin typeface="Century Schoolbook"/>
              </a:rPr>
              <a:t>что произошло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ЕДЕЛИТЕ ТИП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которые сказки называются волшебными, так как в них рассказывается о необыкновенных приключениях и подвигах героев — смелых, находчивых и добрых людей. Они поднимаются выше туч, попадают в подземное царство. Им помогают ковры-самолеты, скатерти-самобранки. Поэтому герои волшебных сказок всегда побеждаю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рассуждение —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ложение причин явлений и событий, их взаимная связь. Основа рассуждения — перечисление фактов, доказательств, обосновывающих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к которому стремится привести читателя автор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строение текста: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тезис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основная мысль, то, что надо доказать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доказательств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с примерами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ывод (заключение, обобщение)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некоторых рассуждениях может отсутствовать тезис или вывод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 текстам-рассуждениям можно поставить вопрос </a:t>
            </a:r>
            <a:r>
              <a:rPr b="0" i="1" lang="ru-RU" sz="2000" spc="-1" strike="noStrike">
                <a:solidFill>
                  <a:srgbClr val="ff0000"/>
                </a:solidFill>
                <a:latin typeface="Century Schoolbook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ОМПЛЕКСНЫЙ АНАЛИЗ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00040" y="1571400"/>
            <a:ext cx="365760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Здорово, добрые молодцы!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Здравствуй, дедушк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Куда это вы путь держит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Едем мы с поганым Чудом - юдом биться – сражаться, родную землю защищать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оброе это дело! Только для битвы вам нужны не дубинки, а мечи булатны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А где же их достать, дедуш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А я вас научу. Поезжайте-ка вы, добрые молодцы, все прямо. Доедете вы до высокой горы. А в той горе пещера глубокая. Вход в нее большим камнем завален. Отвалите камень, войдите в пещеру и найдете там мечи булатны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(Из сказки' «Иван — крестьянский сын и Чудо-юдо».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371840" y="1500120"/>
            <a:ext cx="365760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Тема текста —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разговор добрых молодцев с прохожим, дедушкой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Главная мысль —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защита родной земли — доброе дело, и любой готов помочь в этом благородном деле. Одна микротем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Форма речи —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иалог в сочетании с монологом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Стиль речи —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разговорный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Тип текста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овествование, потому что в нем последовательно говорится о нескольких действиях одного и того же лица (нескольких лиц), которые нужно выполнить, чтобы достичь цели </a:t>
            </a: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(поезжайте, отвалите, войдите)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33:17Z</dcterms:created>
  <dc:creator>zlodey</dc:creator>
  <dc:description/>
  <dc:language>en-US</dc:language>
  <cp:lastModifiedBy>МОУ Крутинская СОШ</cp:lastModifiedBy>
  <dcterms:modified xsi:type="dcterms:W3CDTF">2010-12-03T12:52:04Z</dcterms:modified>
  <cp:revision>20</cp:revision>
  <dc:subject/>
  <dc:title>Слайд 1</dc:title>
</cp:coreProperties>
</file>