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6C2E-04C0-4A16-BA0C-7FAB4D4925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6D15-990F-4665-9591-C286096EB9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E39-3713-4DD7-A5F0-A69E53F8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4B6-FC28-4BA8-8F4C-BA39F06B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E13-CAC9-43A9-8A42-29CCBE4B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F12-D284-474D-A81E-0B903477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611-8611-409A-ACF8-04631BDA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12F-8B67-4BC3-B3BF-B4B116D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DB5E-3BF1-4CAC-8FB7-7BE282B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99D6-AF54-4D6F-9102-DCD6F00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21C-7D18-4718-8C72-8A72E8A1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A845-6A42-4C19-BDA6-9F42B048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30CE-8404-48BB-9209-19C07B7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BAA-1CC5-4B7B-B10D-1B7351EE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31EC-515D-4263-953B-1685C4F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8A1C-AC6A-4FC8-8240-BD1C11F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C1DA-B0C0-4FB6-B440-F211B681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F06F-71F7-42AB-ACB0-765EB509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CB12-45AF-453B-82EA-A16CC7F9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54620-EF8A-4FE9-9EDC-9F43BEDC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82A8E-D77B-4E7C-BC9B-1BF978C1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B0DE2-A3F7-4F8E-A444-13F6F540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51D0F-48C6-4F33-BA0B-9A037198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C7D7B-9E6B-453E-B832-9D1DF85B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F5C-67EC-43AE-85B0-704586E9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A5B98-8CC4-4A4D-8C08-4CFC19D2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53390-EFD5-4634-9013-CA5E529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230CE-1C14-497E-AE96-F663F51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83BBA-29D8-4244-AC90-C4FF62E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1C248-7A62-42CE-93B9-6060B2F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95CC4-1FA8-4B01-89B0-E478B807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9766B-31B5-46CC-9B12-36CF5293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3A49-FF6D-4761-8276-90E2B5CD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D1DA2-B773-43FC-A4AE-B628FCC9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12FC-1938-4221-BA9C-FE68F30D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072-598C-4629-9824-EAD830C5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EB03-4FE8-46B7-966D-829ED254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27FD-C6BD-4A87-993F-3F6B59B8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98BA-A2FA-4E41-9491-AD3B5F89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5F9A-04F1-4971-BFF8-5C0032C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9C86-0359-4A8D-804A-CB1A58F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7182-74AA-4BB8-9563-DA5F16A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3BCB-9040-475D-8775-362011E9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2DE6-ADA1-41DA-85D7-33F4E2BD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39E7-81BF-4D75-B0F9-1537CD89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9765E-3323-40DB-9B89-9C64B816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913-32D3-405A-A512-AB05A7A1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02F66-EAE8-4A01-9B47-9B5D6BF9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56F1F-E95F-44F8-845F-58C22883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4A4F8-B074-46CC-9A02-9F15CB18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53FE3-2551-467A-A798-29E4D179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2E462-24A2-4A79-AB75-FC9EAC82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CEAFC-A1A8-4A09-82BE-C86D603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1EF42-53D4-41F4-8668-82D83C75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63353-9B7D-4D51-A8DE-BDBEA92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86ADE-561D-4724-B970-AB4855A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A7236-54F0-4F6F-860E-773A1069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FC9-27CA-4EBC-AA6A-29EA196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55E2A-28FD-4185-8033-2ED79D1C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58CD8-8C6A-4A56-8EE9-840330EB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442DA-D060-4FAD-AEF9-C6FD0657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6DA73-5607-4A6C-BD9F-C3DE491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4864F-4135-4608-A5D1-B9BF465C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26AE7-16D2-418D-ACB5-890AFE2D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CFE6E-42B5-43B3-9814-AA22AFEE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03AC1-B2DC-4345-9D78-AC9891C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4ECA2-4ACD-46D8-B5F8-301F07F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016B4-5A10-47F5-8EBA-E96BB01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A70-F24E-4DFC-867E-FBA8414B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3E1FD-37DE-42D4-9AC2-36EA3269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70FCA-8B4D-448F-AA0D-3E1D2020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38301-7A1E-40EC-9B71-33B42D3F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98EA6-F853-4A39-9436-E32ABCFB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F6C47-B150-42F3-8209-24F51151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88A24-4D41-4EC4-8DE0-FD2DB394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8D412-4899-4D8D-BD1B-B4B77E4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105E4-3BBD-4593-97EC-87054DC6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2409A-94EA-47F9-AE0A-D260490A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541DA-36DE-417C-A155-D0E68C9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C81-65AB-42C6-B13B-7BA29AB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00122-721A-4976-A0E7-CB05DAE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BEEFD-6AFD-4E08-9773-DF711F02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26050-F812-48F9-B213-F8D01A91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7A8A3-1E3D-4113-938B-107690DF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87E47-AB0B-453B-B085-11B27721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EEB-366E-4F5E-9FF7-B3D1E5E8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D1A-63A3-4243-A1E3-8F70728534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4A35-BB08-4911-8C94-8867BB7C70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583-CA5E-4194-A743-3753DC2447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CDFC-A618-4068-AF03-55BCE8CC8F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FD8B-3B7B-4F2F-8A96-4A3980F78A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96AB-1EF6-47E8-9BEC-588118E004A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4109-8A81-45AE-80BA-951F4E27B7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ОМПЛЕКСНАЯ РАБОТА С ТЕКСТОМ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вторение типов реч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СТОЧНИКИ ИНФОРМАЦИ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Documents and Settings\OEM\Рабочий стол\Мои файлы\Картинки\2010-09 (сен)-18\2010-09 (сен)-18\hpqscan0001.jpg"/>
          <p:cNvPicPr/>
          <p:nvPr/>
        </p:nvPicPr>
        <p:blipFill>
          <a:blip r:embed="rId1"/>
          <a:stretch/>
        </p:blipFill>
        <p:spPr>
          <a:xfrm>
            <a:off x="857160" y="1643040"/>
            <a:ext cx="1500120" cy="2239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Documents and Settings\OEM\Рабочий стол\Мои файлы\Картинки\2010-09 (сен)-18\2010-09 (сен)-18\hpqscan0002.jpg"/>
          <p:cNvPicPr/>
          <p:nvPr/>
        </p:nvPicPr>
        <p:blipFill>
          <a:blip r:embed="rId2"/>
          <a:srcRect l="5556" t="3181" r="0" b="0"/>
          <a:stretch/>
        </p:blipFill>
        <p:spPr>
          <a:xfrm>
            <a:off x="2357280" y="1643040"/>
            <a:ext cx="1500480" cy="2214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Documents and Settings\OEM\Рабочий стол\Мои файлы\Картинки\2010-09 (сен)-18\2010-09 (сен)-18\hpqscan0004.jpg"/>
          <p:cNvPicPr/>
          <p:nvPr/>
        </p:nvPicPr>
        <p:blipFill>
          <a:blip r:embed="rId3"/>
          <a:stretch/>
        </p:blipFill>
        <p:spPr>
          <a:xfrm>
            <a:off x="3857760" y="1643040"/>
            <a:ext cx="1500120" cy="2214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Documents and Settings\OEM\Рабочий стол\Мои файлы\Картинки\2010-09 (сен)-18\2010-09 (сен)-18\hpqscan0006.jpg"/>
          <p:cNvPicPr/>
          <p:nvPr/>
        </p:nvPicPr>
        <p:blipFill>
          <a:blip r:embed="rId4"/>
          <a:stretch/>
        </p:blipFill>
        <p:spPr>
          <a:xfrm>
            <a:off x="5357880" y="1643040"/>
            <a:ext cx="1500120" cy="2208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C:\Documents and Settings\OEM\Рабочий стол\Мои файлы\Картинки\2010-09 (сен)-18\2010-09 (сен)-18\hpqscan0007.jpg"/>
          <p:cNvPicPr/>
          <p:nvPr/>
        </p:nvPicPr>
        <p:blipFill>
          <a:blip r:embed="rId5"/>
          <a:stretch/>
        </p:blipFill>
        <p:spPr>
          <a:xfrm>
            <a:off x="857160" y="385776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C:\Documents and Settings\OEM\Рабочий стол\Мои файлы\Картинки\2010-09 (сен)-18\2010-09 (сен)-18\hpqscan0008.jpg"/>
          <p:cNvPicPr/>
          <p:nvPr/>
        </p:nvPicPr>
        <p:blipFill>
          <a:blip r:embed="rId6"/>
          <a:stretch/>
        </p:blipFill>
        <p:spPr>
          <a:xfrm>
            <a:off x="2357280" y="3857760"/>
            <a:ext cx="1500480" cy="21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Documents and Settings\OEM\Рабочий стол\Мои файлы\Картинки\2010-09 (сен)-18\2010-09 (сен)-18\hpqscan0010.jpg"/>
          <p:cNvPicPr/>
          <p:nvPr/>
        </p:nvPicPr>
        <p:blipFill>
          <a:blip r:embed="rId7"/>
          <a:srcRect l="3460" t="0" r="3460" b="0"/>
          <a:stretch/>
        </p:blipFill>
        <p:spPr>
          <a:xfrm>
            <a:off x="3857760" y="385776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77-02665-5"/>
          <p:cNvPicPr/>
          <p:nvPr/>
        </p:nvPicPr>
        <p:blipFill>
          <a:blip r:embed="rId8"/>
          <a:stretch/>
        </p:blipFill>
        <p:spPr>
          <a:xfrm>
            <a:off x="5357880" y="3857760"/>
            <a:ext cx="1500120" cy="20714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 И ЗАДАЧИ УРОК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стематизация сведений о признаках текста, теме и основной мысли связного высказы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культуроведческой компетенции учащихся, развитие коммуникативных ум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торение типов речи и совершенствование навыков анализа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ЧЕВАЯ РАЗМИНК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85560"/>
            <a:ext cx="38289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очитайте стихи С.Есенина и стихи Л. Кэрролла (в перево­де Б. Заход ера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) Еду. Тихо. Слышны звоны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д копытом на снегу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Только серые вороны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Расшумелись на луг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Заколдован невидимкой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ремлет лес под сказку сна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ловно белою косынкой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двязалася сосн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нагнулась, как старушка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перлася на клюку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 над самою макушкой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олбит дятел на сук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качет конь, простору много,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алит снег и стелет шаль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480" y="1214280"/>
            <a:ext cx="391500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есконечная дорога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Убегает лентой вдаль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б) Сверкалось... Скойкие грозды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Волчились у развел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Дрожали в лужасе грозды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И крюх засвиревел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Можно ли назвать данные стихи Л. Кэрролла текстом?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(Это не текст. Нет завершенного содержания темы, основной мыс­ли, ключевых и опорных слов.)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А стихами?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(Можно, так как отрывку задан ритм, есть рифма.)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А стихи С. Есенина можно назвать текстом?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(Это текст. Есть тема - описание зимы; основная мысль: как прекрасен зимний пейзаж! Текст можно озаглавить ("У автора - «Пороша»). Пред­ложения связаны между собой по смыслу и грамматически.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Лексика образная: метафоры, сравнения, олицетворения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ЕКСТ</a:t>
            </a:r>
            <a:br>
              <a:rPr sz="3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ПРИЗНАКИ ТЕКСТА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Схема 28" descr=""/>
          <p:cNvPicPr/>
          <p:nvPr/>
        </p:nvPicPr>
        <p:blipFill>
          <a:blip r:embed="rId1"/>
          <a:stretch/>
        </p:blipFill>
        <p:spPr>
          <a:xfrm>
            <a:off x="1054080" y="1352520"/>
            <a:ext cx="71089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ТВЕТЬТЕ НА ВОПРО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Тема текст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 то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чём (или о ком) говорится в текст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Основная мысль текст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 главное, что мы хотим сказа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ризнаки смысловой завершённости текст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ма, заголовок, однотематическая лексика, иде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Грамматические средства связи предложений в тексте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ядок предложений, синонимы, антонимы, повторы, местоимения, союзы, наречия, однородные члены предложения, интонац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Способы связи предложений в тексте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араллельная, цепна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Типы речи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писание, повествование, рассуждени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ЕДЕЛИТЕ ТИП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аська был черный, пушистый, а лапки у Васьки белые, как в тапочках. Хвост у Васьки на кончике тоже беленький, будто в мелу испачкан. Глаза у него зеленые, а зрачки узкие-узки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то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описани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— изображение людей, предметов, животных, природы. Описывать — значит изображать, перечислять признаки, отличительные приметы, характерные особенности людей, живых существ, предметов, событий, действий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остроение текста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чин (общее представление предмета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рединная часть (перечисление отличительных признаков), концовка (вывод или предложение, просто заканчивающее перечисление признаков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К текстам описательного характера можно поставить вопрос </a:t>
            </a:r>
            <a:r>
              <a:rPr b="0" i="1" lang="ru-RU" sz="2000" spc="-1" strike="noStrike">
                <a:solidFill>
                  <a:srgbClr val="ff0000"/>
                </a:solidFill>
                <a:latin typeface="Century Schoolbook"/>
              </a:rPr>
              <a:t>какой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ЕДЕЛИТЕ ТИП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днажды я собрался ловить рыбу. Перешел болото и сел около пляжа. Просидел час, другой, а рыба так и не клюнула. Вынул я тогда удочку из воды и увидел, что на ней крючка нет. Привязал я другой крючок. Опять стал сидеть и ждать. Потом у меня клюнуло. Вытащил я удочку, а там была щучк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овествование —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ссказ о действиях и событиях в определенном порядке (что было сначала, что потом ... и наконец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Построение текста: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ступление (экспозиция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сообщается место, время события, о котором будет рассказано, представляются герои, с которыми это произошло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момент, с которого начинается событие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сновная часть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развитие действия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кульмина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момент наивысшего накала событий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развязка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окончание в развитии событий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 текстам повествовательного характера можно поставить вопрос </a:t>
            </a:r>
            <a:r>
              <a:rPr b="0" i="1" lang="ru-RU" sz="2000" spc="-1" strike="noStrike">
                <a:solidFill>
                  <a:srgbClr val="ff0000"/>
                </a:solidFill>
                <a:latin typeface="Century Schoolbook"/>
              </a:rPr>
              <a:t>что произошло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ЕДЕЛИТЕ ТИП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которые сказки называются волшебными, так как в них рассказывается о необыкновенных приключениях и подвигах героев — смелых, находчивых и добрых людей. Они поднимаются выше туч, попадают в подземное царство. Им помогают ковры-самолеты, скатерти-самобранки. Поэтому герои волшебных сказок всегда побеждаю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рассуждение —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ложение причин явлений и событий, их взаимная связь. Основа рассуждения — перечисление фактов, доказательств, обосновывающих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к которому стремится привести читателя автор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строение текста: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тезис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основная мысль, то, что надо доказать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доказательств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с примерами),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ывод (заключение, обобщение)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некоторых рассуждениях может отсутствовать тезис или вывод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 текстам-рассуждениям можно поставить вопрос </a:t>
            </a:r>
            <a:r>
              <a:rPr b="0" i="1" lang="ru-RU" sz="2000" spc="-1" strike="noStrike">
                <a:solidFill>
                  <a:srgbClr val="ff0000"/>
                </a:solidFill>
                <a:latin typeface="Century Schoolbook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ОМПЛЕКСНЫЙ АНАЛИЗ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00040" y="1571400"/>
            <a:ext cx="365760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Здорово, добрые молодцы!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Здравствуй, дедушк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Куда это вы путь держит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Едем мы с поганым Чудом - юдом биться – сражаться, родную землю защищать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оброе это дело! Только для битвы вам нужны не дубинки, а мечи булатны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А где же их достать, дедуш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А я вас научу. Поезжайте-ка вы, добрые молодцы, все прямо. Доедете вы до высокой горы. А в той горе пещера глубокая. Вход в нее большим камнем завален. Отвалите камень, войдите в пещеру и найдете там мечи булатны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(Из сказки' «Иван — крестьянский сын и Чудо-юдо».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371840" y="1500120"/>
            <a:ext cx="3657600" cy="47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Тема текста —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разговор добрых молодцев с прохожим, дедушкой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Главная мысль —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защита родной земли — доброе дело, и любой готов помочь в этом благородном деле. Одна микротем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Форма речи —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иалог в сочетании с монологом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Стиль речи —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разговорный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Century Schoolbook"/>
              </a:rPr>
              <a:t>Тип текста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овествование, потому что в нем последовательно говорится о нескольких действиях одного и того же лица (нескольких лиц), которые нужно выполнить, чтобы достичь цели </a:t>
            </a: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(поезжайте, отвалите, войдите)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33:17Z</dcterms:created>
  <dc:creator>zlodey</dc:creator>
  <dc:description/>
  <dc:language>en-US</dc:language>
  <cp:lastModifiedBy>МОУ Крутинская СОШ</cp:lastModifiedBy>
  <dcterms:modified xsi:type="dcterms:W3CDTF">2010-12-03T12:52:04Z</dcterms:modified>
  <cp:revision>20</cp:revision>
  <dc:subject/>
  <dc:title>Слайд 1</dc:title>
</cp:coreProperties>
</file>