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5219-36CC-4374-A951-99E899C5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A748-659E-4621-B330-32CFA195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54BD-F5B7-487E-8DA7-F062ED6F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7D5-066D-41D7-B9D8-7774531E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63C-67EA-443A-B839-25B0447E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0D8-8125-4B24-9629-83549305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B7F3-A4F7-4EC1-8651-CEE505DB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1AC8-EBFC-405B-952D-672777E3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41F3-AB8F-4FD2-AF58-A4666777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A39-5919-4848-A33B-B111C298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6AD0-3D92-44DB-9F08-0A81C1CA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5C8-6D04-4D60-884A-3D03E879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1136-EB15-4A0B-8197-463D8A34163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29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2f937"/>
                </a:solidFill>
                <a:latin typeface="Arial"/>
              </a:rPr>
              <a:t>B</a:t>
            </a:r>
            <a:r>
              <a:rPr b="1" lang="en-US" sz="9600" spc="-1" strike="noStrike">
                <a:solidFill>
                  <a:srgbClr val="34f3f8"/>
                </a:solidFill>
                <a:latin typeface="Arial"/>
              </a:rPr>
              <a:t>e</a:t>
            </a:r>
            <a:r>
              <a:rPr b="1" lang="en-US" sz="9600" spc="-1" strike="noStrike">
                <a:solidFill>
                  <a:srgbClr val="ff9900"/>
                </a:solidFill>
                <a:latin typeface="Arial"/>
              </a:rPr>
              <a:t>r</a:t>
            </a:r>
            <a:r>
              <a:rPr b="1" lang="en-US" sz="9600" spc="-1" strike="noStrike">
                <a:solidFill>
                  <a:srgbClr val="edb1c1"/>
                </a:solidFill>
                <a:latin typeface="Arial"/>
              </a:rPr>
              <a:t>l</a:t>
            </a:r>
            <a:r>
              <a:rPr b="1" lang="en-US" sz="9600" spc="-1" strike="noStrike">
                <a:solidFill>
                  <a:srgbClr val="dd1bcf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1727f7"/>
                </a:solidFill>
                <a:latin typeface="Arial"/>
              </a:rPr>
              <a:t>n</a:t>
            </a:r>
            <a:r>
              <a:rPr b="1" lang="ru-RU" sz="9600" spc="-1" strike="noStrike">
                <a:solidFill>
                  <a:srgbClr val="e8f2da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18 - Sonne.mp3" descr=""/>
          <p:cNvPicPr/>
          <p:nvPr/>
        </p:nvPicPr>
        <p:blipFill>
          <a:blip r:embed="rId1"/>
          <a:stretch/>
        </p:blipFill>
        <p:spPr>
          <a:xfrm>
            <a:off x="-68436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3">
                                  <p:stCondLst>
                                    <p:cond delay="12000"/>
                                  </p:stCondLst>
                                  <p:childTnLst>
                                    <p:cmd type="call" cmd="stop">
                                      <p:cBhvr>
                                        <p:cTn id="10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Берлин. Драматический театр. 1819—21. Арх. К. Ф. Шинкель.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Турбинная фабрика фирмы «АЭГ». 1909. Арх. П. Берен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2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Берлин (ГДР). Университет им. Гумбольдта (б. дворец принца Генриха). 1748—53. Архитектор И. Боуман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Берлин (ГДР). Карл-Маркс-алле. 1952—56. Архитекторы Г. Хензельман, Р. Паулик, X. Хоп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Берлин (ГДР). Вид на реку Шпре и прилегающие районы округов Митте и Фридрихсха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Берлин (ГДР). Улица Унтер-ден-Линден. На заднем плане — Бранденбургские ворота (1788—91, архитектор К. Г. Лангхан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Берлин (ГДР). Памятник жертвам фашизма и милитаризма (б. Новая караульня). 1816—18. Архитектор К. Ф. Шинк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Советские воины водружают Знамя Победы над германским рейхстагом в Берл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32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Берлин (ГДР). Памятник-ансамбль воинам Советской Армии, павшим в боях с фашизмом. 1946—49. Скульптор Е. В. Вучетич, архитектор Я. Б. Белопольски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1278000"/>
            <a:ext cx="914400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Митинг в Берлине 9 ноября 19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-44280" y="1125360"/>
            <a:ext cx="9188280" cy="573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06:34:54Z</dcterms:created>
  <dc:creator>User</dc:creator>
  <dc:description/>
  <dc:language>en-US</dc:language>
  <cp:lastModifiedBy>Admin</cp:lastModifiedBy>
  <dcterms:modified xsi:type="dcterms:W3CDTF">2013-02-25T15:45:29Z</dcterms:modified>
  <cp:revision>12</cp:revision>
  <dc:subject/>
  <dc:title>Слайд 1</dc:title>
</cp:coreProperties>
</file>