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31DA-8FD1-4C86-879E-495E86531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D8E1-531C-46B8-9A0E-60B886C5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FF66-ACDB-4FB5-A8A1-F9C8519D7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8B4B-64B2-46BE-922B-88DFB58F4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0A09-28E4-4E93-BC68-0C0A5776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02DC-2B5A-45A8-B487-F476B237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CF7F-0817-4C89-AE5E-6720C68C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DA5B-A2E9-4841-A487-A099F027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B241-B95F-46D5-89B3-F6FBDFFD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FF21-31E3-49E8-928B-370E6B45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9DEF-12E8-46E8-ABC6-BC6B96FD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25E5-55A8-4CE5-93B4-4EA8F344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4FC6-3D78-4B49-B8C5-E50AA4DFB6E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29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e2f937"/>
                </a:solidFill>
                <a:latin typeface="Arial"/>
              </a:rPr>
              <a:t>B</a:t>
            </a:r>
            <a:r>
              <a:rPr b="1" lang="en-US" sz="9600" spc="-1" strike="noStrike">
                <a:solidFill>
                  <a:srgbClr val="34f3f8"/>
                </a:solidFill>
                <a:latin typeface="Arial"/>
              </a:rPr>
              <a:t>e</a:t>
            </a:r>
            <a:r>
              <a:rPr b="1" lang="en-US" sz="9600" spc="-1" strike="noStrike">
                <a:solidFill>
                  <a:srgbClr val="ff9900"/>
                </a:solidFill>
                <a:latin typeface="Arial"/>
              </a:rPr>
              <a:t>r</a:t>
            </a:r>
            <a:r>
              <a:rPr b="1" lang="en-US" sz="9600" spc="-1" strike="noStrike">
                <a:solidFill>
                  <a:srgbClr val="edb1c1"/>
                </a:solidFill>
                <a:latin typeface="Arial"/>
              </a:rPr>
              <a:t>l</a:t>
            </a:r>
            <a:r>
              <a:rPr b="1" lang="en-US" sz="9600" spc="-1" strike="noStrike">
                <a:solidFill>
                  <a:srgbClr val="dd1bcf"/>
                </a:solidFill>
                <a:latin typeface="Arial"/>
              </a:rPr>
              <a:t>i</a:t>
            </a:r>
            <a:r>
              <a:rPr b="1" lang="en-US" sz="9600" spc="-1" strike="noStrike">
                <a:solidFill>
                  <a:srgbClr val="1727f7"/>
                </a:solidFill>
                <a:latin typeface="Arial"/>
              </a:rPr>
              <a:t>n</a:t>
            </a:r>
            <a:r>
              <a:rPr b="1" lang="ru-RU" sz="9600" spc="-1" strike="noStrike">
                <a:solidFill>
                  <a:srgbClr val="e8f2da"/>
                </a:solidFill>
                <a:latin typeface="Arial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18 - Sonne.mp3" descr=""/>
          <p:cNvPicPr/>
          <p:nvPr/>
        </p:nvPicPr>
        <p:blipFill>
          <a:blip r:embed="rId1"/>
          <a:stretch/>
        </p:blipFill>
        <p:spPr>
          <a:xfrm>
            <a:off x="-68436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3">
                                  <p:stCondLst>
                                    <p:cond delay="12000"/>
                                  </p:stCondLst>
                                  <p:childTnLst>
                                    <p:cmd type="call" cmd="stop">
                                      <p:cBhvr>
                                        <p:cTn id="10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Берлин. Драматический театр. 1819—21. Арх. К. Ф. Шинкель.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Турбинная фабрика фирмы «АЭГ». 1909. Арх. П. Берен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2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Берлин (ГДР). Университет им. Гумбольдта (б. дворец принца Генриха). 1748—53. Архитектор И. Боуман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blinds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Берлин (ГДР). Карл-Маркс-алле. 1952—56. Архитекторы Г. Хензельман, Р. Паулик, X. Хоп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Берлин (ГДР). Вид на реку Шпре и прилегающие районы округов Митте и Фридрихсхай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p:transition advTm="8000">
    <p:push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Берлин (ГДР). Улица Унтер-ден-Линден. На заднем плане — Бранденбургские ворота (1788—91, архитектор К. Г. Лангхан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Берлин (ГДР). Памятник жертвам фашизма и милитаризма (б. Новая караульня). 1816—18. Архитектор К. Ф. Шинк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Советские воины водружают Знамя Победы над германским рейхстагом в Берл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32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Берлин (ГДР). Памятник-ансамбль воинам Советской Армии, павшим в боях с фашизмом. 1946—49. Скульптор Е. В. Вучетич, архитектор Я. Б. Белопольский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0" y="1278000"/>
            <a:ext cx="9144000" cy="55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Митинг в Берлине 9 ноября 191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-44280" y="1125360"/>
            <a:ext cx="9188280" cy="5732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06:34:54Z</dcterms:created>
  <dc:creator>User</dc:creator>
  <dc:description/>
  <dc:language>en-US</dc:language>
  <cp:lastModifiedBy>Admin</cp:lastModifiedBy>
  <dcterms:modified xsi:type="dcterms:W3CDTF">2013-02-25T15:45:29Z</dcterms:modified>
  <cp:revision>12</cp:revision>
  <dc:subject/>
  <dc:title>Слайд 1</dc:title>
</cp:coreProperties>
</file>