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5.jpeg" ContentType="image/jpeg"/>
  <Override PartName="/ppt/media/image19.gif" ContentType="image/gif"/>
  <Override PartName="/ppt/media/image14.jpeg" ContentType="image/jpeg"/>
  <Override PartName="/ppt/media/image20.gif" ContentType="image/gif"/>
  <Override PartName="/ppt/media/image13.png" ContentType="image/png"/>
  <Override PartName="/ppt/media/image54.jpeg" ContentType="image/jpeg"/>
  <Override PartName="/ppt/media/image18.gif" ContentType="image/gif"/>
  <Override PartName="/ppt/media/image17.gif" ContentType="image/gif"/>
  <Override PartName="/ppt/media/image21.png" ContentType="image/png"/>
  <Override PartName="/ppt/media/image16.gif" ContentType="image/gif"/>
  <Override PartName="/ppt/media/image51.png" ContentType="image/png"/>
  <Override PartName="/ppt/media/image24.jpeg" ContentType="image/jpeg"/>
  <Override PartName="/ppt/media/image15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31.wmf" ContentType="image/x-wmf"/>
  <Override PartName="/ppt/media/image5.png" ContentType="image/png"/>
  <Override PartName="/ppt/media/image35.png" ContentType="image/png"/>
  <Override PartName="/ppt/media/image43.jpeg" ContentType="image/jpeg"/>
  <Override PartName="/ppt/media/image23.jpeg" ContentType="image/jpeg"/>
  <Override PartName="/ppt/media/image42.jpeg" ContentType="image/jpeg"/>
  <Override PartName="/ppt/media/image44.jpeg" ContentType="image/jpeg"/>
  <Override PartName="/ppt/media/image45.wmf" ContentType="image/x-wmf"/>
  <Override PartName="/ppt/media/image46.wmf" ContentType="image/x-wmf"/>
  <Override PartName="/ppt/media/image55.jpeg" ContentType="image/jpeg"/>
  <Override PartName="/ppt/media/image3.png" ContentType="image/png"/>
  <Override PartName="/ppt/media/image47.wmf" ContentType="image/x-wmf"/>
  <Override PartName="/ppt/media/image48.gif" ContentType="image/gif"/>
  <Override PartName="/ppt/media/image50.gif" ContentType="image/gif"/>
  <Override PartName="/ppt/media/image36.wmf" ContentType="image/x-wmf"/>
  <Override PartName="/ppt/media/image49.jpeg" ContentType="image/jpeg"/>
  <Override PartName="/ppt/media/image52.jpeg" ContentType="image/jpeg"/>
  <Override PartName="/ppt/media/image41.png" ContentType="image/png"/>
  <Override PartName="/ppt/media/image53.jpeg" ContentType="image/jpeg"/>
  <Override PartName="/ppt/media/image40.png" ContentType="image/png"/>
  <Override PartName="/ppt/media/image38.wmf" ContentType="image/x-wmf"/>
  <Override PartName="/ppt/media/image37.wmf" ContentType="image/x-wmf"/>
  <Override PartName="/ppt/media/image33.gif" ContentType="image/gif"/>
  <Override PartName="/ppt/media/image32.jpeg" ContentType="image/jpeg"/>
  <Override PartName="/ppt/media/image34.gif" ContentType="image/gif"/>
  <Override PartName="/ppt/media/image30.wmf" ContentType="image/x-wmf"/>
  <Override PartName="/ppt/media/image8.png" ContentType="image/png"/>
  <Override PartName="/ppt/media/image39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4.png" ContentType="image/png"/>
  <Override PartName="/ppt/media/image12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D03E-C947-4917-9FF5-533767BDC6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6E4E-8160-481E-86F4-C95C7CBDB7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7C6E-1058-413A-AB45-6886FDF22F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C3B-C6E9-40D1-8891-2F16157C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594-0A92-4424-92A1-AFB08483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7FFDC-010D-4A01-8A30-6C6CCAC5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9E249-E69F-4434-8D45-F4A74E88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D8F67-A820-45A4-AE59-C628C821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16707-34D1-45B5-AD35-90669702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008B9-EB48-4236-9B39-C3FAA0FF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94615-F2EA-4096-81F9-CE80B7E5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233F9-D3C0-41E3-89CB-2FD06D87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9DCE1-1CB9-4385-B1BF-454251D0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D8227-5190-4ECC-84DF-1410C6D1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DB6C1-F6A4-4992-9893-B8AF615E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BBE1-F304-4FB7-B315-B90BD192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3E0AB-DD32-4AF5-9670-D9BE442C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68C94-9BA1-483B-9144-FB884A4D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16233-E335-4B9C-AD0A-BEE3D0A3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18B00-440C-4FCE-A85A-3268AFFA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624E9-C18F-4279-89B8-16C8FBC5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AB830-0807-4FC3-8B43-9981A203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6FE15-9117-42DC-A840-66F175A1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87CF9-06FC-4970-80B8-5E2FE63F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95C81-BC0C-475E-9B2A-8121F49B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4E17B-4074-48F1-BDD9-8DAC134C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95E-019C-48B9-934B-536C7B82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13557-029A-4A08-818C-7A75C3B3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F3AC0-8199-4D76-9ED9-3925A524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C6366-1448-4057-81DA-8FC7520A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84DB2-5FC5-4982-8B01-5526EDF4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263B7-38FF-461E-8E42-A2B2EF95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68F1E-3537-4EB2-AF53-B7BFB242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170EE-2E3C-432B-8D51-01B0B172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8D2B9-0DDA-475A-BA74-A8D5C0CB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458BF-D9A6-4A9A-B6EC-62BA1D53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7D66E-1225-4A09-ABC5-AC83F990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6168-F460-4C9F-9FCA-4EAF797A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BA1FA-4F57-4E69-86DE-0D4570CD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73A66-E2F5-483D-9AE6-7244F99D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D8C5F-82B0-4BF0-AD1C-3ABDF25E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A6B78-10BF-4272-9023-D0A886C1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FC44F-1A3D-470C-A46A-50149318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CDDEB-4829-455E-98A7-966A3588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3BAE4-6C09-40C8-B48D-DE0BCF6A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9CE57-CCF0-4C7A-9E3C-0E89A4C3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2A890-0E8E-495D-A4D5-8052F02C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E90C0-DB4C-460C-B927-700BF448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CBAA-883F-4BD0-969A-0B79E94D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7266B-47ED-4A4E-A721-708F7BB7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99A09-5F97-4DBB-82A1-FFDA1664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4C378-EA42-4D2A-8BF7-BFF97FDD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980DD-0804-4C58-9C92-45257B21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87E06-1D8F-4D66-A138-C1678265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2B0C7C-B939-4888-AC1A-47B9F052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779EFC-FB2A-40B6-A6C1-0E68D8A0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61B5DC-C6BB-46A8-94EA-8A4FA28A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9FD4A2-FCAF-44B7-B7BE-B4E23995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3AEF6E-0FDC-4D29-9989-CDAEDF7A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2BB7-9107-42BA-96B0-E97712A6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325C4D-F6AF-4C30-BAFF-AD0DB952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EDD437-ED64-4FC9-81CA-EDA8FBA1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731CDD-7DCF-48B3-9E93-9D0DD6F2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B6A304-9DEE-4305-9EA3-2E02C5BA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9E6393-2F08-49B3-A4CC-42119E9E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3D4AED-BEC9-4CE4-8B76-0748BE53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5A6FD5-06B2-4FEE-9183-92797860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53A3A-B669-4448-B36B-581F0D3B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92C273-5686-4C01-B90A-D869FBC6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6E0BE6-6466-470D-8F4C-95902D98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DB37-CE95-40A1-8EE0-7456C58F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892B48-B561-499F-AB3D-7A2A254E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29863C-87E6-43F1-9F5A-B08C0878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B4F8DE-4BBC-4DB5-8F03-5F054C29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0E1039-BDDD-4CBC-8171-C4C57779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C459F6-7F08-422D-8C8D-0C08A9AB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84057-4677-44DE-B64A-E65FD665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E18079-9AF3-4C27-8DAC-3CE24B84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BDDFAF-A1DC-4077-8D72-7A26E919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804628-BC56-49AE-A561-0FDD62C6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E19CDC-FC85-4003-B964-96B91EA5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FB54-8ED9-4CA0-82CA-69FCB1A6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253975-1965-4322-8CE1-B2494682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E953F6-7A65-424D-A2EF-C50E8813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167748-791E-4C25-B0D4-582B095C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D61FA6-C22E-44AA-B84C-E5627101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EC7D23-27EC-40CA-9779-50012F9C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753F08-988E-48BA-8798-B7CCCBAA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F2E43-983B-47D9-A22A-F72BDADE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09B466-016A-450B-BCF7-845866AB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17CE71-F092-4352-B120-85CB1551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940BA7-82AB-49EF-876D-2A22C081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1768-8E92-40BC-891B-129A304A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7C2E28-B59D-4903-AE22-C08CF6EE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606652-B116-4A6C-BEE2-C4E12D0B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8580EC-EEE3-4004-9264-D7F178DF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F181F0-45A6-4873-B715-29575612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6A8FED-D55C-41A7-B86D-0E800C25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257F45-8990-43E3-ACFE-9C9DA0F1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265B47-E11E-4482-B3BD-31A57D0A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623729-A793-4FC2-957E-FA48BDD3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1F23B-AC56-4FFF-88D0-6139C097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FBB038-23A9-4094-A533-5087E404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9CDE-7336-4F81-A72A-B0F861E4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8A4656-ADBE-4012-B4E1-6496F249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5721F5-487F-47A2-A288-993F59C7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A34B86-C3CD-46E1-88DE-DED2BB4F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658F33-4BEE-4A44-94B1-DA8B6557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0AC330-5856-4DA3-B7E1-CAD854A1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D2F95D-F095-4905-A50A-DAAF9A73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4439C6-FC6B-4095-A318-DC81E1FD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FD69D3-6AED-4911-B4F4-98A1AECC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AF2DDB-C70D-426D-A62B-9CDF9ADE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29DA1A-4C5E-420C-AAB8-15977B21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ED7-88C7-4DFC-8B27-48EFF7AC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4CD6-85C1-4166-8799-15BE80F8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723342-1E31-4594-847B-F5900A9B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11852A-2303-497D-8CBE-48DC2EEF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30CE09-48BF-43D5-928B-D7C67AC9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E29B96-7C30-40D0-84F7-F75BB14C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6D6FAB-CAF8-4D41-9189-013AE860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D42BFE-ED4B-4777-9442-0AC489EE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4356EE-582D-411E-83CD-65C7B6AA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CCB14B-57D8-4046-B547-83814C99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B2468C-DA2A-4DE3-91ED-B1EF124D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CB1CBB-F671-48EC-AF54-8D7DCA92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06CC-63A2-47FB-BE1F-71D4A2DA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0B30FD-9226-49B1-A2E7-04682762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D54A2C-CDED-4CB6-A7E8-8FC7D94A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444AC1-A601-4C57-B6E7-381FF3FE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B918CA-2445-4F87-A4A7-C243D454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B4C9BB-4F45-49AF-83F2-60F10230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D887D9-BE5E-46B3-909F-7728C9B3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BA2745-2717-47A8-8BA2-F1339DE4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CD033C-BE9F-4A93-B90A-9887E575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BB9453-CCAA-4B65-AAB6-0E310F2C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3BC57E-5E50-42E5-AAE9-971733B5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B49D-16C4-4E19-A566-E7447396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A91AE-829E-4D9E-B37F-A6CC1F2E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A8C48E-191E-47A4-8F58-CE66511F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79A2B8-382F-49CF-AAE5-CF6DF981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AE8031-4A25-477B-B5E2-8D9C84D5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FBC4F1-1D74-4225-B20E-75A43BB0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8A91BF-99B0-4E27-BC94-03127E48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89F1E6-D573-4D49-B73A-424F5CC9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46CE9F-B32A-4870-8B72-02586E04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F67AD1-E433-48B0-B1FD-F27E6180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5ED688-9C11-436F-9FE8-62161523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1312-818D-43AA-8129-B43E910B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17A3B8-D438-4431-A1BC-8F006F57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F361AA-D40C-4C8C-8548-DD4F2FE2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9DFECB-236D-475E-BA35-160B51AC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7A79B9-9579-479F-9AC6-C07E2DC5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4D66EF-4154-4CC0-BBE6-3ED7CC05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F0600A-7735-4D4F-A1DF-B3F9141E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AD7CB3-1883-48B3-8240-0F073C3D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B15A76-7123-49D9-8D40-7F888362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FB9C07-B8C9-4D5E-8B9D-926C2F81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F905E6-1DE4-4AFA-97FE-0006F79D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4DC1-88F3-4C85-B9B6-2A437F30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CF3B41-F47E-4039-8F58-7E5C1DAA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926F2A-BDC6-4D53-A61D-FF6F2BB7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27D86C-72C6-4ED8-B5C2-54887AE8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C3F303-36C1-471A-8DCA-DC41B444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2DB543-44CB-482E-98CE-B0FEF858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B01F84-20D3-4718-AAC8-0B58FC5D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1F3454-E1FD-42D3-BAC2-015A7E58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F7D3D3-F179-4232-A209-6EB14415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9B74FC-CFFB-4AAC-BF79-CC2435E3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09E229-6507-40AE-AE58-EB0E4583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8D4AA-3796-4E23-A9F3-94CEC384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3B02C1-B195-4371-B15B-4B630641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EB8522-15C8-480E-BC4E-D8FE896A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81D2B8-D2D4-44D3-9A06-5ED8EA53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3E1793-92B5-4D00-814A-702C4991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B95827-9582-45D3-A809-8062DAD9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A09861-BC55-415F-B195-3CECDCF7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96B499-531E-4358-ACE2-8ADAD4B9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7282EB-CA09-454A-A33A-7473890A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3272EF-ECE5-4BB0-984D-127BB6E9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44803C-EE09-466B-826E-4C18F829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F8DAF-F097-45C8-A70C-DBD3DF05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065AFF-882C-4071-97DB-9C98C27A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D8B00F-B056-42CE-AEF5-CF311175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883F71-DDF0-4E97-BC81-D8B1B13A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AD0CDC-298A-4632-8ED1-7C196EDF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2108C8-6117-40A1-9C5D-89CC794F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9F9C45-3468-4699-8996-118E9BDA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5FC34B-E544-43C7-837B-C3448366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2CE378-3A7E-4F71-A30C-F2B336C1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42B755-FF98-40DA-BD34-87A678E9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78A56D-4AD3-4B8C-B686-FB15DA81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E7E16-D34A-4C6A-9646-9288955B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B332B9-DB26-401A-AC6C-E1824532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CF21A6-D1F0-4882-8D12-134918DE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55E4EB-3F31-42DF-A469-04FA7423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144940-1E3F-410F-8FB5-1855A454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1748AB-3A8A-4024-B6BB-4D693E1B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101BBB-C4A2-4515-8415-451C219C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955E78-F0B9-4033-B731-49BD113A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976D8-77BF-4701-BEEF-CB8D7FBB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BE1D9-8001-435F-9BB6-8E7D0512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3BC-A736-4A7F-B36E-49E80AB5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17F67-81AB-4BB9-919C-B12D03EB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AAC89-F704-4604-9934-D7066D49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66034-F666-4897-92D0-36E47225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861D9-F910-4C96-A622-2D630CE3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5E830-9D65-42FF-80E0-A8F28840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AA2DC-1526-4F3B-86B4-2EB3F1B5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2C57A-AE4C-4070-BBE5-F5E44CB5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146B9-3440-41C7-BC11-C4771F31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22DB5-8FBE-4D68-B360-A574CFD5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AE780-2A43-4C1D-900F-2D7ED075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76C1-E85C-4BE3-98E6-65D00751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C9A7A-870A-4EF7-91FD-9F3A6609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0F94D-7E7E-4B07-98DB-85176895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514A6-255B-4AD3-A303-F78190E1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39B9D-F018-416E-BCC6-7D4FAEED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6D39D-B918-444C-8A12-99BCE39B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F0264-88D4-4147-9161-B4BDE064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E5C0E-C1B8-42B2-AB35-62F74149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CDB4E-E33D-4FAC-B8F4-D62BB207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FCCA9-E8CE-4F21-A05A-F1318C18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67745-8672-4B5B-80B7-A99E8A8B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504-1CB1-4389-AF45-5FAB71B5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42BCE-4129-4FAC-9004-318681E2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8A3EAB-5AC9-4300-A1E5-E89F3468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E75CED-BF7F-44E6-93C7-A46DF7A2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1E725-EDC7-4C94-A395-5FFE5786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0B66CB-1EB8-4D1F-B435-8AA07C95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A3FB76-C26F-4314-89B5-EC5A8B7F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23618-B825-49D7-AFA9-7C36EB1B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F4C8B-0CED-4C75-8C09-8BF30AB6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CB417-D676-49D3-9793-024505E8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805E8-774F-420F-91DA-0B39039B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3F8-BBC9-4AD4-A41A-F85E8231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30E94-3457-4A16-968D-C97B5BC7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3CBC7-DEEE-44B5-8C61-FB4B7F46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AE4E2-0426-4AD7-B2CB-EE5BCF79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43EBC-16DE-4A68-B563-926A1D1B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443A5-9D6A-4DD4-BF3D-63F3B4AB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8B2CC-D356-4C9D-89DB-1F7B5EA8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BAE1E-3F4F-4C30-8232-A8749366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34A28-9A46-436A-9013-E7CD4987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8D736-9F29-43B2-B9FA-7E966BC3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98DB7-1577-4540-BC56-2481BA9A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9B0-BB23-4074-BA68-9A791C55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BF70F-3D0E-42D6-826F-6E9540AE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97915-18FC-4970-9060-B20EC794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793D0-6A23-4D6F-A2F6-C5033724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57335-A755-4E31-B7B6-9DDD7EB8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2237B-7528-4AAE-8C0A-074F691E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3C69B-B03F-4E75-B3F8-68E5295F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4FD07-2BA8-4102-89C1-2ECCEAA9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FDA7C-4001-4A35-8FA0-1C12459E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5BB16-0DBB-4267-899C-C82A4A32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A4AB0-34FC-44FC-B3C4-76B68296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27C-0D5C-44F0-8AB2-E45A2D5B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0D991-23A0-4158-BE71-F2450788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5BDE2-5ED8-4705-B348-AFB4F66C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D7379-8C9F-4406-8844-D02ED2BE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E37E7-F753-49B6-961B-12F22F93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A9783-441F-4A71-9216-1B24CB06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F5422-B44A-4BF0-95C9-34D41B5E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96F4C-20B8-49F3-8C74-99AEB315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84410-612E-47B8-BEB9-A9FCB05E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DE7F2-C664-4502-86A5-0A6AB955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18D84-5F74-4112-B90D-E6D361F7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5E8-C27D-47AA-94BB-5C24D53D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40E89-1546-4387-9393-DE76C146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D94CC-EE14-4127-BA3D-B8BCCA20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8DAA6-0426-4C48-BBC0-2ECF35BA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B3A4C-0BEE-4C9C-A1CA-137BA897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1603E-DD2F-4639-8382-CBC4BC19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DEFB5-68F6-4630-86FA-273E230E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95E16-C99E-43F9-A39D-0B1A4C5C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EAB5A-1874-45A9-B57A-4AC031EC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F37F9-F7A1-4A7D-BAA1-E1465640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16ECE-2B2E-493F-9F33-88F60221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05.xml"/><Relationship Id="rId35" Type="http://schemas.openxmlformats.org/officeDocument/2006/relationships/slideLayout" Target="../slideLayouts/slideLayout206.xml"/><Relationship Id="rId36" Type="http://schemas.openxmlformats.org/officeDocument/2006/relationships/slideLayout" Target="../slideLayouts/slideLayout207.xml"/><Relationship Id="rId37" Type="http://schemas.openxmlformats.org/officeDocument/2006/relationships/slideLayout" Target="../slideLayouts/slideLayout208.xml"/><Relationship Id="rId38" Type="http://schemas.openxmlformats.org/officeDocument/2006/relationships/slideLayout" Target="../slideLayouts/slideLayout209.xml"/><Relationship Id="rId39" Type="http://schemas.openxmlformats.org/officeDocument/2006/relationships/slideLayout" Target="../slideLayouts/slideLayout210.xml"/><Relationship Id="rId40" Type="http://schemas.openxmlformats.org/officeDocument/2006/relationships/slideLayout" Target="../slideLayouts/slideLayout211.xml"/><Relationship Id="rId41" Type="http://schemas.openxmlformats.org/officeDocument/2006/relationships/slideLayout" Target="../slideLayouts/slideLayout212.xml"/><Relationship Id="rId42" Type="http://schemas.openxmlformats.org/officeDocument/2006/relationships/slideLayout" Target="../slideLayouts/slideLayout213.xml"/><Relationship Id="rId43" Type="http://schemas.openxmlformats.org/officeDocument/2006/relationships/slideLayout" Target="../slideLayouts/slideLayout214.xml"/><Relationship Id="rId44" Type="http://schemas.openxmlformats.org/officeDocument/2006/relationships/slideLayout" Target="../slideLayouts/slideLayout215.xml"/><Relationship Id="rId4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D358-E830-4DD8-93E0-5B9C55AE2A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68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81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www.pedagogsaratov.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4047-1C5E-47F4-9407-BA6A694297B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4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www.pedagogsaratov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1A09-FC7C-409B-A48C-9341A917BE4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05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E650-3CC7-4543-AF96-3760A1AF55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9B75-F02F-433C-946D-B86072A423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70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A19C-9BB4-409B-A2B9-38FC92C1AC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75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75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75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4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4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www.pedagogsaratov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4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A072-1987-4001-800E-BCCB671A135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0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0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03F0-D685-46B8-A007-BF2D290FD2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49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50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51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9CAF-F7C8-448E-A9CC-6B1B81E2EC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0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0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0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0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10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2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1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2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2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46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F4A2-F0F9-48E1-94E2-648698F805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4"/>
    <p:sldLayoutId id="2147483871" r:id="rId35"/>
    <p:sldLayoutId id="2147483872" r:id="rId36"/>
    <p:sldLayoutId id="2147483873" r:id="rId37"/>
    <p:sldLayoutId id="2147483874" r:id="rId38"/>
    <p:sldLayoutId id="2147483875" r:id="rId39"/>
    <p:sldLayoutId id="2147483876" r:id="rId40"/>
    <p:sldLayoutId id="2147483877" r:id="rId41"/>
    <p:sldLayoutId id="2147483878" r:id="rId42"/>
    <p:sldLayoutId id="2147483879" r:id="rId43"/>
    <p:sldLayoutId id="2147483880" r:id="rId44"/>
    <p:sldLayoutId id="2147483881" r:id="rId4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6C9C-29AF-4EBC-9971-D3A372F274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A360-9EE3-4B35-A4E0-C4415F9B75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4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www.pedagogsaratov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6226-0B0B-4B86-B527-D850D4A9007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098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111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www.pedagogsaratov.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AE95-61DE-4A6C-93CA-27EBC92D1AC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7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www.pedagogsaratov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503F-9109-4EFA-9800-BFB9E224E33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35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www.pedagogsaratov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5FAA-C6E4-41C9-A559-AB0BB73A64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B173-C191-4B3C-9665-B632D3121D1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www.pedagogsaratov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2CC3-E577-44ED-9C6A-4E187B7467F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050E-8236-4E36-96F6-63EC8AAD3A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B12E-5BC5-4BE9-B50C-3B04A48BA6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232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7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7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7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7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7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8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9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9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1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FDB4-7DC2-4A30-B614-0D07BB997B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67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D591-2DA3-4781-8377-A045298866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1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www.pedagogsaratov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DE64-E254-4577-8042-93C44D9E57B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jpeg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jpeg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Arial"/>
              </a:rPr>
              <a:t>Презентация к уроку окружающего мира: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Arial"/>
              </a:rPr>
              <a:t>« Что такое здоровье»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Arial"/>
              </a:rPr>
              <a:t>1 класс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Arial"/>
              </a:rPr>
              <a:t>УМК  «Начальная школа 21 век»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724280" y="4800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дготовила : учитель начальных классов Козлова Л.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Нижний колонтитул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Движение - жизнь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410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лодым я говорю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 здоровьем дружен спорт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дион, бассейн и кор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л, каток – везде всем рад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старание в наград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ут мышцы ваши тверды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ут кубки и рекорд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2" name="Picture 4" descr="ар"/>
          <p:cNvPicPr/>
          <p:nvPr/>
        </p:nvPicPr>
        <p:blipFill>
          <a:blip r:embed="rId1"/>
          <a:stretch/>
        </p:blipFill>
        <p:spPr>
          <a:xfrm>
            <a:off x="7467480" y="2362320"/>
            <a:ext cx="1524240" cy="1425600"/>
          </a:xfrm>
          <a:prstGeom prst="rect">
            <a:avLst/>
          </a:prstGeom>
          <a:ln w="0">
            <a:noFill/>
          </a:ln>
        </p:spPr>
      </p:pic>
      <p:pic>
        <p:nvPicPr>
          <p:cNvPr id="1353" name="Picture 5" descr="PE01267_"/>
          <p:cNvPicPr/>
          <p:nvPr/>
        </p:nvPicPr>
        <p:blipFill>
          <a:blip r:embed="rId2"/>
          <a:stretch/>
        </p:blipFill>
        <p:spPr>
          <a:xfrm>
            <a:off x="7162920" y="5410080"/>
            <a:ext cx="1568160" cy="126684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6" descr="PE01335_"/>
          <p:cNvPicPr/>
          <p:nvPr/>
        </p:nvPicPr>
        <p:blipFill>
          <a:blip r:embed="rId3"/>
          <a:stretch/>
        </p:blipFill>
        <p:spPr>
          <a:xfrm>
            <a:off x="6705720" y="3886200"/>
            <a:ext cx="1684080" cy="1219320"/>
          </a:xfrm>
          <a:prstGeom prst="rect">
            <a:avLst/>
          </a:prstGeom>
          <a:ln w="0">
            <a:noFill/>
          </a:ln>
        </p:spPr>
      </p:pic>
      <p:pic>
        <p:nvPicPr>
          <p:cNvPr id="1355" name="Picture 7" descr="PE01313_"/>
          <p:cNvPicPr/>
          <p:nvPr/>
        </p:nvPicPr>
        <p:blipFill>
          <a:blip r:embed="rId4"/>
          <a:stretch/>
        </p:blipFill>
        <p:spPr>
          <a:xfrm>
            <a:off x="5943600" y="1752480"/>
            <a:ext cx="1698480" cy="1828800"/>
          </a:xfrm>
          <a:prstGeom prst="rect">
            <a:avLst/>
          </a:prstGeom>
          <a:ln w="0">
            <a:noFill/>
          </a:ln>
        </p:spPr>
      </p:pic>
      <p:pic>
        <p:nvPicPr>
          <p:cNvPr id="1356" name="Picture 8" descr="17"/>
          <p:cNvPicPr/>
          <p:nvPr/>
        </p:nvPicPr>
        <p:blipFill>
          <a:blip r:embed="rId5"/>
          <a:stretch/>
        </p:blipFill>
        <p:spPr>
          <a:xfrm>
            <a:off x="5029200" y="5105520"/>
            <a:ext cx="1924200" cy="1539720"/>
          </a:xfrm>
          <a:prstGeom prst="rect">
            <a:avLst/>
          </a:prstGeom>
          <a:ln w="0">
            <a:noFill/>
          </a:ln>
        </p:spPr>
      </p:pic>
      <p:pic>
        <p:nvPicPr>
          <p:cNvPr id="1357" name="Picture 9" descr="6"/>
          <p:cNvPicPr/>
          <p:nvPr/>
        </p:nvPicPr>
        <p:blipFill>
          <a:blip r:embed="rId6"/>
          <a:stretch/>
        </p:blipFill>
        <p:spPr>
          <a:xfrm>
            <a:off x="7162920" y="-228600"/>
            <a:ext cx="144756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015400" cy="914400"/>
          </a:xfrm>
          <a:prstGeom prst="rect">
            <a:avLst/>
          </a:prstGeom>
          <a:solidFill>
            <a:srgbClr val="a5eff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«Кто спортом занимается,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                       тот силы набирается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635600" cy="4141800"/>
          </a:xfrm>
          <a:prstGeom prst="rect">
            <a:avLst/>
          </a:prstGeom>
          <a:solidFill>
            <a:srgbClr val="a5ef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хочешь быть здоров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 Позабудь про докторов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 Ты возьми гантели в руки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 Не считай, что это му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побольше закаляйся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 Смейся, спортом занимай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учись болеть за спорт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 Будь здоровым целый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езжай в страну Здоровья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 Отдыхай  сколько угодно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 Но не забывай про труд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  А то мышцы отомру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рно закаляй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ортом занимайс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  И не будешь ты болеть,  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 Станешь сильным, как медвед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1" name="Picture 4" descr="62r4"/>
          <p:cNvPicPr/>
          <p:nvPr/>
        </p:nvPicPr>
        <p:blipFill>
          <a:blip r:embed="rId1"/>
          <a:stretch/>
        </p:blipFill>
        <p:spPr>
          <a:xfrm>
            <a:off x="7315200" y="1522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7" descr="img"/>
          <p:cNvPicPr/>
          <p:nvPr/>
        </p:nvPicPr>
        <p:blipFill>
          <a:blip r:embed="rId2"/>
          <a:stretch/>
        </p:blipFill>
        <p:spPr>
          <a:xfrm>
            <a:off x="990720" y="5181480"/>
            <a:ext cx="1447560" cy="13874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10" descr="BSKTBPL1"/>
          <p:cNvPicPr/>
          <p:nvPr/>
        </p:nvPicPr>
        <p:blipFill>
          <a:blip r:embed="rId3"/>
          <a:stretch/>
        </p:blipFill>
        <p:spPr>
          <a:xfrm>
            <a:off x="3505320" y="4697280"/>
            <a:ext cx="17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364" name="Picture 11" descr="SKIER3"/>
          <p:cNvPicPr/>
          <p:nvPr/>
        </p:nvPicPr>
        <p:blipFill>
          <a:blip r:embed="rId4"/>
          <a:stretch/>
        </p:blipFill>
        <p:spPr>
          <a:xfrm>
            <a:off x="4267080" y="1295280"/>
            <a:ext cx="2413080" cy="2421000"/>
          </a:xfrm>
          <a:prstGeom prst="rect">
            <a:avLst/>
          </a:prstGeom>
          <a:ln w="0">
            <a:noFill/>
          </a:ln>
        </p:spPr>
      </p:pic>
      <p:pic>
        <p:nvPicPr>
          <p:cNvPr id="1365" name="Picture 8" descr="AEROBICS"/>
          <p:cNvPicPr/>
          <p:nvPr/>
        </p:nvPicPr>
        <p:blipFill>
          <a:blip r:embed="rId5"/>
          <a:stretch/>
        </p:blipFill>
        <p:spPr>
          <a:xfrm>
            <a:off x="7086600" y="2209680"/>
            <a:ext cx="1895400" cy="1852560"/>
          </a:xfrm>
          <a:prstGeom prst="rect">
            <a:avLst/>
          </a:prstGeom>
          <a:ln w="0">
            <a:noFill/>
          </a:ln>
        </p:spPr>
      </p:pic>
      <p:pic>
        <p:nvPicPr>
          <p:cNvPr id="1366" name="Picture 13" descr="зарядка"/>
          <p:cNvPicPr/>
          <p:nvPr/>
        </p:nvPicPr>
        <p:blipFill>
          <a:blip r:embed="rId6"/>
          <a:stretch/>
        </p:blipFill>
        <p:spPr>
          <a:xfrm>
            <a:off x="5410080" y="4419720"/>
            <a:ext cx="352908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Нижний колонтитул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385120" cy="5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3399"/>
                </a:solidFill>
                <a:uFillTx/>
                <a:latin typeface="Times New Roman"/>
              </a:rPr>
              <a:t>Секреты закаливания: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0" name="Picture 4" descr="Рисунок1"/>
          <p:cNvPicPr/>
          <p:nvPr/>
        </p:nvPicPr>
        <p:blipFill>
          <a:blip r:embed="rId1"/>
          <a:srcRect l="36252" t="15181" r="35334" b="49010"/>
          <a:stretch/>
        </p:blipFill>
        <p:spPr>
          <a:xfrm>
            <a:off x="6019920" y="3581280"/>
            <a:ext cx="2971800" cy="3048120"/>
          </a:xfrm>
          <a:prstGeom prst="rect">
            <a:avLst/>
          </a:prstGeom>
          <a:ln w="0">
            <a:noFill/>
          </a:ln>
        </p:spPr>
      </p:pic>
      <p:sp>
        <p:nvSpPr>
          <p:cNvPr id="1371" name="Rectangle 5"/>
          <p:cNvSpPr/>
          <p:nvPr/>
        </p:nvSpPr>
        <p:spPr>
          <a:xfrm>
            <a:off x="838080" y="1980720"/>
            <a:ext cx="579132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тром - бег и душ бодрящий, Как для взрослых, настоящ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ночь окна открывать, Свежим воздухом дыш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ги мыть водой холодн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тогда микроб гол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с во век не одоле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Нижний колонтитул 5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Меню Карлсон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1. Тор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2. Лимонад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3. Чипсы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4. Варенье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5. Кока-кол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375" name="Picture 4" descr="карлсон"/>
          <p:cNvPicPr/>
          <p:nvPr/>
        </p:nvPicPr>
        <p:blipFill>
          <a:blip r:embed="rId6"/>
          <a:stretch/>
        </p:blipFill>
        <p:spPr>
          <a:xfrm>
            <a:off x="1670040" y="1557360"/>
            <a:ext cx="2685960" cy="374328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5"/>
          <p:cNvSpPr/>
          <p:nvPr/>
        </p:nvSpPr>
        <p:spPr>
          <a:xfrm>
            <a:off x="26622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990099"/>
                </a:solidFill>
                <a:uFillTx/>
                <a:latin typeface="Arial"/>
              </a:rPr>
              <a:t>Правильное питание: разнообраз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9" name="Picture 3" descr="продукты"/>
          <p:cNvPicPr/>
          <p:nvPr/>
        </p:nvPicPr>
        <p:blipFill>
          <a:blip r:embed="rId1"/>
          <a:stretch/>
        </p:blipFill>
        <p:spPr>
          <a:xfrm>
            <a:off x="1047600" y="1955880"/>
            <a:ext cx="3453120" cy="385128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4" descr="продукты 2"/>
          <p:cNvPicPr/>
          <p:nvPr/>
        </p:nvPicPr>
        <p:blipFill>
          <a:blip r:embed="rId2"/>
          <a:stretch/>
        </p:blipFill>
        <p:spPr>
          <a:xfrm>
            <a:off x="4356000" y="1955880"/>
            <a:ext cx="3600720" cy="3851280"/>
          </a:xfrm>
          <a:prstGeom prst="rect">
            <a:avLst/>
          </a:prstGeom>
          <a:ln w="0">
            <a:noFill/>
          </a:ln>
        </p:spPr>
      </p:pic>
      <p:sp>
        <p:nvSpPr>
          <p:cNvPr id="1381" name="Rectangle 5"/>
          <p:cNvSpPr/>
          <p:nvPr/>
        </p:nvSpPr>
        <p:spPr>
          <a:xfrm>
            <a:off x="26622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543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</a:rPr>
              <a:t>Полезные и вредные продукты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5" name="Picture 4" descr="FD00188_"/>
          <p:cNvPicPr/>
          <p:nvPr/>
        </p:nvPicPr>
        <p:blipFill>
          <a:blip r:embed="rId1"/>
          <a:stretch/>
        </p:blipFill>
        <p:spPr>
          <a:xfrm>
            <a:off x="4267080" y="1143000"/>
            <a:ext cx="2305080" cy="1447920"/>
          </a:xfrm>
          <a:prstGeom prst="rect">
            <a:avLst/>
          </a:prstGeom>
          <a:ln w="0">
            <a:noFill/>
          </a:ln>
        </p:spPr>
      </p:pic>
      <p:pic>
        <p:nvPicPr>
          <p:cNvPr id="1386" name="Picture 5" descr="FD00961_"/>
          <p:cNvPicPr/>
          <p:nvPr/>
        </p:nvPicPr>
        <p:blipFill>
          <a:blip r:embed="rId2"/>
          <a:stretch/>
        </p:blipFill>
        <p:spPr>
          <a:xfrm>
            <a:off x="6781680" y="2590920"/>
            <a:ext cx="2001960" cy="1782720"/>
          </a:xfrm>
          <a:prstGeom prst="rect">
            <a:avLst/>
          </a:prstGeom>
          <a:ln w="0">
            <a:noFill/>
          </a:ln>
        </p:spPr>
      </p:pic>
      <p:pic>
        <p:nvPicPr>
          <p:cNvPr id="1387" name="Picture 6" descr="FD00963_"/>
          <p:cNvPicPr/>
          <p:nvPr/>
        </p:nvPicPr>
        <p:blipFill>
          <a:blip r:embed="rId3"/>
          <a:stretch/>
        </p:blipFill>
        <p:spPr>
          <a:xfrm>
            <a:off x="5029200" y="5013360"/>
            <a:ext cx="1736640" cy="1844640"/>
          </a:xfrm>
          <a:prstGeom prst="rect">
            <a:avLst/>
          </a:prstGeom>
          <a:ln w="0">
            <a:noFill/>
          </a:ln>
        </p:spPr>
      </p:pic>
      <p:sp>
        <p:nvSpPr>
          <p:cNvPr id="1388" name="Rectangle 7"/>
          <p:cNvSpPr/>
          <p:nvPr/>
        </p:nvSpPr>
        <p:spPr>
          <a:xfrm>
            <a:off x="152280" y="13694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Надо кушать помидоры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Фрукты, овощи, лимоны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Кашу – утром, суп – в обед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А на ужин – винегр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8"/>
          <p:cNvSpPr/>
          <p:nvPr/>
        </p:nvSpPr>
        <p:spPr>
          <a:xfrm>
            <a:off x="2362320" y="312192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Ну, а если свой обед</a:t>
            </a:r>
            <a:br>
              <a:rPr sz="2400"/>
            </a:b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Ты начнешь с кулька конфет,</a:t>
            </a:r>
            <a:br>
              <a:rPr sz="2400"/>
            </a:b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Жвачкой импортной закусишь,</a:t>
            </a:r>
            <a:br>
              <a:rPr sz="2400"/>
            </a:b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Шоколадом подсласти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9"/>
          <p:cNvSpPr/>
          <p:nvPr/>
        </p:nvSpPr>
        <p:spPr>
          <a:xfrm>
            <a:off x="304920" y="50356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То тогда наверняка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Ваши спутники всегда -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Близорукость, бледный вид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И неважный аппе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Нижний колонтитул 4"/>
          <p:cNvSpPr/>
          <p:nvPr/>
        </p:nvSpPr>
        <p:spPr>
          <a:xfrm>
            <a:off x="32767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3352680" y="3805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6600"/>
                </a:solidFill>
                <a:uFillTx/>
                <a:latin typeface="Times New Roman"/>
              </a:rPr>
              <a:t>«Соблюдай режим труда и быта, и будет здоровье крепче гранита»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6934320" cy="35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жить умеет по часам и ценит каждый ча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го не надо по утрам будить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сять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он не станет говорить, что лень ему вста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рядку делать, руки мыть и застилать кр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пеет он одеться в срок, умыться и пое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раньше, чем звенит звонок, за парту в школе сес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4" name="Picture 4" descr="040116_coq"/>
          <p:cNvPicPr/>
          <p:nvPr/>
        </p:nvPicPr>
        <p:blipFill>
          <a:blip r:embed="rId1"/>
          <a:stretch/>
        </p:blipFill>
        <p:spPr>
          <a:xfrm>
            <a:off x="0" y="5105520"/>
            <a:ext cx="21337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Кто табачное зелье любит, </a:t>
            </a: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                      тот сам себя и губит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60440" y="2057040"/>
            <a:ext cx="55087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Сигареты — никотин,</a:t>
            </a:r>
            <a:br>
              <a:rPr sz="2800"/>
            </a:b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ВРАГ</a:t>
            </a: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 всему номер один!</a:t>
            </a:r>
            <a:br>
              <a:rPr sz="2800"/>
            </a:b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Курят, что аж дым столбом!</a:t>
            </a:r>
            <a:br>
              <a:rPr sz="2800"/>
            </a:b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Отравляют табаком,</a:t>
            </a:r>
            <a:br>
              <a:rPr sz="2800"/>
            </a:b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Не заботясь о здоровье —</a:t>
            </a:r>
            <a:br>
              <a:rPr sz="2800"/>
            </a:b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Ни о своем, ни о чужом.</a:t>
            </a: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8" name="Picture 4" descr="img4"/>
          <p:cNvPicPr/>
          <p:nvPr/>
        </p:nvPicPr>
        <p:blipFill>
          <a:blip r:embed="rId1"/>
          <a:stretch/>
        </p:blipFill>
        <p:spPr>
          <a:xfrm>
            <a:off x="5410080" y="2057400"/>
            <a:ext cx="31291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Пословицы о здоровь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Verdana"/>
              </a:rPr>
              <a:t>Болен лечись, а здоров – берегись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Verdana"/>
              </a:rPr>
              <a:t>Быстрого и ловкого болезнь не догонит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Verdana"/>
              </a:rPr>
              <a:t>Здоровье не купишь, его разум дарит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Verdana"/>
              </a:rPr>
              <a:t>Чистая вода  - для хвори беда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25560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99"/>
                </a:solidFill>
                <a:latin typeface="Times New Roman"/>
              </a:rPr>
              <a:t>Вывод:</a:t>
            </a:r>
            <a:endParaRPr b="0" lang="en-US" sz="4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41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ru-RU" sz="4100" spc="-1" strike="noStrike">
                <a:solidFill>
                  <a:srgbClr val="ffffff"/>
                </a:solidFill>
                <a:latin typeface="Times New Roman"/>
              </a:rPr>
              <a:t>доровье человека – жизненно важная ценность, оно складывается из многих взаимосвязанных друг с другом компонентов.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5" name="Picture 4" descr="Рисунок10"/>
          <p:cNvPicPr/>
          <p:nvPr/>
        </p:nvPicPr>
        <p:blipFill>
          <a:blip r:embed="rId1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5" descr="Рисунок10"/>
          <p:cNvPicPr/>
          <p:nvPr/>
        </p:nvPicPr>
        <p:blipFill>
          <a:blip r:embed="rId2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Заголовок 1" descr=""/>
          <p:cNvPicPr/>
          <p:nvPr/>
        </p:nvPicPr>
        <p:blipFill>
          <a:blip r:embed="rId1"/>
          <a:stretch/>
        </p:blipFill>
        <p:spPr>
          <a:xfrm>
            <a:off x="146160" y="1828800"/>
            <a:ext cx="8186760" cy="2554200"/>
          </a:xfrm>
          <a:prstGeom prst="rect">
            <a:avLst/>
          </a:prstGeom>
          <a:ln w="0">
            <a:noFill/>
          </a:ln>
        </p:spPr>
      </p:pic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6172200" y="6858000"/>
            <a:ext cx="4044960" cy="776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0640" y="242640"/>
            <a:ext cx="7902720" cy="11746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>
                <a:solidFill>
                  <a:srgbClr val="ffff99"/>
                </a:solidFill>
                <a:latin typeface="Times New Roman"/>
              </a:rPr>
              <a:t>Компоненты здоровья:</a:t>
            </a:r>
            <a:endParaRPr b="0" lang="en-US" sz="5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409" name="Diagram 3"/>
          <p:cNvGrpSpPr/>
          <p:nvPr/>
        </p:nvGrpSpPr>
        <p:grpSpPr>
          <a:xfrm>
            <a:off x="719640" y="1806120"/>
            <a:ext cx="7746120" cy="4122000"/>
            <a:chOff x="719640" y="1806120"/>
            <a:chExt cx="7746120" cy="4122000"/>
          </a:xfrm>
        </p:grpSpPr>
        <p:sp>
          <p:nvSpPr>
            <p:cNvPr id="1410" name="_s1028"/>
            <p:cNvSpPr/>
            <p:nvPr/>
          </p:nvSpPr>
          <p:spPr>
            <a:xfrm flipV="1">
              <a:off x="4591080" y="2874960"/>
              <a:ext cx="0" cy="5364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_s1029"/>
            <p:cNvSpPr/>
            <p:nvPr/>
          </p:nvSpPr>
          <p:spPr>
            <a:xfrm>
              <a:off x="3605040" y="1806120"/>
              <a:ext cx="1975320" cy="1071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Движ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_s1030"/>
            <p:cNvSpPr/>
            <p:nvPr/>
          </p:nvSpPr>
          <p:spPr>
            <a:xfrm flipV="1">
              <a:off x="5361840" y="3277800"/>
              <a:ext cx="772920" cy="334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_s1031"/>
            <p:cNvSpPr/>
            <p:nvPr/>
          </p:nvSpPr>
          <p:spPr>
            <a:xfrm>
              <a:off x="5919120" y="2409480"/>
              <a:ext cx="1975320" cy="1070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Положитель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эмо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_s1032"/>
            <p:cNvSpPr/>
            <p:nvPr/>
          </p:nvSpPr>
          <p:spPr>
            <a:xfrm>
              <a:off x="5553360" y="4063320"/>
              <a:ext cx="961560" cy="1202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_s1033"/>
            <p:cNvSpPr/>
            <p:nvPr/>
          </p:nvSpPr>
          <p:spPr>
            <a:xfrm>
              <a:off x="6491160" y="3765960"/>
              <a:ext cx="1974600" cy="1071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Чистота тела, жилища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продуктов 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_s1034"/>
            <p:cNvSpPr/>
            <p:nvPr/>
          </p:nvSpPr>
          <p:spPr>
            <a:xfrm>
              <a:off x="5019480" y="4425120"/>
              <a:ext cx="427680" cy="4842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_s1035"/>
            <p:cNvSpPr/>
            <p:nvPr/>
          </p:nvSpPr>
          <p:spPr>
            <a:xfrm>
              <a:off x="4892040" y="4855680"/>
              <a:ext cx="1975320" cy="1070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600"/>
                  </a:solidFill>
                  <a:latin typeface="Arial"/>
                </a:rPr>
                <a:t>Закалива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_s1036"/>
            <p:cNvSpPr/>
            <p:nvPr/>
          </p:nvSpPr>
          <p:spPr>
            <a:xfrm flipH="1">
              <a:off x="3735360" y="4425120"/>
              <a:ext cx="431280" cy="4842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_s1037"/>
            <p:cNvSpPr/>
            <p:nvPr/>
          </p:nvSpPr>
          <p:spPr>
            <a:xfrm>
              <a:off x="2324880" y="4857480"/>
              <a:ext cx="1975320" cy="10706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600"/>
                  </a:solidFill>
                  <a:latin typeface="Arial"/>
                </a:rPr>
                <a:t>Режим д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_s1038"/>
            <p:cNvSpPr/>
            <p:nvPr/>
          </p:nvSpPr>
          <p:spPr>
            <a:xfrm flipH="1">
              <a:off x="2667240" y="4063320"/>
              <a:ext cx="965520" cy="1202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_s1039"/>
            <p:cNvSpPr/>
            <p:nvPr/>
          </p:nvSpPr>
          <p:spPr>
            <a:xfrm>
              <a:off x="719640" y="3769920"/>
              <a:ext cx="1974600" cy="1070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Рационально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пит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_s1040"/>
            <p:cNvSpPr/>
            <p:nvPr/>
          </p:nvSpPr>
          <p:spPr>
            <a:xfrm flipH="1" flipV="1">
              <a:off x="3047760" y="3277800"/>
              <a:ext cx="776880" cy="334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_s1041"/>
            <p:cNvSpPr/>
            <p:nvPr/>
          </p:nvSpPr>
          <p:spPr>
            <a:xfrm>
              <a:off x="1288080" y="2411280"/>
              <a:ext cx="1974600" cy="10706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Отказ от вредны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привыче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_s1042"/>
            <p:cNvSpPr/>
            <p:nvPr/>
          </p:nvSpPr>
          <p:spPr>
            <a:xfrm>
              <a:off x="3605040" y="3411720"/>
              <a:ext cx="1975320" cy="10706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6600"/>
                  </a:solidFill>
                  <a:latin typeface="Times New Roman"/>
                </a:rPr>
                <a:t>ЗДОРОВЬ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Organization Chart 2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Нижний колонтитул 7"/>
          <p:cNvSpPr/>
          <p:nvPr/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556272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ab475"/>
                </a:solidFill>
                <a:uFillTx/>
                <a:latin typeface="Arial Unicode MS"/>
              </a:rPr>
              <a:t>Я здоровье сберегу, </a:t>
            </a:r>
            <a:br>
              <a:rPr sz="4400"/>
            </a:br>
            <a:r>
              <a:rPr b="0" lang="ru-RU" sz="4400" spc="-1" strike="noStrike" u="sng">
                <a:solidFill>
                  <a:srgbClr val="6ab475"/>
                </a:solidFill>
                <a:uFillTx/>
                <a:latin typeface="Arial Unicode MS"/>
              </a:rPr>
              <a:t>Сам себе я помогу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28" name="Picture 3" descr="PICT0008"/>
          <p:cNvPicPr/>
          <p:nvPr/>
        </p:nvPicPr>
        <p:blipFill>
          <a:blip r:embed="rId1"/>
          <a:stretch/>
        </p:blipFill>
        <p:spPr>
          <a:xfrm rot="21053400">
            <a:off x="708120" y="1841040"/>
            <a:ext cx="3887640" cy="2643120"/>
          </a:xfrm>
          <a:prstGeom prst="rect">
            <a:avLst/>
          </a:prstGeom>
          <a:ln w="0">
            <a:noFill/>
          </a:ln>
        </p:spPr>
      </p:pic>
      <p:pic>
        <p:nvPicPr>
          <p:cNvPr id="1429" name="Picture 4" descr="PICT0010"/>
          <p:cNvPicPr/>
          <p:nvPr/>
        </p:nvPicPr>
        <p:blipFill>
          <a:blip r:embed="rId2"/>
          <a:stretch/>
        </p:blipFill>
        <p:spPr>
          <a:xfrm>
            <a:off x="4356000" y="1700280"/>
            <a:ext cx="3962520" cy="2574720"/>
          </a:xfrm>
          <a:prstGeom prst="rect">
            <a:avLst/>
          </a:prstGeom>
          <a:ln w="0">
            <a:noFill/>
          </a:ln>
        </p:spPr>
      </p:pic>
      <p:pic>
        <p:nvPicPr>
          <p:cNvPr id="1430" name="Picture 5" descr="PICT0005"/>
          <p:cNvPicPr/>
          <p:nvPr/>
        </p:nvPicPr>
        <p:blipFill>
          <a:blip r:embed="rId3"/>
          <a:stretch/>
        </p:blipFill>
        <p:spPr>
          <a:xfrm rot="21171600">
            <a:off x="1020600" y="4003200"/>
            <a:ext cx="3483000" cy="2217960"/>
          </a:xfrm>
          <a:prstGeom prst="rect">
            <a:avLst/>
          </a:prstGeom>
          <a:ln w="0">
            <a:noFill/>
          </a:ln>
        </p:spPr>
      </p:pic>
      <p:pic>
        <p:nvPicPr>
          <p:cNvPr id="1431" name="Picture 6" descr="PICT0004"/>
          <p:cNvPicPr/>
          <p:nvPr/>
        </p:nvPicPr>
        <p:blipFill>
          <a:blip r:embed="rId4"/>
          <a:stretch/>
        </p:blipFill>
        <p:spPr>
          <a:xfrm rot="378600">
            <a:off x="4355640" y="4046400"/>
            <a:ext cx="36640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982880" y="561600"/>
            <a:ext cx="64260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456840" y="220932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1261800" indent="-4204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Что такое здоров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990033"/>
                </a:solidFill>
                <a:latin typeface="Georgia"/>
              </a:rPr>
              <a:t> Какие секреты, сохраняющие здоровье, существую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cc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3366cc"/>
                </a:solidFill>
                <a:latin typeface="Georgia"/>
              </a:rPr>
              <a:t> Что необходимо делать, чтобы прожить здоровым и счастливым  много л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www.pedagogsaratov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1" name="Рисунок 13" descr="00046824.jpg"/>
          <p:cNvPicPr/>
          <p:nvPr/>
        </p:nvPicPr>
        <p:blipFill>
          <a:blip r:embed="rId1"/>
          <a:stretch/>
        </p:blipFill>
        <p:spPr>
          <a:xfrm>
            <a:off x="-152280" y="0"/>
            <a:ext cx="9715320" cy="7000920"/>
          </a:xfrm>
          <a:prstGeom prst="rect">
            <a:avLst/>
          </a:prstGeom>
          <a:ln w="0">
            <a:noFill/>
          </a:ln>
        </p:spPr>
      </p:pic>
      <p:pic>
        <p:nvPicPr>
          <p:cNvPr id="1312" name="Рисунок 4" descr="Незнайка_2"/>
          <p:cNvPicPr/>
          <p:nvPr/>
        </p:nvPicPr>
        <p:blipFill>
          <a:blip r:embed="rId2"/>
          <a:stretch/>
        </p:blipFill>
        <p:spPr>
          <a:xfrm>
            <a:off x="142920" y="5000760"/>
            <a:ext cx="1000080" cy="1643040"/>
          </a:xfrm>
          <a:prstGeom prst="rect">
            <a:avLst/>
          </a:prstGeom>
          <a:ln w="0">
            <a:noFill/>
          </a:ln>
        </p:spPr>
      </p:pic>
      <p:pic>
        <p:nvPicPr>
          <p:cNvPr id="1313" name="Рисунок 19" descr="15345.gif"/>
          <p:cNvPicPr/>
          <p:nvPr/>
        </p:nvPicPr>
        <p:blipFill>
          <a:blip r:embed="rId3"/>
          <a:stretch/>
        </p:blipFill>
        <p:spPr>
          <a:xfrm>
            <a:off x="3143160" y="485784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1314" name="Рисунок 20" descr="15367.gif"/>
          <p:cNvPicPr/>
          <p:nvPr/>
        </p:nvPicPr>
        <p:blipFill>
          <a:blip r:embed="rId4"/>
          <a:stretch/>
        </p:blipFill>
        <p:spPr>
          <a:xfrm>
            <a:off x="6429240" y="5072040"/>
            <a:ext cx="1030320" cy="1552680"/>
          </a:xfrm>
          <a:prstGeom prst="rect">
            <a:avLst/>
          </a:prstGeom>
          <a:ln w="0">
            <a:noFill/>
          </a:ln>
        </p:spPr>
      </p:pic>
      <p:pic>
        <p:nvPicPr>
          <p:cNvPr id="1315" name="Рисунок 21" descr="15710.gif"/>
          <p:cNvPicPr/>
          <p:nvPr/>
        </p:nvPicPr>
        <p:blipFill>
          <a:blip r:embed="rId5"/>
          <a:stretch/>
        </p:blipFill>
        <p:spPr>
          <a:xfrm>
            <a:off x="1600200" y="5105520"/>
            <a:ext cx="961920" cy="1600200"/>
          </a:xfrm>
          <a:prstGeom prst="rect">
            <a:avLst/>
          </a:prstGeom>
          <a:ln w="0">
            <a:noFill/>
          </a:ln>
        </p:spPr>
      </p:pic>
      <p:pic>
        <p:nvPicPr>
          <p:cNvPr id="1316" name="Рисунок 22" descr="26848.gif"/>
          <p:cNvPicPr/>
          <p:nvPr/>
        </p:nvPicPr>
        <p:blipFill>
          <a:blip r:embed="rId6"/>
          <a:stretch/>
        </p:blipFill>
        <p:spPr>
          <a:xfrm>
            <a:off x="7929720" y="5143680"/>
            <a:ext cx="1071360" cy="1461960"/>
          </a:xfrm>
          <a:prstGeom prst="rect">
            <a:avLst/>
          </a:prstGeom>
          <a:ln w="0">
            <a:noFill/>
          </a:ln>
        </p:spPr>
      </p:pic>
      <p:pic>
        <p:nvPicPr>
          <p:cNvPr id="1317" name="Рисунок 23" descr="16283.gif"/>
          <p:cNvPicPr/>
          <p:nvPr/>
        </p:nvPicPr>
        <p:blipFill>
          <a:blip r:embed="rId7"/>
          <a:stretch/>
        </p:blipFill>
        <p:spPr>
          <a:xfrm>
            <a:off x="4714920" y="5572080"/>
            <a:ext cx="140184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318" name="Двойная волна 15"/>
          <p:cNvGrpSpPr/>
          <p:nvPr/>
        </p:nvGrpSpPr>
        <p:grpSpPr>
          <a:xfrm>
            <a:off x="658800" y="109440"/>
            <a:ext cx="8326440" cy="1536840"/>
            <a:chOff x="658800" y="109440"/>
            <a:chExt cx="8326440" cy="1536840"/>
          </a:xfrm>
        </p:grpSpPr>
        <p:pic>
          <p:nvPicPr>
            <p:cNvPr id="1319" name="Двойная волна 15" descr=""/>
            <p:cNvPicPr/>
            <p:nvPr/>
          </p:nvPicPr>
          <p:blipFill>
            <a:blip r:embed="rId8"/>
            <a:stretch/>
          </p:blipFill>
          <p:spPr>
            <a:xfrm>
              <a:off x="658800" y="109440"/>
              <a:ext cx="83264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"/>
            <p:cNvSpPr/>
            <p:nvPr/>
          </p:nvSpPr>
          <p:spPr>
            <a:xfrm>
              <a:off x="785880" y="374760"/>
              <a:ext cx="80722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99cc00"/>
                  </a:solidFill>
                  <a:latin typeface="Book Antiqua"/>
                </a:rPr>
                <a:t>город  </a:t>
              </a:r>
              <a:r>
                <a:rPr b="1" lang="ru-RU" sz="4800" spc="-1" strike="noStrike">
                  <a:solidFill>
                    <a:srgbClr val="99cc00"/>
                  </a:solidFill>
                  <a:latin typeface="Book Antiqua"/>
                </a:rPr>
                <a:t>ЗДОРОВЕЙС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Picture 2" descr="doc09"/>
          <p:cNvPicPr/>
          <p:nvPr/>
        </p:nvPicPr>
        <p:blipFill>
          <a:blip r:embed="rId1"/>
          <a:stretch/>
        </p:blipFill>
        <p:spPr>
          <a:xfrm>
            <a:off x="7086600" y="1447920"/>
            <a:ext cx="1295280" cy="2590560"/>
          </a:xfrm>
          <a:prstGeom prst="rect">
            <a:avLst/>
          </a:prstGeom>
          <a:ln w="0">
            <a:noFill/>
          </a:ln>
        </p:spPr>
      </p:pic>
      <p:pic>
        <p:nvPicPr>
          <p:cNvPr id="1323" name="Picture 3" descr="46c0d37d34c82"/>
          <p:cNvPicPr/>
          <p:nvPr/>
        </p:nvPicPr>
        <p:blipFill>
          <a:blip r:embed="rId2"/>
          <a:stretch/>
        </p:blipFill>
        <p:spPr>
          <a:xfrm>
            <a:off x="533520" y="4343400"/>
            <a:ext cx="965160" cy="1447920"/>
          </a:xfrm>
          <a:prstGeom prst="rect">
            <a:avLst/>
          </a:prstGeom>
          <a:ln w="0">
            <a:noFill/>
          </a:ln>
        </p:spPr>
      </p:pic>
      <p:pic>
        <p:nvPicPr>
          <p:cNvPr id="1324" name="Picture 5" descr="46c0da15a46e6"/>
          <p:cNvPicPr/>
          <p:nvPr/>
        </p:nvPicPr>
        <p:blipFill>
          <a:blip r:embed="rId3"/>
          <a:stretch/>
        </p:blipFill>
        <p:spPr>
          <a:xfrm>
            <a:off x="2057400" y="411480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6" descr="471f33c491e0c"/>
          <p:cNvPicPr/>
          <p:nvPr/>
        </p:nvPicPr>
        <p:blipFill>
          <a:blip r:embed="rId4"/>
          <a:stretch/>
        </p:blipFill>
        <p:spPr>
          <a:xfrm>
            <a:off x="6095880" y="4038480"/>
            <a:ext cx="957240" cy="1278000"/>
          </a:xfrm>
          <a:prstGeom prst="rect">
            <a:avLst/>
          </a:prstGeom>
          <a:ln w="0">
            <a:noFill/>
          </a:ln>
        </p:spPr>
      </p:pic>
      <p:pic>
        <p:nvPicPr>
          <p:cNvPr id="1326" name="Picture 7" descr="46fb9b4607081"/>
          <p:cNvPicPr/>
          <p:nvPr/>
        </p:nvPicPr>
        <p:blipFill>
          <a:blip r:embed="rId5"/>
          <a:stretch/>
        </p:blipFill>
        <p:spPr>
          <a:xfrm>
            <a:off x="7162920" y="4419720"/>
            <a:ext cx="1203120" cy="1439640"/>
          </a:xfrm>
          <a:prstGeom prst="rect">
            <a:avLst/>
          </a:prstGeom>
          <a:ln w="0">
            <a:noFill/>
          </a:ln>
        </p:spPr>
      </p:pic>
      <p:sp>
        <p:nvSpPr>
          <p:cNvPr id="1327" name="Rectangle 8"/>
          <p:cNvSpPr/>
          <p:nvPr/>
        </p:nvSpPr>
        <p:spPr>
          <a:xfrm>
            <a:off x="762120" y="1295280"/>
            <a:ext cx="6476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Я открою семь секретов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Как здоровье сохранить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полняя все секреты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Без болезней будем жить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152d2c"/>
                </a:solidFill>
                <a:latin typeface="Times New Roman"/>
              </a:rPr>
              <a:t>Секреты здоровь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9" name="Содержимое 5" descr=""/>
          <p:cNvPicPr/>
          <p:nvPr/>
        </p:nvPicPr>
        <p:blipFill>
          <a:blip r:embed="rId6"/>
          <a:stretch/>
        </p:blipFill>
        <p:spPr>
          <a:xfrm>
            <a:off x="3581280" y="4038480"/>
            <a:ext cx="185760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37 0.28125 L -0.56389 0.15579 E">
                                      <p:cBhvr>
                                        <p:cTn id="6" dur="2000" fill="hold"/>
                                        <p:tgtEl>
                                          <p:spTgt spid="1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/>
          </p:nvPr>
        </p:nvSpPr>
        <p:spPr>
          <a:xfrm>
            <a:off x="1752480" y="609480"/>
            <a:ext cx="693432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Comic Sans MS"/>
              </a:rPr>
              <a:t>Здравствуйте! Добрая ласковость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Comic Sans MS"/>
              </a:rPr>
              <a:t>                 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Comic Sans MS"/>
              </a:rPr>
              <a:t>сл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Comic Sans MS"/>
              </a:rPr>
              <a:t>Стерлась на нет в ежедневно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Comic Sans MS"/>
              </a:rPr>
              <a:t>               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Comic Sans MS"/>
              </a:rPr>
              <a:t>приве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Comic Sans MS"/>
              </a:rPr>
              <a:t>Здравствуйте! Это же - будьт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Comic Sans MS"/>
              </a:rPr>
              <a:t>               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Comic Sans MS"/>
              </a:rPr>
              <a:t>здоров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Comic Sans MS"/>
              </a:rPr>
              <a:t>Это же - дольше живите на свете.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Times New Roman"/>
              </a:rPr>
              <a:t>                                  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cc00"/>
                </a:solidFill>
                <a:latin typeface="Times New Roman"/>
              </a:rPr>
              <a:t>                                   </a:t>
            </a: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  </a:t>
            </a:r>
            <a:r>
              <a:rPr b="0" i="1" lang="ru-RU" sz="3200" spc="-1" strike="noStrike">
                <a:solidFill>
                  <a:srgbClr val="ffcc00"/>
                </a:solidFill>
                <a:latin typeface="Comic Sans MS"/>
              </a:rPr>
              <a:t>Е. Шевелёва</a:t>
            </a:r>
            <a:r>
              <a:rPr b="0" lang="ru-RU" sz="35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Нижний колонтитул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«Чистота – залог здоровья!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ждый раз перед едо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ужно фрукты мыть водой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тобы быть здоровым, сильным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й лицо и руки с мылом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удь аккуратен, забудь лень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исти зубы каждый день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5" name="Picture 4" descr="HH01303_"/>
          <p:cNvPicPr/>
          <p:nvPr/>
        </p:nvPicPr>
        <p:blipFill>
          <a:blip r:embed="rId1"/>
          <a:stretch/>
        </p:blipFill>
        <p:spPr>
          <a:xfrm>
            <a:off x="7010280" y="4419720"/>
            <a:ext cx="2340000" cy="23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Движение - это жизн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410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лодым я говорю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 здоровьем дружен спорт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дион, бассейн и кор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л, каток – везде всем рад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старание в наград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ут мышцы ваши тверды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ут кубки и рекор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9" name="Picture 4" descr="ар"/>
          <p:cNvPicPr/>
          <p:nvPr/>
        </p:nvPicPr>
        <p:blipFill>
          <a:blip r:embed="rId1"/>
          <a:stretch/>
        </p:blipFill>
        <p:spPr>
          <a:xfrm>
            <a:off x="7467480" y="2362320"/>
            <a:ext cx="1524240" cy="1425600"/>
          </a:xfrm>
          <a:prstGeom prst="rect">
            <a:avLst/>
          </a:prstGeom>
          <a:ln w="0">
            <a:noFill/>
          </a:ln>
        </p:spPr>
      </p:pic>
      <p:pic>
        <p:nvPicPr>
          <p:cNvPr id="1340" name="Picture 5" descr="PE01267_"/>
          <p:cNvPicPr/>
          <p:nvPr/>
        </p:nvPicPr>
        <p:blipFill>
          <a:blip r:embed="rId2"/>
          <a:stretch/>
        </p:blipFill>
        <p:spPr>
          <a:xfrm>
            <a:off x="7162920" y="5410080"/>
            <a:ext cx="1568160" cy="1266840"/>
          </a:xfrm>
          <a:prstGeom prst="rect">
            <a:avLst/>
          </a:prstGeom>
          <a:ln w="0">
            <a:noFill/>
          </a:ln>
        </p:spPr>
      </p:pic>
      <p:pic>
        <p:nvPicPr>
          <p:cNvPr id="1341" name="Picture 6" descr="PE01335_"/>
          <p:cNvPicPr/>
          <p:nvPr/>
        </p:nvPicPr>
        <p:blipFill>
          <a:blip r:embed="rId3"/>
          <a:stretch/>
        </p:blipFill>
        <p:spPr>
          <a:xfrm>
            <a:off x="6705720" y="3886200"/>
            <a:ext cx="1684080" cy="121932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7" descr="PE01313_"/>
          <p:cNvPicPr/>
          <p:nvPr/>
        </p:nvPicPr>
        <p:blipFill>
          <a:blip r:embed="rId4"/>
          <a:stretch/>
        </p:blipFill>
        <p:spPr>
          <a:xfrm>
            <a:off x="5943600" y="1752480"/>
            <a:ext cx="1698480" cy="1828800"/>
          </a:xfrm>
          <a:prstGeom prst="rect">
            <a:avLst/>
          </a:prstGeom>
          <a:ln w="0">
            <a:noFill/>
          </a:ln>
        </p:spPr>
      </p:pic>
      <p:pic>
        <p:nvPicPr>
          <p:cNvPr id="1343" name="Picture 8" descr="17"/>
          <p:cNvPicPr/>
          <p:nvPr/>
        </p:nvPicPr>
        <p:blipFill>
          <a:blip r:embed="rId5"/>
          <a:stretch/>
        </p:blipFill>
        <p:spPr>
          <a:xfrm>
            <a:off x="5029200" y="5105520"/>
            <a:ext cx="1924200" cy="153972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9" descr="6"/>
          <p:cNvPicPr/>
          <p:nvPr/>
        </p:nvPicPr>
        <p:blipFill>
          <a:blip r:embed="rId6"/>
          <a:stretch/>
        </p:blipFill>
        <p:spPr>
          <a:xfrm>
            <a:off x="7162920" y="-228600"/>
            <a:ext cx="144756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Нижний колонтитул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142640" y="-703440"/>
            <a:ext cx="779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7848720" y="60199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8" name="Rectangle 4"/>
          <p:cNvSpPr/>
          <p:nvPr/>
        </p:nvSpPr>
        <p:spPr>
          <a:xfrm>
            <a:off x="304920" y="2208600"/>
            <a:ext cx="8305560" cy="350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хочешь быть сильным – бег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хочешь быть красивым – бега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чешь быть умным – бегай.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25T17:26:0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