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5.jpeg" ContentType="image/jpeg"/>
  <Override PartName="/ppt/media/image19.gif" ContentType="image/gif"/>
  <Override PartName="/ppt/media/image14.jpeg" ContentType="image/jpeg"/>
  <Override PartName="/ppt/media/image20.gif" ContentType="image/gif"/>
  <Override PartName="/ppt/media/image13.png" ContentType="image/png"/>
  <Override PartName="/ppt/media/image54.jpeg" ContentType="image/jpeg"/>
  <Override PartName="/ppt/media/image18.gif" ContentType="image/gif"/>
  <Override PartName="/ppt/media/image17.gif" ContentType="image/gif"/>
  <Override PartName="/ppt/media/image21.png" ContentType="image/png"/>
  <Override PartName="/ppt/media/image16.gif" ContentType="image/gif"/>
  <Override PartName="/ppt/media/image51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5.png" ContentType="image/png"/>
  <Override PartName="/ppt/media/image35.png" ContentType="image/png"/>
  <Override PartName="/ppt/media/image43.jpeg" ContentType="image/jpeg"/>
  <Override PartName="/ppt/media/image23.jpeg" ContentType="image/jpeg"/>
  <Override PartName="/ppt/media/image42.jpeg" ContentType="image/jpeg"/>
  <Override PartName="/ppt/media/image44.jpeg" ContentType="image/jpeg"/>
  <Override PartName="/ppt/media/image45.wmf" ContentType="image/x-wmf"/>
  <Override PartName="/ppt/media/image46.wmf" ContentType="image/x-wmf"/>
  <Override PartName="/ppt/media/image55.jpeg" ContentType="image/jpeg"/>
  <Override PartName="/ppt/media/image3.png" ContentType="image/png"/>
  <Override PartName="/ppt/media/image47.wmf" ContentType="image/x-wmf"/>
  <Override PartName="/ppt/media/image48.gif" ContentType="image/gif"/>
  <Override PartName="/ppt/media/image50.gif" ContentType="image/gif"/>
  <Override PartName="/ppt/media/image36.wmf" ContentType="image/x-wmf"/>
  <Override PartName="/ppt/media/image49.jpeg" ContentType="image/jpeg"/>
  <Override PartName="/ppt/media/image52.jpeg" ContentType="image/jpeg"/>
  <Override PartName="/ppt/media/image41.png" ContentType="image/png"/>
  <Override PartName="/ppt/media/image53.jpeg" ContentType="image/jpeg"/>
  <Override PartName="/ppt/media/image40.png" ContentType="image/png"/>
  <Override PartName="/ppt/media/image38.wmf" ContentType="image/x-wmf"/>
  <Override PartName="/ppt/media/image37.wmf" ContentType="image/x-wmf"/>
  <Override PartName="/ppt/media/image33.gif" ContentType="image/gif"/>
  <Override PartName="/ppt/media/image32.jpeg" ContentType="image/jpeg"/>
  <Override PartName="/ppt/media/image34.gif" ContentType="image/gif"/>
  <Override PartName="/ppt/media/image30.wmf" ContentType="image/x-wmf"/>
  <Override PartName="/ppt/media/image8.png" ContentType="image/png"/>
  <Override PartName="/ppt/media/image39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12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3789-C280-4179-B15E-B1797A24DC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56C9-FD22-406D-9CE0-43F53413C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E3FC-1981-4BFA-92C5-A9562BD8A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6F0-F5D0-460F-8A0D-044150E7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4CD-1584-4E04-88D7-C3E4C08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92FCA-A55C-4292-A562-8A51DD3E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99EFF-7C99-4107-9E10-BCC677B2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0961D-C403-4C5F-A54C-E41E9DF7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4EAB9-96E6-48BF-BFC3-E7DD5031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356A0-9DF2-49A6-938A-492690E4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E5CAF-30A4-4B71-92D3-6DEA996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B0F66-C576-49A1-884A-F6A02C08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92CDB-A30F-49E5-A02B-5C588EFA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72934-21DD-4570-8933-8B393579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967BE-150B-4CF4-9EF1-0BA80BC3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AB2-A938-4195-B0A7-963B0D29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97760-9163-4449-A23C-E21FE2ED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50264-9AA5-49C2-9577-99387814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F6D8D-BF1C-46B4-B06F-6EF48952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C82A2-461B-4AB4-882C-D0C2CF2B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51184-DD73-4630-B00D-5AEC35CF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32D79-6656-4D71-8B47-217BCA11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F6D29-EF5F-4599-9042-12426F24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F9DEB-49E1-4702-A0AC-80B0B037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912E8-0346-4CF1-82A3-FCEE04D1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61A12-F10D-4CE1-8D59-4C6E9DD9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287-7C42-4858-9572-32AD5938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5DC29-FA59-4666-9FDE-619DACCB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78FD0-74D9-4D61-A1D6-CFAA3F55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D6E56-02EF-4406-B5A2-4BA8DC02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5E8E7-EC7E-4AF8-B4E5-1CEB2BA2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EDF28-0AE7-49F6-88A1-3B4928F4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B3688-1A20-41A2-A2CE-2B737ED0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B0FED-3261-4FD5-A84F-9B7B8F16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54D7D-D811-4783-BCA6-19A7902E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81533-E5B3-4348-90EA-E355F702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B93BD-1C90-427E-8C6F-C5DD5796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D2F7-164F-49CC-BFA0-F24E264E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8C231-1BD6-47BF-9C86-B603DA22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45743-1E9D-4988-8013-89B9191C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E3D41-C9C5-4184-B1C7-2F335FD4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996CE-4A4F-4930-B911-422EF8D3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7FE80-CCD7-4352-80E9-11167168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BB8D4-E196-4F80-A6C4-FDC59952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D3AA0-A108-46D5-BE28-F5E9F549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70E1F-4BAA-431E-83E8-90B420FB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30E1A-BBE9-4CEB-B070-D6CCF2BC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44154-06D1-4477-A412-34AC5A74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3471-A3E2-46FB-B1E4-060B298E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9B0C3-4FE6-4E9A-9048-DDB9032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2138E-0D51-4E7C-AD08-AB3F0597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593AF-D0A7-432D-B35C-EF154060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53BF4-016B-4782-B41D-FCD79E80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452C6-7DD6-45EE-A098-FE5926B7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F37642-F93D-4C2C-B9DE-6F48E6BA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68DB61-D7F4-43C6-B76E-BBD0B5AE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FB406E-EA4C-458A-A5E0-CBF14CE8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DF85B4-A720-4FAC-B8B0-37089A97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89EA17-4305-4E79-A426-16DB38A7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A397-640A-48B0-A05D-4EA75CD8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3C7642-12E2-498C-8253-EAF05B8C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682B48-F313-4F52-88BD-00B2194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CA7576-AD1D-46C5-A7D4-1A10810A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DC7791-0109-4FE6-9C6B-064C4BD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026A4F-33F5-4BD5-B16E-B0D5C8C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5F32FD-1067-4C9E-A52A-215D1C5B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3D7E2E-5CE2-40AA-A03B-DAFD86C6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5A033-A2AD-4ECD-8864-B65EBA2A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D316D-0234-4947-B566-22C5F613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22870-00DF-4C54-979A-3BA050F5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1562-8EDB-4BFF-B2F3-B03CFA7A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C81761-7216-4897-877A-730070B6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6B0C2-91AF-4704-AFC5-DDB73255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3E8F8-5294-4C7F-9B59-2EFB4069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4A26A-D346-4784-BEC9-7039AA3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37162-B923-4B0D-A9A4-44468F8C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C79AB-6860-46D4-807F-219BD83F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085F6-A826-4BC4-9360-6565A64D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81805-0EF4-4585-A4D2-20A14770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D5431-C8ED-4D7C-A2F2-41CBB695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68C6D-7769-48D3-899A-48D53C5D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5869-4599-4524-BD16-6DEAD7B0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7FD30-E4E5-4447-9FD0-8CF32248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64E49-3CD1-4A95-9188-477E1866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EF3C3-FDA3-4F80-B4CD-9436B784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726B9-62ED-4E47-90A7-4A5F4D07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8176A-528C-48C4-8DF7-6CA137C7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E7973-3740-4022-8433-98AACCB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E5EF1-55EE-4A61-92D4-98B7CF65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70EDB-9565-4E27-AE5C-BC9617C3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23EB9F-9864-4EA0-A60E-DF2E7E3B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7414D-4C28-499B-A373-611DE99C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887A-BC8C-4A66-8756-FCA43273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12703-D9F3-4B37-B7CE-09954020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CA18A-5A05-4CCF-B556-D614C818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9DDDD-DB4C-4B40-AD69-42F357B3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22122D-7FA5-4C14-AECC-BA51EA60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F9337-278A-4B56-8AB3-04E220DC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1EE5FF-41B1-49D7-8488-BDF58BF0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C0EABF-686D-4E0E-AFFF-DDE30704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A6A7E-BD71-4405-8756-BD033E5E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675F1-63C3-45B2-91AE-BC94DBC9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50357-8003-4485-977C-935E06B7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DB41-1A46-411A-8590-AF762640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1B5F2-1062-4DD8-83B1-BDB5FF0F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CEBDE-C8D0-4DEE-B38A-4392EC74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6DD7B-DEF8-4558-9FBE-6A82A916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160E1-4398-4506-9EFA-C5AE2FE1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3D473-6ECB-46FD-B047-3409CA79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49C15-EAA4-4632-B8BE-CEDB5A42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A441F-3161-4F29-A00F-EAC16F2B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9813F-F97A-4A9F-9B9B-66D06F27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7FA7E-200A-4D0B-AC1D-8A0232F9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6A1017-6C63-44C2-BBA7-B74A6A9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7A1-A01D-42FE-B66B-D7C950EA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36A5-155B-4E0C-814D-7CD1A0F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3E7A6A-3F72-42B5-9A29-49AA317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238F5-47EC-4D8E-9673-4716AC32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5658D0-1583-4637-B67A-F9093AA7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2A9BA8-6256-4C72-91CA-C9D90B51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CC42D-4A07-49E3-9B3B-C814BBEE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E186F0-9299-4967-B38F-EBCBF87D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3AA70-ECB3-439B-ADD9-1EA0569E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C5EF7-0CA1-4D0E-BBA9-412EC201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D5E39-1B54-4338-8F45-ACAF097C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ABD8F-946A-470B-8251-98E18BF9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EDAA-6B2B-47FF-8D86-F142C47D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9AE696-F87D-47B7-B89A-901257E6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6DDCD1-1A39-4B84-A53E-58CD4F66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997D0E-3E36-4D5B-9574-1BDD2650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874F74-AF22-4FC0-A6CF-845CA56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71F42-EBBB-4A6F-A757-2ED7DD07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D1DFB-B4E2-46B5-BE04-FE68AF2B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265E2-CF4A-4014-A0D0-CF156F5F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C1D33-7B16-46F6-B64C-FD311914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DFF62-447E-4E76-92E5-E4A06660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E481A-3340-49FB-AA7F-48FAF5FC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31CA-A671-40AF-89D5-E03B2DBE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A586FD-8821-41CA-8A9D-0AC3C121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4058AF-D226-4881-9F23-E4BAAAC1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84E022-896C-42B3-B31D-3958A41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DE2C5A-33EE-4B1C-BA49-FDCCD220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763BA-8F5A-477C-8A20-6507389B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679AA6-28CC-45B2-AB6B-D615DB81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59F7A2-0B98-43B5-A1DB-4E976DAB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1F969-E582-4670-9F50-388AE988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5FD40-0FED-4932-ACBB-275F7FF3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F41F9-8474-46C2-9FD7-76F4A98E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E1CC-3F7B-467D-9BE8-3EF5EDF7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05C90-1294-4893-A866-390CDF49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191FC2-86F3-42FF-A3E7-3FCD6187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D41D1B-4DED-4442-AD67-96A7A9E7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AA4F7-23F9-42F9-8E2E-A0799CF9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5C9102-B041-4B46-805E-0D2C3029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8D31E8-DEBA-4919-B15A-FA8818F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AA2406-DFAC-4543-A5CA-7EC30FB7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5F44C7-914A-43F1-94E4-5CD64A28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48E57-F77A-4361-9241-2C954AB4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28973-7599-4B4F-944A-B54A4A2F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9CBA-2A56-4C40-BD32-DA646189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5DA9F-1CC2-4BAA-824E-C419C4C4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2F21EE-6CC1-4FEB-96F0-4C807A37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03857-381C-4FE7-89A8-E3154D86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519940-FB28-4BFE-98EA-4AE5C1C0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CF2E5-40A2-4CE6-BBFB-E1F3BFE9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84386E-7A2B-47C7-BA9A-12D95BEF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3FA57C-251A-4E2D-9719-89F5E544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552954-081B-4B66-AB73-F6D9AB9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C9AB1-ECC7-44A1-B26C-63941DDF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4EEF9-8854-49D7-9832-F27DD9BF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C66C9-30FA-4802-ABDF-B59BF246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06B274-8CD3-43FE-AB82-65EC3E41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9982FB-E686-4537-8BFE-EDE050C9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F97BEC-E303-4E50-B444-AC4E3825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EA585E-BA56-42E4-9D31-211C644F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EF929D-F886-43EE-80EA-CAFA9513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EFDADD-5665-40A6-8E5F-2CCC525C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78A54-028A-4AC8-8D43-F4AF511B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0E7ADC-F7F1-4C23-8548-F142B45A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0F2858-5C8A-4AF2-9A7A-266D258D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62C2F8-5972-432A-B185-6361979E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00AE-EB53-4A2D-B9A4-59B3870C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CDA443-5CBC-483D-BF16-B7EED315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A0B01B-2443-4D7D-820F-5BC02F8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AD973F-671B-4926-AF73-0359D650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9800EA-C195-49F3-A1C0-46F2E90C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89B158-47F4-49BA-AD1D-E4D2BE85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1D84BD-6C69-45DA-8ACF-F357E2AB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492ED4-6C54-4F31-8F9D-95D02148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EC94B1-D22D-40B3-9AF0-CAA10E8A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611393-D79F-4019-AB9B-6AE16DBB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DFDF47-CDC2-4554-87F2-6D41B10E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201C-673E-4898-ACAA-0A31B47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23DDAB-555F-4591-AA43-F5ACCEFC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7F9607-89DE-4DA3-AE08-D54476C7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43E1DA-DFCC-47CB-8F65-6FD9A14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772853-1562-44BF-9D49-FB13F18A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6DDF98-0467-4503-865D-B303397B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F0A8B3-BCA5-4CD3-800A-131B17D3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1C143E-315F-4FBE-9131-7EC8D931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BD64-011F-4A8D-84CC-7982F536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B2E84-2C44-4F2F-B0FC-01029699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E81-9609-4279-8FBF-A077D3A5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F330-B6E5-4D8C-B331-D7AE5384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19C58-1BC6-45BF-B17D-9A56F9D1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69EA-B76D-43BE-83BF-D22BCDFA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B00E-59BE-4B17-B8FA-B170F5DE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AB37-D009-4CBB-B701-D9284E78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5BA6-7C63-45F6-B0AE-FD4F06E8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72AE-4829-4EC4-A5B4-5B8546B6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D1A9-3054-4841-989D-14F8CBEA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9893-FF89-4F88-9E95-B61C0C7D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D0E7E-1829-4256-9082-949418A7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A68-FD53-404C-AB95-2CDCAEA0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CBEE-891C-4267-9ACC-6F2A5CC8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9CA0D-8CFD-4FFE-810A-9048E0EE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2F0C5-87D2-47AB-90E2-6862F4D3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1A759-2278-434D-BA6B-C8D4E9A0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81FD-CA9F-41AF-931E-BB65AB0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DB31-C443-47AB-94FB-0EA14B97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59756-1C30-4BFD-ABD9-D855ECD2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7AC1-7B59-4DD3-839B-DE840E5C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66015-36B3-406B-AB58-2B8F41A5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8AD11-CF48-4DE0-A1AC-B3EDE0B6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761-864E-448F-ACC5-B7FD7CF5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C5C27-7B2C-433A-BEBA-0BBC09AC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D3290-FD15-42B3-B85E-7183988A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24707-8150-4BC3-9EFF-8906C376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ED233-55D8-4989-B00C-7A90294E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2B07E-B966-455D-B54C-0F9E47B1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81720-419A-4420-B5D2-9B5D765D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DFF25-BC2B-45CE-8C4C-E558F6DD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18C1B-B664-46FB-A1FF-91ADFCBA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1C01A-D4FE-448B-9178-9FB39204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EDF0C-C279-4E92-9DFD-002A8C57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546-4D12-4834-9295-23984113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809DB-B0A7-4A50-A1F9-69C35B3F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B15F-7EDE-4262-B967-6A478E4D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9632B-BC0C-4D7C-8496-F2F5D55C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F0A55-86DA-4EDE-BBD4-1F7C2A59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C0EBF-B280-48ED-A091-C912804F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907AA-EE40-4F9B-82DF-68C0200F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B14CE-339C-4E28-B97D-472CA734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0D64C-995B-4C99-9ECD-0FEA402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AE2D-2707-43E3-BDC1-D816399C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0E93E-1BAF-48FF-BB82-20659F0D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F48-EDCB-49BF-A072-3CDDF1F5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0F1C-19DA-49C6-990F-32DEDC76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4BA7B-0ED9-4E35-98CB-862EEEF6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14D4C-6917-4970-B583-DEB383B1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2B3B8-05A8-45F9-A1C4-CD5D45CB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7D382-72B0-4509-98E6-F78A9E42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B1A5D-1F48-4661-B233-EBE0A22B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1AACE-05B6-47E2-A157-54EBD075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BAA49-02B8-4D22-9104-B96C3F12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45B0B-827B-411B-9AC8-7551FE20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1ADD5-835C-4598-A55F-366A4CE5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235-C101-414A-8592-3006BC1E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99DC1-7787-4B64-A7A0-DBDFD3DC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E6288-80D5-49C3-B794-B63AE2B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8172D-34F2-490E-B978-4494D840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092B3-2E33-47D2-85F2-2BD52EC0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6BB9D-FDC6-40C2-A9E1-9435F69A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AF718-657C-4128-991D-6BA767F7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D214-C0D9-420F-A992-7E42FA0A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C13A3-55A4-48A1-94E9-48EB35BB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0DE9A-F523-48B2-9D02-36749DD2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EDC7E-682B-416E-8D8D-6AA96E5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01D-6F1D-499E-9D9C-BBC72F1F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D534E-FF45-4449-A8B5-DABFD24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4355-F391-4157-BCF2-CC1AFBD8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FDE10-8365-4A07-9984-36A3AB86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604B3-FC50-488E-A209-E55886A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05F40-CF96-4E9B-855C-C6D66517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C9EED-4BA1-4139-A9CE-2508CCB4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9FA2B-2587-4FD5-9D9E-06B349EE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4C78F-1283-4C2E-BF89-5CF3F0E3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1AF36-CD38-48C1-B41D-A7022605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50755-A4ED-4AE0-B5A3-1E5AE81E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05.xml"/><Relationship Id="rId35" Type="http://schemas.openxmlformats.org/officeDocument/2006/relationships/slideLayout" Target="../slideLayouts/slideLayout206.xml"/><Relationship Id="rId36" Type="http://schemas.openxmlformats.org/officeDocument/2006/relationships/slideLayout" Target="../slideLayouts/slideLayout207.xml"/><Relationship Id="rId37" Type="http://schemas.openxmlformats.org/officeDocument/2006/relationships/slideLayout" Target="../slideLayouts/slideLayout208.xml"/><Relationship Id="rId38" Type="http://schemas.openxmlformats.org/officeDocument/2006/relationships/slideLayout" Target="../slideLayouts/slideLayout209.xml"/><Relationship Id="rId39" Type="http://schemas.openxmlformats.org/officeDocument/2006/relationships/slideLayout" Target="../slideLayouts/slideLayout210.xml"/><Relationship Id="rId40" Type="http://schemas.openxmlformats.org/officeDocument/2006/relationships/slideLayout" Target="../slideLayouts/slideLayout211.xml"/><Relationship Id="rId41" Type="http://schemas.openxmlformats.org/officeDocument/2006/relationships/slideLayout" Target="../slideLayouts/slideLayout212.xml"/><Relationship Id="rId42" Type="http://schemas.openxmlformats.org/officeDocument/2006/relationships/slideLayout" Target="../slideLayouts/slideLayout213.xml"/><Relationship Id="rId43" Type="http://schemas.openxmlformats.org/officeDocument/2006/relationships/slideLayout" Target="../slideLayouts/slideLayout214.xml"/><Relationship Id="rId44" Type="http://schemas.openxmlformats.org/officeDocument/2006/relationships/slideLayout" Target="../slideLayouts/slideLayout215.xml"/><Relationship Id="rId4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7939-5476-4E66-978F-DB9BC96C31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6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096B-FA97-463D-85AF-B5C4D8A9275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4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A4C1-19F7-4F92-893E-6086ABDF88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0719-123D-41E5-94CD-FF5278A744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22A3-9E00-4546-A770-9AB7D29E69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0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DD79-4F5F-4124-BDA6-4FFED0FC61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7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7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4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68FE-2801-4F25-965D-F1868DFA8FA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4527-4330-4683-8516-3FF51BFF5E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4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50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51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5CEA-DCCF-46FF-92CB-1568D396D3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0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0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0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10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2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1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2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2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4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7309-8EF4-472A-9145-9C5FBABC8E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4"/>
    <p:sldLayoutId id="2147483871" r:id="rId35"/>
    <p:sldLayoutId id="2147483872" r:id="rId36"/>
    <p:sldLayoutId id="2147483873" r:id="rId37"/>
    <p:sldLayoutId id="2147483874" r:id="rId38"/>
    <p:sldLayoutId id="2147483875" r:id="rId39"/>
    <p:sldLayoutId id="2147483876" r:id="rId40"/>
    <p:sldLayoutId id="2147483877" r:id="rId41"/>
    <p:sldLayoutId id="2147483878" r:id="rId42"/>
    <p:sldLayoutId id="2147483879" r:id="rId43"/>
    <p:sldLayoutId id="2147483880" r:id="rId44"/>
    <p:sldLayoutId id="2147483881" r:id="rId4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C8C6-C89F-45E6-82F4-DED83C0A6B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55CF-84F4-4BD7-8578-BC273215C1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4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BCDF-914C-4AE0-80FF-CA1932607E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9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1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EE27-DA58-48B2-BEF5-C8AB28FFCD3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7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E360-1417-49F8-816F-BB03D7E57FB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398-013D-410D-8D8A-F51244A110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D04B-DEFC-4ADE-B0D1-5C70C5C730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F747-0A57-46D5-982B-4B131D84EDA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EA28-C37D-402D-BA05-F61DFEB5C6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0CF7-FAE7-4CAE-9E3D-7EE546D406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32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7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7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7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7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7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8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9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1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3FE6-ACFD-4807-A006-FDD13778F3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67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www.pedagogsaratov.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7EA9-E62D-4355-8939-480A55DBB3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1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www.pedagogsaratov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CF70-B3CC-4EBA-BF5D-2552DBD302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jpe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jpe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Презентация к уроку окружающего мира: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« Что такое здоровье»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1 класс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УМК  «Начальная школа 21 век»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724280" y="4800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дготовила : учитель начальных классов Козлова Л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Нижний колонтитул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Движение - жизн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2" name="Picture 4" descr="ар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5" descr="PE01267_"/>
          <p:cNvPicPr/>
          <p:nvPr/>
        </p:nvPicPr>
        <p:blipFill>
          <a:blip r:embed="rId2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6" descr="PE01335_"/>
          <p:cNvPicPr/>
          <p:nvPr/>
        </p:nvPicPr>
        <p:blipFill>
          <a:blip r:embed="rId3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7" descr="PE01313_"/>
          <p:cNvPicPr/>
          <p:nvPr/>
        </p:nvPicPr>
        <p:blipFill>
          <a:blip r:embed="rId4"/>
          <a:stretch/>
        </p:blipFill>
        <p:spPr>
          <a:xfrm>
            <a:off x="5943600" y="175248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8" descr="17"/>
          <p:cNvPicPr/>
          <p:nvPr/>
        </p:nvPicPr>
        <p:blipFill>
          <a:blip r:embed="rId5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9" descr="6"/>
          <p:cNvPicPr/>
          <p:nvPr/>
        </p:nvPicPr>
        <p:blipFill>
          <a:blip r:embed="rId6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15400" cy="914400"/>
          </a:xfrm>
          <a:prstGeom prst="rect">
            <a:avLst/>
          </a:prstGeom>
          <a:solidFill>
            <a:srgbClr val="a5ef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«Кто спортом занимается,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                       тот силы набирается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35600" cy="4141800"/>
          </a:xfrm>
          <a:prstGeom prst="rect">
            <a:avLst/>
          </a:prstGeom>
          <a:solidFill>
            <a:srgbClr val="a5ef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хочешь быть здоро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Позабудь про докторов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Ты возьми гантели в рук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Не считай, что это му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обольше закаляйся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Смейся, спортом занимай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ись болеть за спорт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Будь здоровым целый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езжай в страну Здоровья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Отдыхай  сколько угодно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 Но не забывай про труд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  А то мышцы отомр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рно закаляй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ортом занимайс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  И не будешь ты болеть,  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      Станешь сильным, как медве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1" name="Picture 4" descr="62r4"/>
          <p:cNvPicPr/>
          <p:nvPr/>
        </p:nvPicPr>
        <p:blipFill>
          <a:blip r:embed="rId1"/>
          <a:stretch/>
        </p:blipFill>
        <p:spPr>
          <a:xfrm>
            <a:off x="7315200" y="1522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7" descr="img"/>
          <p:cNvPicPr/>
          <p:nvPr/>
        </p:nvPicPr>
        <p:blipFill>
          <a:blip r:embed="rId2"/>
          <a:stretch/>
        </p:blipFill>
        <p:spPr>
          <a:xfrm>
            <a:off x="990720" y="5181480"/>
            <a:ext cx="1447560" cy="13874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10" descr="BSKTBPL1"/>
          <p:cNvPicPr/>
          <p:nvPr/>
        </p:nvPicPr>
        <p:blipFill>
          <a:blip r:embed="rId3"/>
          <a:stretch/>
        </p:blipFill>
        <p:spPr>
          <a:xfrm>
            <a:off x="3505320" y="4697280"/>
            <a:ext cx="17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11" descr="SKIER3"/>
          <p:cNvPicPr/>
          <p:nvPr/>
        </p:nvPicPr>
        <p:blipFill>
          <a:blip r:embed="rId4"/>
          <a:stretch/>
        </p:blipFill>
        <p:spPr>
          <a:xfrm>
            <a:off x="4267080" y="1295280"/>
            <a:ext cx="24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8" descr="AEROBICS"/>
          <p:cNvPicPr/>
          <p:nvPr/>
        </p:nvPicPr>
        <p:blipFill>
          <a:blip r:embed="rId5"/>
          <a:stretch/>
        </p:blipFill>
        <p:spPr>
          <a:xfrm>
            <a:off x="7086600" y="2209680"/>
            <a:ext cx="1895400" cy="185256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13" descr="зарядка"/>
          <p:cNvPicPr/>
          <p:nvPr/>
        </p:nvPicPr>
        <p:blipFill>
          <a:blip r:embed="rId6"/>
          <a:stretch/>
        </p:blipFill>
        <p:spPr>
          <a:xfrm>
            <a:off x="5410080" y="4419720"/>
            <a:ext cx="352908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Нижний колонтитул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38512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3399"/>
                </a:solidFill>
                <a:uFillTx/>
                <a:latin typeface="Times New Roman"/>
              </a:rPr>
              <a:t>Секреты закаливания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Picture 4" descr="Рисунок1"/>
          <p:cNvPicPr/>
          <p:nvPr/>
        </p:nvPicPr>
        <p:blipFill>
          <a:blip r:embed="rId1"/>
          <a:srcRect l="36252" t="15181" r="35334" b="49010"/>
          <a:stretch/>
        </p:blipFill>
        <p:spPr>
          <a:xfrm>
            <a:off x="6019920" y="35812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1371" name="Rectangle 5"/>
          <p:cNvSpPr/>
          <p:nvPr/>
        </p:nvSpPr>
        <p:spPr>
          <a:xfrm>
            <a:off x="838080" y="1980720"/>
            <a:ext cx="57913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ром - бег и душ бодрящий, Как для взрослых, настоя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ночь окна открывать, Свежим воздухом дыш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ги мыть водой холодн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огда микроб гол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с во век не одоле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Нижний колонтитул 5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Меню Карлсон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1. Тор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2. Лимона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3. Чипсы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4. Варень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5. Кока-кол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75" name="Picture 4" descr="карлсон"/>
          <p:cNvPicPr/>
          <p:nvPr/>
        </p:nvPicPr>
        <p:blipFill>
          <a:blip r:embed="rId6"/>
          <a:stretch/>
        </p:blipFill>
        <p:spPr>
          <a:xfrm>
            <a:off x="1670040" y="1557360"/>
            <a:ext cx="2685960" cy="374328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5"/>
          <p:cNvSpPr/>
          <p:nvPr/>
        </p:nvSpPr>
        <p:spPr>
          <a:xfrm>
            <a:off x="2662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990099"/>
                </a:solidFill>
                <a:uFillTx/>
                <a:latin typeface="Arial"/>
              </a:rPr>
              <a:t>Правильное питание: разнообраз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9" name="Picture 3" descr="продукты"/>
          <p:cNvPicPr/>
          <p:nvPr/>
        </p:nvPicPr>
        <p:blipFill>
          <a:blip r:embed="rId1"/>
          <a:stretch/>
        </p:blipFill>
        <p:spPr>
          <a:xfrm>
            <a:off x="1047600" y="1955880"/>
            <a:ext cx="3453120" cy="385128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4" descr="продукты 2"/>
          <p:cNvPicPr/>
          <p:nvPr/>
        </p:nvPicPr>
        <p:blipFill>
          <a:blip r:embed="rId2"/>
          <a:stretch/>
        </p:blipFill>
        <p:spPr>
          <a:xfrm>
            <a:off x="4356000" y="1955880"/>
            <a:ext cx="3600720" cy="3851280"/>
          </a:xfrm>
          <a:prstGeom prst="rect">
            <a:avLst/>
          </a:prstGeom>
          <a:ln w="0">
            <a:noFill/>
          </a:ln>
        </p:spPr>
      </p:pic>
      <p:sp>
        <p:nvSpPr>
          <p:cNvPr id="1381" name="Rectangle 5"/>
          <p:cNvSpPr/>
          <p:nvPr/>
        </p:nvSpPr>
        <p:spPr>
          <a:xfrm>
            <a:off x="2662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</a:rPr>
              <a:t>Полезные и вредные продукты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5" name="Picture 4" descr="FD00188_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5" descr="FD00961_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6" descr="FD00963_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1388" name="Rectangle 7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8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9"/>
          <p:cNvSpPr/>
          <p:nvPr/>
        </p:nvSpPr>
        <p:spPr>
          <a:xfrm>
            <a:off x="304920" y="50356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Нижний колонтитул 4"/>
          <p:cNvSpPr/>
          <p:nvPr/>
        </p:nvSpPr>
        <p:spPr>
          <a:xfrm>
            <a:off x="32767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00"/>
                </a:solidFill>
                <a:uFillTx/>
                <a:latin typeface="Times New Roman"/>
              </a:rPr>
              <a:t>«Соблюдай режим труда и быта, и будет здоровье крепче гранита»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693432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жить умеет по часам и ценит каждый ча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о не надо по утрам будить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сять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он не станет говорить, что лень ему вста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ядку делать, руки мыть и застилать к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пеет он одеться в срок, умыться и пое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аньше, чем звенит звонок, за парту в школе се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Picture 4" descr="040116_coq"/>
          <p:cNvPicPr/>
          <p:nvPr/>
        </p:nvPicPr>
        <p:blipFill>
          <a:blip r:embed="rId1"/>
          <a:stretch/>
        </p:blipFill>
        <p:spPr>
          <a:xfrm>
            <a:off x="0" y="51055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Кто табачное зелье любит,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                     тот сам себя и губит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60440" y="2057040"/>
            <a:ext cx="5508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Сигареты — никотин,</a:t>
            </a:r>
            <a:br>
              <a:rPr sz="2800"/>
            </a:b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ВРАГ</a:t>
            </a: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 всему номер один!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Курят, что аж дым столбом!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Отравляют табаком,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Не заботясь о здоровье —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Ни о своем, ни о чужом.</a:t>
            </a: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8" name="Picture 4" descr="img4"/>
          <p:cNvPicPr/>
          <p:nvPr/>
        </p:nvPicPr>
        <p:blipFill>
          <a:blip r:embed="rId1"/>
          <a:stretch/>
        </p:blipFill>
        <p:spPr>
          <a:xfrm>
            <a:off x="5410080" y="2057400"/>
            <a:ext cx="3129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Пословицы о здоровь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Verdana"/>
              </a:rPr>
              <a:t>Болен лечись, а здоров – берегись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Verdana"/>
              </a:rPr>
              <a:t>Быстрого и ловкого болезнь не догонит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Verdana"/>
              </a:rPr>
              <a:t>Здоровье не купишь, его разум дарит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Verdana"/>
              </a:rPr>
              <a:t>Чистая вода  - для хвори бед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25560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99"/>
                </a:solidFill>
                <a:latin typeface="Times New Roman"/>
              </a:rPr>
              <a:t>Вывод:</a:t>
            </a:r>
            <a:endParaRPr b="0" lang="en-US" sz="4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41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ru-RU" sz="4100" spc="-1" strike="noStrike">
                <a:solidFill>
                  <a:srgbClr val="ffffff"/>
                </a:solidFill>
                <a:latin typeface="Times New Roman"/>
              </a:rPr>
              <a:t>доровье человека – жизненно важная ценность, оно складывается из многих взаимосвязанных друг с другом компонентов.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5" name="Picture 4" descr="Рисунок10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5" descr="Рисунок10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Заголовок 1" descr=""/>
          <p:cNvPicPr/>
          <p:nvPr/>
        </p:nvPicPr>
        <p:blipFill>
          <a:blip r:embed="rId1"/>
          <a:stretch/>
        </p:blipFill>
        <p:spPr>
          <a:xfrm>
            <a:off x="146160" y="1828800"/>
            <a:ext cx="8186760" cy="2554200"/>
          </a:xfrm>
          <a:prstGeom prst="rect">
            <a:avLst/>
          </a:prstGeom>
          <a:ln w="0">
            <a:noFill/>
          </a:ln>
        </p:spPr>
      </p:pic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6172200" y="6858000"/>
            <a:ext cx="4044960" cy="776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0640" y="242640"/>
            <a:ext cx="7902720" cy="1174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ff99"/>
                </a:solidFill>
                <a:latin typeface="Times New Roman"/>
              </a:rPr>
              <a:t>Компоненты здоровья:</a:t>
            </a:r>
            <a:endParaRPr b="0" lang="en-US" sz="5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409" name="Diagram 3"/>
          <p:cNvGrpSpPr/>
          <p:nvPr/>
        </p:nvGrpSpPr>
        <p:grpSpPr>
          <a:xfrm>
            <a:off x="719640" y="1806120"/>
            <a:ext cx="7746120" cy="4122000"/>
            <a:chOff x="719640" y="1806120"/>
            <a:chExt cx="7746120" cy="4122000"/>
          </a:xfrm>
        </p:grpSpPr>
        <p:sp>
          <p:nvSpPr>
            <p:cNvPr id="1410" name="_s1028"/>
            <p:cNvSpPr/>
            <p:nvPr/>
          </p:nvSpPr>
          <p:spPr>
            <a:xfrm flipV="1">
              <a:off x="4591080" y="2874960"/>
              <a:ext cx="0" cy="5364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_s1029"/>
            <p:cNvSpPr/>
            <p:nvPr/>
          </p:nvSpPr>
          <p:spPr>
            <a:xfrm>
              <a:off x="3605040" y="1806120"/>
              <a:ext cx="1975320" cy="1071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Дви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_s1030"/>
            <p:cNvSpPr/>
            <p:nvPr/>
          </p:nvSpPr>
          <p:spPr>
            <a:xfrm flipV="1">
              <a:off x="5361840" y="3277800"/>
              <a:ext cx="772920" cy="334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_s1031"/>
            <p:cNvSpPr/>
            <p:nvPr/>
          </p:nvSpPr>
          <p:spPr>
            <a:xfrm>
              <a:off x="5919120" y="2409480"/>
              <a:ext cx="1975320" cy="1070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Положите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эмо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_s1032"/>
            <p:cNvSpPr/>
            <p:nvPr/>
          </p:nvSpPr>
          <p:spPr>
            <a:xfrm>
              <a:off x="5553360" y="4063320"/>
              <a:ext cx="961560" cy="1202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_s1033"/>
            <p:cNvSpPr/>
            <p:nvPr/>
          </p:nvSpPr>
          <p:spPr>
            <a:xfrm>
              <a:off x="6491160" y="3765960"/>
              <a:ext cx="1974600" cy="1071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Чистота тела, жилища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продуктов 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_s1034"/>
            <p:cNvSpPr/>
            <p:nvPr/>
          </p:nvSpPr>
          <p:spPr>
            <a:xfrm>
              <a:off x="5019480" y="4425120"/>
              <a:ext cx="427680" cy="4842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_s1035"/>
            <p:cNvSpPr/>
            <p:nvPr/>
          </p:nvSpPr>
          <p:spPr>
            <a:xfrm>
              <a:off x="4892040" y="4855680"/>
              <a:ext cx="1975320" cy="1070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600"/>
                  </a:solidFill>
                  <a:latin typeface="Arial"/>
                </a:rPr>
                <a:t>Закалива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_s1036"/>
            <p:cNvSpPr/>
            <p:nvPr/>
          </p:nvSpPr>
          <p:spPr>
            <a:xfrm flipH="1">
              <a:off x="3735360" y="4425120"/>
              <a:ext cx="431280" cy="4842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_s1037"/>
            <p:cNvSpPr/>
            <p:nvPr/>
          </p:nvSpPr>
          <p:spPr>
            <a:xfrm>
              <a:off x="2324880" y="4857480"/>
              <a:ext cx="1975320" cy="1070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600"/>
                  </a:solidFill>
                  <a:latin typeface="Arial"/>
                </a:rPr>
                <a:t>Режим дн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_s1038"/>
            <p:cNvSpPr/>
            <p:nvPr/>
          </p:nvSpPr>
          <p:spPr>
            <a:xfrm flipH="1">
              <a:off x="2667240" y="4063320"/>
              <a:ext cx="965520" cy="1202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_s1039"/>
            <p:cNvSpPr/>
            <p:nvPr/>
          </p:nvSpPr>
          <p:spPr>
            <a:xfrm>
              <a:off x="719640" y="3769920"/>
              <a:ext cx="1974600" cy="1070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Рациональн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Arial"/>
                </a:rPr>
                <a:t>пит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_s1040"/>
            <p:cNvSpPr/>
            <p:nvPr/>
          </p:nvSpPr>
          <p:spPr>
            <a:xfrm flipH="1" flipV="1">
              <a:off x="3047760" y="3277800"/>
              <a:ext cx="776880" cy="334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_s1041"/>
            <p:cNvSpPr/>
            <p:nvPr/>
          </p:nvSpPr>
          <p:spPr>
            <a:xfrm>
              <a:off x="1288080" y="2411280"/>
              <a:ext cx="1974600" cy="10706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Отказ от вред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привы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_s1042"/>
            <p:cNvSpPr/>
            <p:nvPr/>
          </p:nvSpPr>
          <p:spPr>
            <a:xfrm>
              <a:off x="3605040" y="3411720"/>
              <a:ext cx="1975320" cy="1070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00"/>
                  </a:solidFill>
                  <a:latin typeface="Times New Roman"/>
                </a:rPr>
                <a:t>ЗДОРОВЬ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Organization Chart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Нижний колонтитул 7"/>
          <p:cNvSpPr/>
          <p:nvPr/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556272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ab475"/>
                </a:solidFill>
                <a:uFillTx/>
                <a:latin typeface="Arial Unicode MS"/>
              </a:rPr>
              <a:t>Я здоровье сберегу, </a:t>
            </a:r>
            <a:br>
              <a:rPr sz="4400"/>
            </a:br>
            <a:r>
              <a:rPr b="0" lang="ru-RU" sz="4400" spc="-1" strike="noStrike" u="sng">
                <a:solidFill>
                  <a:srgbClr val="6ab475"/>
                </a:solidFill>
                <a:uFillTx/>
                <a:latin typeface="Arial Unicode MS"/>
              </a:rPr>
              <a:t>Сам себе я помогу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8" name="Picture 3" descr="PICT0008"/>
          <p:cNvPicPr/>
          <p:nvPr/>
        </p:nvPicPr>
        <p:blipFill>
          <a:blip r:embed="rId1"/>
          <a:stretch/>
        </p:blipFill>
        <p:spPr>
          <a:xfrm rot="21053400">
            <a:off x="708120" y="1841040"/>
            <a:ext cx="3887640" cy="264312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4" descr="PICT0010"/>
          <p:cNvPicPr/>
          <p:nvPr/>
        </p:nvPicPr>
        <p:blipFill>
          <a:blip r:embed="rId2"/>
          <a:stretch/>
        </p:blipFill>
        <p:spPr>
          <a:xfrm>
            <a:off x="4356000" y="1700280"/>
            <a:ext cx="3962520" cy="257472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5" descr="PICT0005"/>
          <p:cNvPicPr/>
          <p:nvPr/>
        </p:nvPicPr>
        <p:blipFill>
          <a:blip r:embed="rId3"/>
          <a:stretch/>
        </p:blipFill>
        <p:spPr>
          <a:xfrm rot="21171600">
            <a:off x="1020600" y="4003200"/>
            <a:ext cx="3483000" cy="221796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6" descr="PICT0004"/>
          <p:cNvPicPr/>
          <p:nvPr/>
        </p:nvPicPr>
        <p:blipFill>
          <a:blip r:embed="rId4"/>
          <a:stretch/>
        </p:blipFill>
        <p:spPr>
          <a:xfrm rot="378600">
            <a:off x="4355640" y="4046400"/>
            <a:ext cx="3664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982880" y="561600"/>
            <a:ext cx="6426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 u="sng">
              <a:solidFill>
                <a:srgbClr val="000000"/>
              </a:solidFill>
              <a:uFillTx/>
              <a:latin typeface="Georgia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56840" y="22093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261800" indent="-4204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Что такое здоров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 Какие секреты, сохраняющие здоровье, существу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cc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3366cc"/>
                </a:solidFill>
                <a:latin typeface="Georgia"/>
              </a:rPr>
              <a:t> Что необходимо делать, чтобы прожить здоровым и счастливым  много 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pedagogsaratov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Рисунок 13" descr="00046824.jpg"/>
          <p:cNvPicPr/>
          <p:nvPr/>
        </p:nvPicPr>
        <p:blipFill>
          <a:blip r:embed="rId1"/>
          <a:stretch/>
        </p:blipFill>
        <p:spPr>
          <a:xfrm>
            <a:off x="-152280" y="0"/>
            <a:ext cx="9715320" cy="7000920"/>
          </a:xfrm>
          <a:prstGeom prst="rect">
            <a:avLst/>
          </a:prstGeom>
          <a:ln w="0">
            <a:noFill/>
          </a:ln>
        </p:spPr>
      </p:pic>
      <p:pic>
        <p:nvPicPr>
          <p:cNvPr id="1312" name="Рисунок 4" descr="Незнайка_2"/>
          <p:cNvPicPr/>
          <p:nvPr/>
        </p:nvPicPr>
        <p:blipFill>
          <a:blip r:embed="rId2"/>
          <a:stretch/>
        </p:blipFill>
        <p:spPr>
          <a:xfrm>
            <a:off x="142920" y="5000760"/>
            <a:ext cx="1000080" cy="1643040"/>
          </a:xfrm>
          <a:prstGeom prst="rect">
            <a:avLst/>
          </a:prstGeom>
          <a:ln w="0">
            <a:noFill/>
          </a:ln>
        </p:spPr>
      </p:pic>
      <p:pic>
        <p:nvPicPr>
          <p:cNvPr id="1313" name="Рисунок 19" descr="15345.gif"/>
          <p:cNvPicPr/>
          <p:nvPr/>
        </p:nvPicPr>
        <p:blipFill>
          <a:blip r:embed="rId3"/>
          <a:stretch/>
        </p:blipFill>
        <p:spPr>
          <a:xfrm>
            <a:off x="3143160" y="485784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314" name="Рисунок 20" descr="15367.gif"/>
          <p:cNvPicPr/>
          <p:nvPr/>
        </p:nvPicPr>
        <p:blipFill>
          <a:blip r:embed="rId4"/>
          <a:stretch/>
        </p:blipFill>
        <p:spPr>
          <a:xfrm>
            <a:off x="6429240" y="5072040"/>
            <a:ext cx="1030320" cy="1552680"/>
          </a:xfrm>
          <a:prstGeom prst="rect">
            <a:avLst/>
          </a:prstGeom>
          <a:ln w="0">
            <a:noFill/>
          </a:ln>
        </p:spPr>
      </p:pic>
      <p:pic>
        <p:nvPicPr>
          <p:cNvPr id="1315" name="Рисунок 21" descr="15710.gif"/>
          <p:cNvPicPr/>
          <p:nvPr/>
        </p:nvPicPr>
        <p:blipFill>
          <a:blip r:embed="rId5"/>
          <a:stretch/>
        </p:blipFill>
        <p:spPr>
          <a:xfrm>
            <a:off x="1600200" y="5105520"/>
            <a:ext cx="961920" cy="1600200"/>
          </a:xfrm>
          <a:prstGeom prst="rect">
            <a:avLst/>
          </a:prstGeom>
          <a:ln w="0">
            <a:noFill/>
          </a:ln>
        </p:spPr>
      </p:pic>
      <p:pic>
        <p:nvPicPr>
          <p:cNvPr id="1316" name="Рисунок 22" descr="26848.gif"/>
          <p:cNvPicPr/>
          <p:nvPr/>
        </p:nvPicPr>
        <p:blipFill>
          <a:blip r:embed="rId6"/>
          <a:stretch/>
        </p:blipFill>
        <p:spPr>
          <a:xfrm>
            <a:off x="7929720" y="5143680"/>
            <a:ext cx="1071360" cy="1461960"/>
          </a:xfrm>
          <a:prstGeom prst="rect">
            <a:avLst/>
          </a:prstGeom>
          <a:ln w="0">
            <a:noFill/>
          </a:ln>
        </p:spPr>
      </p:pic>
      <p:pic>
        <p:nvPicPr>
          <p:cNvPr id="1317" name="Рисунок 23" descr="16283.gif"/>
          <p:cNvPicPr/>
          <p:nvPr/>
        </p:nvPicPr>
        <p:blipFill>
          <a:blip r:embed="rId7"/>
          <a:stretch/>
        </p:blipFill>
        <p:spPr>
          <a:xfrm>
            <a:off x="4714920" y="5572080"/>
            <a:ext cx="140184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318" name="Двойная волна 15"/>
          <p:cNvGrpSpPr/>
          <p:nvPr/>
        </p:nvGrpSpPr>
        <p:grpSpPr>
          <a:xfrm>
            <a:off x="658800" y="109440"/>
            <a:ext cx="8326440" cy="1536840"/>
            <a:chOff x="658800" y="109440"/>
            <a:chExt cx="8326440" cy="1536840"/>
          </a:xfrm>
        </p:grpSpPr>
        <p:pic>
          <p:nvPicPr>
            <p:cNvPr id="1319" name="Двойная волна 15" descr=""/>
            <p:cNvPicPr/>
            <p:nvPr/>
          </p:nvPicPr>
          <p:blipFill>
            <a:blip r:embed="rId8"/>
            <a:stretch/>
          </p:blipFill>
          <p:spPr>
            <a:xfrm>
              <a:off x="658800" y="109440"/>
              <a:ext cx="83264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785880" y="374760"/>
              <a:ext cx="8072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99cc00"/>
                  </a:solidFill>
                  <a:latin typeface="Book Antiqua"/>
                </a:rPr>
                <a:t>город  </a:t>
              </a:r>
              <a:r>
                <a:rPr b="1" lang="ru-RU" sz="4800" spc="-1" strike="noStrike">
                  <a:solidFill>
                    <a:srgbClr val="99cc00"/>
                  </a:solidFill>
                  <a:latin typeface="Book Antiqua"/>
                </a:rPr>
                <a:t>ЗДОРОВЕЙС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Picture 2" descr="doc09"/>
          <p:cNvPicPr/>
          <p:nvPr/>
        </p:nvPicPr>
        <p:blipFill>
          <a:blip r:embed="rId1"/>
          <a:stretch/>
        </p:blipFill>
        <p:spPr>
          <a:xfrm>
            <a:off x="7086600" y="1447920"/>
            <a:ext cx="1295280" cy="259056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3" descr="46c0d37d34c82"/>
          <p:cNvPicPr/>
          <p:nvPr/>
        </p:nvPicPr>
        <p:blipFill>
          <a:blip r:embed="rId2"/>
          <a:stretch/>
        </p:blipFill>
        <p:spPr>
          <a:xfrm>
            <a:off x="533520" y="434340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5" descr="46c0da15a46e6"/>
          <p:cNvPicPr/>
          <p:nvPr/>
        </p:nvPicPr>
        <p:blipFill>
          <a:blip r:embed="rId3"/>
          <a:stretch/>
        </p:blipFill>
        <p:spPr>
          <a:xfrm>
            <a:off x="2057400" y="411480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6" descr="471f33c491e0c"/>
          <p:cNvPicPr/>
          <p:nvPr/>
        </p:nvPicPr>
        <p:blipFill>
          <a:blip r:embed="rId4"/>
          <a:stretch/>
        </p:blipFill>
        <p:spPr>
          <a:xfrm>
            <a:off x="6095880" y="4038480"/>
            <a:ext cx="957240" cy="127800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7" descr="46fb9b4607081"/>
          <p:cNvPicPr/>
          <p:nvPr/>
        </p:nvPicPr>
        <p:blipFill>
          <a:blip r:embed="rId5"/>
          <a:stretch/>
        </p:blipFill>
        <p:spPr>
          <a:xfrm>
            <a:off x="7162920" y="4419720"/>
            <a:ext cx="1203120" cy="143964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8"/>
          <p:cNvSpPr/>
          <p:nvPr/>
        </p:nvSpPr>
        <p:spPr>
          <a:xfrm>
            <a:off x="762120" y="1295280"/>
            <a:ext cx="647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Я открою семь секретов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Как здоровье сохранить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полняя все секрет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Без болезней будем жи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52d2c"/>
                </a:solidFill>
                <a:latin typeface="Times New Roman"/>
              </a:rPr>
              <a:t>Секреты здоровь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9" name="Содержимое 5" descr=""/>
          <p:cNvPicPr/>
          <p:nvPr/>
        </p:nvPicPr>
        <p:blipFill>
          <a:blip r:embed="rId6"/>
          <a:stretch/>
        </p:blipFill>
        <p:spPr>
          <a:xfrm>
            <a:off x="3581280" y="4038480"/>
            <a:ext cx="185760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37 0.28125 L -0.56389 0.15579 E">
                                      <p:cBhvr>
                                        <p:cTn id="6" dur="2000" fill="hold"/>
                                        <p:tgtEl>
                                          <p:spTgt spid="1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/>
          </p:nvPr>
        </p:nvSpPr>
        <p:spPr>
          <a:xfrm>
            <a:off x="1752480" y="609480"/>
            <a:ext cx="693432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Здравствуйте! Добрая ласковость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                 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сл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Стерлась на нет в ежедневно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               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приве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Здравствуйте! Это же - будьт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               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здоров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Comic Sans MS"/>
              </a:rPr>
              <a:t>Это же - дольше живите на свете.</a:t>
            </a:r>
            <a:r>
              <a:rPr b="0" lang="ru-RU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                                  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cc00"/>
                </a:solidFill>
                <a:latin typeface="Times New Roman"/>
              </a:rPr>
              <a:t>                                   </a:t>
            </a: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  </a:t>
            </a:r>
            <a:r>
              <a:rPr b="0" i="1" lang="ru-RU" sz="3200" spc="-1" strike="noStrike">
                <a:solidFill>
                  <a:srgbClr val="ffcc00"/>
                </a:solidFill>
                <a:latin typeface="Comic Sans MS"/>
              </a:rPr>
              <a:t>Е. Шевелёва</a:t>
            </a:r>
            <a:r>
              <a:rPr b="0" lang="ru-RU" sz="35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Нижний колонтитул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«Чистота – залог здоровья!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ждый раз перед едо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ужно фрукты мыть водой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бы быть здоровым, сильным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й лицо и руки с мылом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дь аккуратен, забудь лень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исти зубы каждый день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5" name="Picture 4" descr="HH01303_"/>
          <p:cNvPicPr/>
          <p:nvPr/>
        </p:nvPicPr>
        <p:blipFill>
          <a:blip r:embed="rId1"/>
          <a:stretch/>
        </p:blipFill>
        <p:spPr>
          <a:xfrm>
            <a:off x="7010280" y="4419720"/>
            <a:ext cx="234000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Движение - это жиз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4" descr="ар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5" descr="PE01267_"/>
          <p:cNvPicPr/>
          <p:nvPr/>
        </p:nvPicPr>
        <p:blipFill>
          <a:blip r:embed="rId2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6" descr="PE01335_"/>
          <p:cNvPicPr/>
          <p:nvPr/>
        </p:nvPicPr>
        <p:blipFill>
          <a:blip r:embed="rId3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7" descr="PE01313_"/>
          <p:cNvPicPr/>
          <p:nvPr/>
        </p:nvPicPr>
        <p:blipFill>
          <a:blip r:embed="rId4"/>
          <a:stretch/>
        </p:blipFill>
        <p:spPr>
          <a:xfrm>
            <a:off x="5943600" y="175248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8" descr="17"/>
          <p:cNvPicPr/>
          <p:nvPr/>
        </p:nvPicPr>
        <p:blipFill>
          <a:blip r:embed="rId5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9" descr="6"/>
          <p:cNvPicPr/>
          <p:nvPr/>
        </p:nvPicPr>
        <p:blipFill>
          <a:blip r:embed="rId6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Нижний колонтитул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142640" y="-703440"/>
            <a:ext cx="779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7848720" y="6019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Rectangle 4"/>
          <p:cNvSpPr/>
          <p:nvPr/>
        </p:nvSpPr>
        <p:spPr>
          <a:xfrm>
            <a:off x="304920" y="2208600"/>
            <a:ext cx="8305560" cy="350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хочешь быть сильным – бег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хочешь быть красивым – бега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чешь быть умным – бегай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5T17:26:0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