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19.gif" ContentType="image/gif"/>
  <Override PartName="/ppt/media/image18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338E-6C7B-4BAC-96BC-58422AC01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4D0F-37AF-4829-8531-6399F5AF1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6415-0D71-4D19-94D6-4EAED2EBB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33B7-E5A3-4D40-8D80-2E54C6D0F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81EC5-7A7C-4727-AF77-91BD45F44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1E6FB-1DEC-4B88-B0A7-DAC65C56F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9BFAA-EC91-49EC-BDDB-0D4916FCC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5E106-EE33-4C86-89F1-DE5D1013F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DD211-B01C-4077-8A77-D1A170257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67D43-3C9B-414F-9944-55D53F5A3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370D4-B43F-4449-A2CD-0722D8BFC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7D86-267C-40CA-8102-9B0327205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EC4D6-5420-4EF0-97FA-07F76CD09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9CF5B-2F6D-4BB9-AD46-A24E159E8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2DDD7-75F2-4AA8-AEAE-F5727CBCD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BDBF7-B169-4924-A273-CA0060062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584D3-625F-4B92-B6FC-53391A4AA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8593-7378-40F6-AF36-25C97DE40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067E-35A4-4B35-8987-110818560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140B-AF83-49F4-B624-5FC98D502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EA27-8C60-4B0F-818B-94B4F756F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8128-B187-4CB3-8193-AE3DA95CC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AE76-6DEF-482D-82AB-029D65730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9CB9-F782-406D-9668-4D4418540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B7AD7-B326-4F50-91D9-F8D977F132F0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29E20-239C-46A2-96CC-EEB587E54619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Методическая разработк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ИГРА-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Это серьезно…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1692360" y="2565360"/>
            <a:ext cx="5121360" cy="40514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44496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7d47d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Общения с ребёнком даст вам сведения о ваших взаимоотношениях,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«лишь бы не мешали»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395280" y="2205000"/>
            <a:ext cx="6858000" cy="44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Ребенок-это большой маленький исследователь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«лишь бы не мешали»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2195640" y="2276640"/>
            <a:ext cx="42861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Мы забываем, что даже младенец имеет право на свою жизнь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«лишь бы не мешали»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1187280" y="21337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Принять игру вместе с нашими детьми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«лишь бы не мешали»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1187280" y="1484280"/>
            <a:ext cx="5185080" cy="51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Я пришел из детства, как из страны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«лишь бы не мешали»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1258920" y="2448000"/>
            <a:ext cx="495288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Мы много работаем, всё меньше внимания уделяя нашим детям.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«лишь бы не мешали»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1476360" y="2565360"/>
            <a:ext cx="523872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«Нас никто не учил играть, и наши дети сами определятся с этой деятельностью»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«лишь бы не мешали»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1042920" y="2133720"/>
            <a:ext cx="542916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«лишь бы не мешали»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перепоручаем свих детей телевизору или компьютеру, действуя в основном по принципу «лишь бы не мешали»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2556000" y="3860640"/>
            <a:ext cx="2895480" cy="25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Игре принадлежит важная роль в жизни и развитии детей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762012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Мы взрослые привыкли к своей воспитательной и обучающей роли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«лишь бы не мешали»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1908000" y="1314360"/>
            <a:ext cx="420228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Нам взрослым нужно остановиться и вспомнить своё детство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«лишь бы не мешали»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395280" y="2205000"/>
            <a:ext cx="2141640" cy="30481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2743200" y="2208240"/>
            <a:ext cx="3657600" cy="24415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2743200" y="2208240"/>
            <a:ext cx="3657600" cy="24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Детство громадный остров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«лишь бы не мешали»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971640" y="1268280"/>
            <a:ext cx="6191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Важно, играя с детьми, разделить их чувства, мысли, восторг 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«лишь бы не мешали»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1403280" y="2060640"/>
            <a:ext cx="4392720" cy="29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15:18:55Z</dcterms:created>
  <dc:creator>Admin</dc:creator>
  <dc:description/>
  <dc:language>en-US</dc:language>
  <cp:lastModifiedBy>Admin</cp:lastModifiedBy>
  <dcterms:modified xsi:type="dcterms:W3CDTF">2013-02-23T11:16:24Z</dcterms:modified>
  <cp:revision>6</cp:revision>
  <dc:subject/>
  <dc:title>Слайд 1</dc:title>
</cp:coreProperties>
</file>