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A1A-D443-4A16-BC22-5961ABBB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4E9-DCB4-4B98-8EE7-852B7778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D49-0F27-4DE8-929E-FB8713FC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E5E-411B-473E-B91B-75F02FE9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FAB-B3DF-4296-B7BF-40DEA693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840B-F5CF-46E3-BFE5-94C52E3E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640E-AB85-43C1-BF7D-2D1ECEA6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163E-5656-4B6C-BF96-C3B264D4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7087-090B-4E6F-A9F6-1305685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EFBA-A2C1-4200-A4CE-C6DDEC44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4636-22BD-482D-B1D5-B7EBE040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5B3-7AB5-4303-9252-4A5ECEE2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D425-6363-4B47-BD5C-E0E98172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FAC3-85CD-428E-9806-CCDFD51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20E7-CD30-4BE1-941C-5084E03F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5A91-3F7F-4610-8C3E-68FAA80F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C097-9CD6-452C-B3E7-64EA3590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9D1-6E2A-4DC5-BDB4-EECDCFD2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42C-D843-4A58-A3A8-DC99C470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CB3-62A3-4A0B-8DE5-5645CE5D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923-8E7D-4A40-9520-FE141C30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9A6-324E-48B4-ACB2-A98335AF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380-AD29-4172-A892-3657005D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6AE-1925-4B5C-B468-99FBA5EB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476A-584C-46FF-B1BE-5CA256FA83E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3095-462C-4213-8D17-F96BC124F06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етодическая разрабо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ГРА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Это серьезно…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5121360" cy="4051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бщения с ребёнком даст вам сведения о ваших взаимоотношениях,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6858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ебенок-это большой маленький исследователь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195640" y="2276640"/>
            <a:ext cx="42861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ы забываем, что даже младенец имеет право на свою жизнь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инять игру вместе с нашими детьм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51850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Я пришел из детства, как из страны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58920" y="2448000"/>
            <a:ext cx="49528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ы много работаем, всё меньше внимания уделяя нашим детям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76360" y="256536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Нас никто не учил играть, и наши дети сами определятся с этой деятельностью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5429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«лишь бы не мешали»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епоручаем свих детей телевизору или компьютеру, действуя в основном по принципу «лишь бы не мешали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556000" y="3860640"/>
            <a:ext cx="289548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гре принадлежит важная роль в жизни и развитии детей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7620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ы взрослые привыкли к своей воспитательной и обучающей рол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08000" y="1314360"/>
            <a:ext cx="42022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ам взрослым нужно остановиться и вспомнить своё детство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2141640" cy="3048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743200" y="220824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743200" y="220824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етство громадный остр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ажно, играя с детьми, разделить их чувства, мысли, восторг 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лишь бы не мешал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03280" y="2060640"/>
            <a:ext cx="4392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5:18:55Z</dcterms:created>
  <dc:creator>Admin</dc:creator>
  <dc:description/>
  <dc:language>en-US</dc:language>
  <cp:lastModifiedBy>Admin</cp:lastModifiedBy>
  <dcterms:modified xsi:type="dcterms:W3CDTF">2013-02-23T11:16:24Z</dcterms:modified>
  <cp:revision>6</cp:revision>
  <dc:subject/>
  <dc:title>Слайд 1</dc:title>
</cp:coreProperties>
</file>