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EA3-DE10-48E5-AFD2-D3F5F69B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E88-30BE-4784-8418-6C6B21ED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263-92D8-4EB9-984F-C3BD319A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174-2C1B-456E-9D15-D8810418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72B-97CD-48BC-9493-D19E0B88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E12-EE6F-4C99-95C3-739B24F9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DEB-249C-409C-A1C0-59232383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210-346E-4EB8-9567-8524722A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ECE-D6E8-4AB2-B6DB-3CDA2AD1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4DD-1CD3-439C-A21D-8B7D10F7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026-F012-4A7C-ACA5-88C89CE9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341-81BC-486C-B70B-ACEC06F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269B-1E4F-4665-B176-5B4F1527B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avmir.ru/wp-content/uploads/2009/06/untitled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nedelya.ru/cache/gorzakaz/2008-04-15/9963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yabloko.ru/Press/2008/spb_021108_4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milli-firka.org/storage/sections/mf-inform/250509/_6.jpg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gazeta.ua/dphoto/200706/070626213833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grani.ru/files/24060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newizv.ru/images/photos/big/20071206211210_1-malchik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gazetachel.ru/upload/iblock/956/25.09.2008_12_vn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estnik.maryno.net/f061209n22/IMG_6862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segodnya.ua/img/forall/a/100514/37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podrobnosti.ua/photo/2002/07/05/29721_2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.arhcity.ru/data/0/Ravin1_b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irota.ru/forum/images/90/90695.jpe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1890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26 из 45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268280"/>
            <a:ext cx="54007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63640" y="404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ение нетолерантно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244520"/>
            <a:ext cx="88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корбления, насмешки, выражение пренебреж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норирование (отказ в беседе, в признани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ативные стереотипы, предубеждения, предрассудки (составление обобщенного мнения о человеке, принадлежащем к иной культуре, полу, расе, этнической группе, как правило, на основе отрицательных характеристик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ноцентризм (понимание и оценка жизненных явлений сквозь призму ценностей и традиций собственной группы как эталонной и лучшей по сравнению с другими группам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765000"/>
            <a:ext cx="478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поиск врага (перенос вины за несчастья, неблагополучие и социальные проблемы на ту или иную группу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  преследования, запугивания, угроз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а 335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4762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Картинка 20 из 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4183200"/>
            <a:ext cx="3600360" cy="2363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35 из 4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76720" y="3573360"/>
            <a:ext cx="36007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изм (дискриминация представителей определенной расы на основе предпосылки, что одни расы превосходят друг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сенофобия в форме этнофобий (антисемитизм, кавказофобия и др.), религиозных фобий, мигрантофобии (неприязнь к представителям других культур и групп, убеждение в том, что "чужаки" вредны для общества, преследование "чужаков"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изм (убеждение в превосходстве своей нации над другими и в том, что своя нация обладает большим объемом пра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шизм (реакционный антидемократический режим, для которого характерны крайние формы насилия и массовый террор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9280" y="0"/>
            <a:ext cx="5256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расизм (дискриминация представителей определенной расы на основе предпосылки, что одни расы превосходят друг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  ксенофобия в форме этнофобий (антисемитизм, кавказофобия и др.), религиозных фобий, мигрантофобии (неприязнь к представителям других культур и групп, убеждение в том, что "чужаки" вредны для общества, преследование "чужаков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  национализм (убеждение в превосходстве своей нации над другими и в том, что своя нация обладает большим объемом пра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  фашизм (реакционный антидемократический режим, для которого характерны крайние формы насилия и массовый террор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Картинка 14 из 4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620640"/>
            <a:ext cx="3638520" cy="2540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68 из 8769"/>
          <p:cNvPicPr/>
          <p:nvPr/>
        </p:nvPicPr>
        <p:blipFill>
          <a:blip r:embed="rId4"/>
          <a:stretch/>
        </p:blipFill>
        <p:spPr>
          <a:xfrm>
            <a:off x="5310360" y="3716280"/>
            <a:ext cx="383364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33336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эксплуатация (использование чужого времени и труда без справедливого вознаграждения, безрассудное использование ресурсов и природных богатст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  осквернение религиозных или культурных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  религиозное преследование (насаждение конкретной веры, ее ценностей и обрядо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  изгнание (официальное или насильственно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Картинка 24 из 284"/>
          <p:cNvPicPr/>
          <p:nvPr/>
        </p:nvPicPr>
        <p:blipFill>
          <a:blip r:embed="rId2"/>
          <a:stretch/>
        </p:blipFill>
        <p:spPr>
          <a:xfrm>
            <a:off x="1908000" y="2997360"/>
            <a:ext cx="475164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260280"/>
            <a:ext cx="8280360" cy="51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еперь, когда мы научилис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Летать по воздуху, как птицы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лавать под водой, как рыбы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м не хватает только одног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учиться жить на земле, как 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5445000"/>
            <a:ext cx="19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. Ш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82400"/>
            <a:ext cx="4643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трудничество дух партне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товность мирится с чужим мн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важение человеческого достоин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важение прав друг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нятие другого таким, какой он е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особность поставить себя на место друг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Определения толеран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1 из 4544"/>
          <p:cNvPicPr/>
          <p:nvPr/>
        </p:nvPicPr>
        <p:blipFill>
          <a:blip r:embed="rId2"/>
          <a:stretch/>
        </p:blipFill>
        <p:spPr>
          <a:xfrm>
            <a:off x="5219640" y="476280"/>
            <a:ext cx="3441600" cy="345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527280" cy="2617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95640" y="3933720"/>
            <a:ext cx="4464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ажение права быть и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нание многообраз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нание равенства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пимость к чужим мнениям, верованиям и повед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аз от доминирования, причинения вреда и насил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1890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олерантность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лово заимствованно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а поэтому мало понятн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Ближайшие синони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 rot="20302800">
            <a:off x="606240" y="3025800"/>
            <a:ext cx="3274920" cy="15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5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пим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5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7"/>
          <p:cNvSpPr txBox="1"/>
          <p:nvPr/>
        </p:nvSpPr>
        <p:spPr>
          <a:xfrm rot="19836600">
            <a:off x="1144440" y="3157200"/>
            <a:ext cx="756000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9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важение к чужому мнени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9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8"/>
          <p:cNvSpPr txBox="1"/>
          <p:nvPr/>
        </p:nvSpPr>
        <p:spPr>
          <a:xfrm rot="20404800">
            <a:off x="4808520" y="4119120"/>
            <a:ext cx="364644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73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ояль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73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188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итерии толерантности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358640"/>
            <a:ext cx="500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правие (равный доступ к социальным благам,к управленческим, образовательным и экономическим возможностям для всех людей, независимо от их пола, расы, национальности, религии, принадлежности к какой-либо другой групп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2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3616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88000" y="189000"/>
            <a:ext cx="435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Взаимоуважение членов группы или общества, доброжелательность и терпимое отношение к различным группам (инвалидам, беженцам, и др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Равные возможности для участия в политической жизни всех членов обще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160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429000"/>
            <a:ext cx="4033800" cy="3308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ртинка 259 из 45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189000"/>
            <a:ext cx="36720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476280"/>
            <a:ext cx="360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  Сохранение и развитие культурной самобытности и языков национальных меньшинст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  Охват событиями общественного характера, праздниками как можно большего количества людей, если это не противоречит их культурным традициям и религиозным веровани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Картинка 229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33360"/>
            <a:ext cx="41450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84720" y="115920"/>
            <a:ext cx="4859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  Возможность следовать своим традициям для всех культур, представленных в данном обще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  Свобода вероисповедания при условии, что это не ущемляет права и возможности других членов об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Сотрудничество и солидарность в решение общих пробл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артинка 248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3960720" cy="2612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248 из 45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3860640"/>
            <a:ext cx="3816360" cy="259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262 из 454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76720" y="4221000"/>
            <a:ext cx="327672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350100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сновой толерант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ак качества личности является признание права на от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а проявляется в принятии другого человека таким, каков он есть, уважении другой точки зрения, сдержанности к тому, что не разделяешь, понимании и принятии традиций, ценностей и культуры представителей другой национальности и в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Картинка 289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189000"/>
            <a:ext cx="50770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4T15:15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