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C14-2596-4DEF-8CA0-96888593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9BB-2E28-404B-B84E-A2E6F23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4CC-ACD1-4FFE-955D-8E581FE8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EDA-31B1-448F-8F2A-0D9DB98D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206-19F3-43EC-816D-B610F5D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726-2728-4DBD-BB89-D3DDAA4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5DD-7025-4FB8-884A-40B2C0F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EAA-1F4E-4426-AD22-24B7681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6F7-0704-4AB0-8DF7-BBB5E32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C78-6713-4B65-8DAB-02409604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266-C32D-4D80-8728-F623980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004-7EEA-4107-99B2-7E55B58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E85-C597-4146-BD4B-3015877C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2009/06/untitled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delya.ru/cache/gorzakaz/2008-04-15/9963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yabloko.ru/Press/2008/spb_021108_4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milli-firka.org/storage/sections/mf-inform/250509/_6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azeta.ua/dphoto/200706/070626213833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rani.ru/files/24060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newizv.ru/images/photos/big/20071206211210_1-malchik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azetachel.ru/upload/iblock/956/25.09.2008_12_vn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estnik.maryno.net/f061209n22/IMG_6862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segodnya.ua/img/forall/a/100514/37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podrobnosti.ua/photo/2002/07/05/29721_2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arhcity.ru/data/0/Ravin1_b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irota.ru/forum/images/90/90695.jpe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189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26 из 45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268280"/>
            <a:ext cx="5400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63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ение нетолерант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2445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корбления, насмешки, выражение пренебре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норирование (отказ в беседе, в признан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тивные стереотипы, предубеждения, предрассудки (составление обобщенного мнения о человеке, принадлежащем к иной культуре, полу, расе, этнической группе, как правило, на основе отрицательных характеристи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ноцентризм (понимание и оценка жизненных явлений сквозь призму ценностей и традиций собственной группы как эталонной и лучшей по сравнению с другими группам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765000"/>
            <a:ext cx="47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иск врага (перенос вины за несчастья, неблагополучие и социальные проблемы на ту или иную групп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преследования, запугивания, угро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335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20 из 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18320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5 из 4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3573360"/>
            <a:ext cx="36007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изм (дискриминация представителей определенной расы на основе предпосылки, что одни расы превосходят друг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0"/>
            <a:ext cx="5256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расизм (дискриминация представителей определенной расы на основе предпосылки, что одни расы превосходят друг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  ксенофобия в форме этнофобий (антисемитизм, кавказофобия и др.), религиозных фобий, мигрантофобии (неприязнь к представителям других культур и групп, убеждение в том, что "чужаки" вредны для общества, преследование "чужаков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  национализм (убеждение в превосходстве своей нации над другими и в том, что своя нация обладает большим объемом пра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  фашизм (реакционный антидемократический режим, для которого характерны крайние формы насилия и массовый террор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14 из 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620640"/>
            <a:ext cx="3638520" cy="254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68 из 8769"/>
          <p:cNvPicPr/>
          <p:nvPr/>
        </p:nvPicPr>
        <p:blipFill>
          <a:blip r:embed="rId4"/>
          <a:stretch/>
        </p:blipFill>
        <p:spPr>
          <a:xfrm>
            <a:off x="5310360" y="3716280"/>
            <a:ext cx="38336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33336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эксплуатация (использование чужого времени и труда без справедливого вознаграждения, безрассудное использование ресурсов и природных богатст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  осквернение религиозных или культур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  религиозное преследование (насаждение конкретной веры, ее ценностей и обряд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  изгнание (официальное или насильственно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Картинка 24 из 284"/>
          <p:cNvPicPr/>
          <p:nvPr/>
        </p:nvPicPr>
        <p:blipFill>
          <a:blip r:embed="rId2"/>
          <a:stretch/>
        </p:blipFill>
        <p:spPr>
          <a:xfrm>
            <a:off x="1908000" y="2997360"/>
            <a:ext cx="475164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260280"/>
            <a:ext cx="8280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перь, когда мы научилис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етать по воздуху, как птиц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лавать под водой, как рыбы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м не хватает только одн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аучиться жить на земле, как 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5445000"/>
            <a:ext cx="19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. 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82400"/>
            <a:ext cx="4643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трудничество дух партне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товность мирится с чужим мн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человеческого достоин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важение прав друг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нятие другого таким, какой он е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особность поставить себя на место друг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пределения толеран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4544"/>
          <p:cNvPicPr/>
          <p:nvPr/>
        </p:nvPicPr>
        <p:blipFill>
          <a:blip r:embed="rId2"/>
          <a:stretch/>
        </p:blipFill>
        <p:spPr>
          <a:xfrm>
            <a:off x="5219640" y="476280"/>
            <a:ext cx="344160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527280" cy="261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95640" y="3933720"/>
            <a:ext cx="4464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ажение права быть 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многообраз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ие равенства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пимость к чужим мнениям, верованиям и повед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аз от доминирования, причинения вреда и наси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890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олерантность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лово заимствованно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а поэтому мало понятн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Ближайшие синони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 rot="20302800">
            <a:off x="606240" y="3025800"/>
            <a:ext cx="327492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5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пим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5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7"/>
          <p:cNvSpPr txBox="1"/>
          <p:nvPr/>
        </p:nvSpPr>
        <p:spPr>
          <a:xfrm rot="19836600">
            <a:off x="1144440" y="3157200"/>
            <a:ext cx="75600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9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важение к чужому мнени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9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8"/>
          <p:cNvSpPr txBox="1"/>
          <p:nvPr/>
        </p:nvSpPr>
        <p:spPr>
          <a:xfrm rot="20404800">
            <a:off x="4808520" y="4119120"/>
            <a:ext cx="364644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оя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88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итерии толерантности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58640"/>
            <a:ext cx="50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правие (равный доступ к социальным благам,к управленческим, образовательным и экономическим возможностям для всех людей, независимо от их пола, расы, национальности, религии, принадлежности к какой-либо другой групп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2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616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88000" y="189000"/>
            <a:ext cx="435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заимоуважение членов группы или общества, доброжелательность и терпимое отношение к различным группам (инвалидам, беженцам, и др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Равные возможности для участия в политической жизни всех членов обще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160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429000"/>
            <a:ext cx="4033800" cy="3308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259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89000"/>
            <a:ext cx="36720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76280"/>
            <a:ext cx="360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  Сохранение и развитие культурной самобытности и языков национальных меньшин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  Охват событиями общественного характера, праздниками как можно большего количества людей, если это не противоречит их культурным традициям и религиозным вер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22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33360"/>
            <a:ext cx="414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15920"/>
            <a:ext cx="4859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  Возможность следовать своим традициям для всех культур, представленных в данном обще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  Свобода вероисповедания при условии, что это не ущемляет права и возможности других членов об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Сотрудничество и солидарность в решение общих пробл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248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3960720" cy="261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248 из 45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3816360" cy="259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262 из 45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422100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35010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ой толерант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ак качества личности является признание права на от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а проявляется в принятии другого человека таким, каков он есть, уважении другой точки зрения, сдержанности к тому, что не разделяешь, понимании и принятии традиций, ценностей и культуры представителей другой национальности и в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289 из 45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89000"/>
            <a:ext cx="507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15:15:3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