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84F-6679-4D04-B5FD-D8B6C8B5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319-4E0B-46BB-9805-836C5326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7A9-936F-4A33-8F29-5007E76A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059-727A-4D10-B658-74678FCB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F4CB7-9208-4B13-B993-E20AB836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206DA-5C32-4B82-9DBB-A67C6E5B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4BDA4-E18A-4527-AE4F-68E5BE67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A5C99-D2C4-4C20-84AB-4C9F1FB4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CD988-8473-4BC0-A0B2-8111F022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08AB4-D772-4B5E-9DAD-5AC294C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2845E-B822-4C46-9128-4C837D3D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DE8-D736-410D-8875-4EB43AF7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831F-DC4F-4125-A4C4-3B079B9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A69F9-F3C3-469B-9D0F-4637CBE3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0D42-EBA5-43AB-9DA7-E936B09E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C3409-F5A1-448F-8784-92A9C8B6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3DED5-93EC-4A9A-9EA9-3485E34E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A9B-F3FC-49C3-B0C1-5E52427A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9BB-A4E9-4016-B328-1B819DA1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388-EE38-49B5-A9AD-FC7221D3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9D6-8B8D-49D8-BBB5-7A8AE443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C13-404C-42C9-9C29-4AD43CB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935-3A79-46EE-828C-8C60D247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A06-78A3-4AFF-999E-160BB24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C5F5-7BC1-4148-82A1-7B28A6C6C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CCD8-7F11-4E41-9242-901FC863DA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file:///tmp/home/.config/libreoffice/4/user/gallery/MSSN00278A0000%5B1%5D.wav" TargetMode="External"/><Relationship Id="rId3" Type="http://schemas.microsoft.com/office/2007/relationships/media" Target="file:///tmp/home/.config/libreoffice/4/user/gallery/MSSN00278A0000%5B1%5D.wav" TargetMode="External"/><Relationship Id="rId4" Type="http://schemas.openxmlformats.org/officeDocument/2006/relationships/image" Target="../media/image30.png"/><Relationship Id="rId5" Type="http://schemas.openxmlformats.org/officeDocument/2006/relationships/audio" Target="file:///tmp/home/.config/libreoffice/4/user/gallery/j0214098.wav" TargetMode="External"/><Relationship Id="rId6" Type="http://schemas.microsoft.com/office/2007/relationships/media" Target="file:///tmp/home/.config/libreoffice/4/user/gallery/j0214098.wav" TargetMode="External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Изображения Земли</a:t>
            </a: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87280" y="378936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ила учитель начальных классов МБОУ СОШ №29 с углублённым изучением отдельных предметов г. Смолен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лавцева Раиса Викто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Виды кар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ла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562788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По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назначению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льтурно-образов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раво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рист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64000" y="263700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По содержанию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географ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57150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351f"/>
                </a:solidFill>
                <a:latin typeface="Arial"/>
              </a:rPr>
              <a:t>Первые карты Вселенной</a:t>
            </a:r>
            <a:br>
              <a:rPr sz="4000"/>
            </a:b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Птолемей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(геоцентрическая система мира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682800" cy="4345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537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Гелиоцентрическая система ми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ристарх Самос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16360" y="2565360"/>
            <a:ext cx="3745080" cy="3311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7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Учёные-астрон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иколай Копер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жордано Бру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368280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алилео Галил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240360" cy="388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336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уд над Галилее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Древние кар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308400" cy="3960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038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850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351f"/>
                </a:solidFill>
                <a:latin typeface="Arial"/>
              </a:rPr>
              <a:t>Загад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63280" y="2637000"/>
            <a:ext cx="692316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исток невелик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о весь мир изобрази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Карт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345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31784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Современные кар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72000" cy="4370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816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кар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нужны кар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можно показать на кар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условные знаки есть на кар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619280" y="1125360"/>
            <a:ext cx="655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51964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543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6"/>
                </p:tgtEl>
              </p:cMediaNode>
            </p:audio>
            <p:seq>
              <p:cTn id="26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74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7"/>
                </p:tgtEl>
              </p:cMediaNode>
            </p:audio>
            <p:seq>
              <p:cTn id="26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474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351f"/>
                </a:solidFill>
                <a:latin typeface="Arial"/>
              </a:rPr>
              <a:t>Вопросы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0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похожи глобус и кар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отличаю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удобнее пользоваться? 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чего нужны карты? Для ко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кар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2920" y="3429000"/>
            <a:ext cx="4038840" cy="316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03236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3888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351f"/>
                </a:solidFill>
                <a:latin typeface="Arial"/>
              </a:rPr>
              <a:t>Карта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 уменьшенное изображение Земли или её части с помощью условных знак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640" y="2349000"/>
            <a:ext cx="554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545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Что можно показать на карте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92360" cy="417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3214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Географические 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Условные знаки кар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оч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381636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351f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52280"/>
            <a:ext cx="4038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лны плещут в оке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м чудится в тума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мачты кора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усть плывут сюда скоре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 берегу гуля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еходов поджида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59280" y="1052280"/>
            <a:ext cx="38275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щем ракушки в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жимаем в кула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 побольше их собрать,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о чаще присед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ядем дружно на пес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начался 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7:05:54Z</dcterms:created>
  <dc:creator>user</dc:creator>
  <dc:description/>
  <dc:language>en-US</dc:language>
  <cp:lastModifiedBy>user</cp:lastModifiedBy>
  <dcterms:modified xsi:type="dcterms:W3CDTF">2013-02-25T18:56:18Z</dcterms:modified>
  <cp:revision>12</cp:revision>
  <dc:subject/>
  <dc:title>Тема урока</dc:title>
</cp:coreProperties>
</file>