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4.png" ContentType="image/png"/>
  <Override PartName="/ppt/media/image13.jpeg" ContentType="image/jpeg"/>
  <Override PartName="/ppt/media/image27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21.jpeg" ContentType="image/jpeg"/>
  <Override PartName="/ppt/media/image22.jpeg" ContentType="image/jpeg"/>
  <Override PartName="/ppt/media/image19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BAC-3CFE-4A88-98D1-97C72B42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7A55-4CC4-4B22-9602-1C04D7FB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E842-51F6-4C47-B569-50A48B33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7C4-85C5-4E2A-B76D-5E30E7B8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111B9-4B4B-46AA-824F-EA8547B2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204B6-BA74-4CFA-87BD-2C40A22A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EEBC6-412D-4FDB-895B-41112E8F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75D67-229B-4E12-89EA-C66DF61D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3A3A6-BD1C-4EC0-A156-BCDDAF48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201B1-1951-41BD-89B7-6495421B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246FA-FE53-439D-A0E0-E8A5C9FB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694-A373-4961-BAEA-71B5EEB4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0695D-4D99-496E-A9DD-AEC50A23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3119F-48CC-42EF-8F8B-9E786E6B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D8FDF-3673-4588-8BD5-211EE4AA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C9097-E843-47FD-9C88-BBA498BA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5183B-4CFF-4CA0-AC07-96AB851F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725C-8A6E-4CD8-B4A9-9781AB4A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946-1A11-43D6-976B-67A53585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ADEF-CD47-4849-83FD-17303A8E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6046-C2AC-4003-8C14-09A19017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E07D-5100-4802-8650-74E530A9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1DFD-036F-45FB-849E-0819DE31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487-BE33-414C-89FA-8CBDBD3C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D841-8950-4C9B-B3F3-03C21AE4FE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668E-EF42-4800-954E-3C143461EE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audio" Target="file:///tmp/home/.config/libreoffice/4/user/gallery/MSSN00278A0000%5B1%5D.wav" TargetMode="External"/><Relationship Id="rId3" Type="http://schemas.microsoft.com/office/2007/relationships/media" Target="file:///tmp/home/.config/libreoffice/4/user/gallery/MSSN00278A0000%5B1%5D.wav" TargetMode="External"/><Relationship Id="rId4" Type="http://schemas.openxmlformats.org/officeDocument/2006/relationships/image" Target="../media/image30.png"/><Relationship Id="rId5" Type="http://schemas.openxmlformats.org/officeDocument/2006/relationships/audio" Target="file:///tmp/home/.config/libreoffice/4/user/gallery/j0214098.wav" TargetMode="External"/><Relationship Id="rId6" Type="http://schemas.microsoft.com/office/2007/relationships/media" Target="file:///tmp/home/.config/libreoffice/4/user/gallery/j0214098.wav" TargetMode="External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Изображения Земли</a:t>
            </a:r>
            <a:r>
              <a:rPr b="1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987280" y="3789360"/>
            <a:ext cx="583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готовила учитель начальных классов МБОУ СОШ №29 с углублённым изучением отдельных предметов г. Смолен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славцева Раиса Викто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351f"/>
                </a:solidFill>
                <a:latin typeface="Arial"/>
              </a:rPr>
              <a:t>Виды кар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24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 террито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тер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лас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87640" y="2492280"/>
            <a:ext cx="5627880" cy="35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68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68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6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6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По 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назначению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льтурно-образовате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равоч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б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хн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урист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564000" y="2637000"/>
            <a:ext cx="518472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68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68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По содержанию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егеограф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ат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411280" y="2924280"/>
            <a:ext cx="571500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351f"/>
                </a:solidFill>
                <a:latin typeface="Arial"/>
              </a:rPr>
              <a:t>Первые карты Вселенной</a:t>
            </a:r>
            <a:br>
              <a:rPr sz="4000"/>
            </a:b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Птолемей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(геоцентрическая система мира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682800" cy="4345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53708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Гелиоцентрическая система мир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ристарх Самос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716360" y="2565360"/>
            <a:ext cx="3745080" cy="3311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764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351f"/>
                </a:solidFill>
                <a:latin typeface="Arial"/>
              </a:rPr>
              <a:t>Учёные-астроно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иколай Копер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жордано Бру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3456000" cy="4103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788000" y="2421000"/>
            <a:ext cx="368280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Галилео Галиле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3240360" cy="3887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333360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уд над Галилее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417080" cy="46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351f"/>
                </a:solidFill>
                <a:latin typeface="Arial"/>
              </a:rPr>
              <a:t>Древние кар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3308400" cy="3960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3280" y="2565360"/>
            <a:ext cx="4038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88508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7351f"/>
                </a:solidFill>
                <a:latin typeface="Arial"/>
              </a:rPr>
              <a:t>Загадк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63280" y="2637000"/>
            <a:ext cx="692316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исток невелик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о весь мир изобрази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Карт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809880" cy="3456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4317840" cy="51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351f"/>
                </a:solidFill>
                <a:latin typeface="Arial"/>
              </a:rPr>
              <a:t>Современные кар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672000" cy="4370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816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351f"/>
                </a:solidFill>
                <a:latin typeface="Arial"/>
              </a:rPr>
              <a:t>Итог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такое карт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чего нужны карт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можно показать на кар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условные знаки есть на кар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68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68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619280" y="1125360"/>
            <a:ext cx="6553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492360" y="3716280"/>
            <a:ext cx="2519640" cy="2232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1543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6"/>
                </p:tgtEl>
              </p:cMediaNode>
            </p:audio>
            <p:seq>
              <p:cTn id="263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4745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7"/>
                </p:tgtEl>
              </p:cMediaNode>
            </p:audio>
            <p:seq>
              <p:cTn id="26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4745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7351f"/>
                </a:solidFill>
                <a:latin typeface="Arial"/>
              </a:rPr>
              <a:t>Вопросы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0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м похожи глобус и кар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м отличают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м удобнее пользоваться?  Почем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чего нужны карты? Для ког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такое кар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2920" y="3429000"/>
            <a:ext cx="4038840" cy="3168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43280" y="3645000"/>
            <a:ext cx="4032360" cy="2952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716360" y="333360"/>
            <a:ext cx="388800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29152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351f"/>
                </a:solidFill>
                <a:latin typeface="Arial"/>
              </a:rPr>
              <a:t>Карта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– уменьшенное изображение Земли или её части с помощью условных знаков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47640" y="2349000"/>
            <a:ext cx="5545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55454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Что можно показать на карте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392360" cy="4175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3280" y="1125360"/>
            <a:ext cx="432144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351f"/>
                </a:solidFill>
                <a:latin typeface="Arial"/>
              </a:rPr>
              <a:t>Географические объек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49016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351f"/>
                </a:solidFill>
                <a:latin typeface="Arial"/>
              </a:rPr>
              <a:t>Условные знаки кар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цв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ин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оч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635280" y="1773360"/>
            <a:ext cx="3816360" cy="40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68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68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351f"/>
                </a:solidFill>
                <a:latin typeface="Arial"/>
              </a:rPr>
              <a:t>Физминут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052280"/>
            <a:ext cx="4038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лны плещут в океа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там чудится в туман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 мачты кораб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усть плывут сюда скоре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ы по берегу гуля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реходов поджида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859280" y="1052280"/>
            <a:ext cx="38275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щем ракушки в пес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сжимаем в кула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б побольше их собрать,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до чаще присед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ядем дружно на пес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ова начался ур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7:05:54Z</dcterms:created>
  <dc:creator>user</dc:creator>
  <dc:description/>
  <dc:language>en-US</dc:language>
  <cp:lastModifiedBy>user</cp:lastModifiedBy>
  <dcterms:modified xsi:type="dcterms:W3CDTF">2013-02-25T18:56:18Z</dcterms:modified>
  <cp:revision>12</cp:revision>
  <dc:subject/>
  <dc:title>Тема урока</dc:title>
</cp:coreProperties>
</file>