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7D0-4612-4231-9393-E0150070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111-DBE0-41EC-85C7-8F35090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2AE-7CD2-44E3-A550-D9198805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C20-154D-496C-8CF8-D4F48DE6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76A0-5057-4373-9CEF-96CF188B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376C-A31A-4232-A581-8C726000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A632-69A7-4C82-A867-20985B3D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E015-25D8-43D2-8A6C-2E1F18B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BD5A-ABB0-46D7-9B7E-1107F28C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3231-09CB-4408-BC92-C18E04A8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F3E2-CE5A-4DB3-BBEF-B65D0E7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204-4705-4648-B20C-45D13EF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9B29-A1E0-4F3B-B329-E765072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9D8-D766-471F-848C-1430967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252-C907-419D-9222-B3F8CE9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B13-9AC2-47E7-88A4-FABC5C07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8773-F37C-4119-AC72-8956C185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9D9-EEFD-40C7-81E8-CB0E74A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C55-ED2B-4B0B-B5E3-3661450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170-26C9-4408-92C6-C7702E84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DC3-C1E0-43F9-BCA2-883D2AA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1E4-C056-47B4-852E-0C8527C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7FB-8473-4F24-A7C3-8C251EE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7B6-A25D-4C9D-9FC1-04401B7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03B-B14C-46A5-BF04-FFD7949A34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5E5-8C26-44E0-939D-33F2A32C66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оевропейцы. Исторические корни славян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Кто такие индоевропейц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П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риодизация первоначальной истории славян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Расселение славянских плем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еликое переселение нар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Периодизация первоначальной истории славянств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836640"/>
          <a:ext cx="9144000" cy="6178680"/>
        </p:xfrm>
        <a:graphic>
          <a:graphicData uri="http://schemas.openxmlformats.org/drawingml/2006/table">
            <a:tbl>
              <a:tblPr/>
              <a:tblGrid>
                <a:gridCol w="1558800"/>
                <a:gridCol w="1427400"/>
                <a:gridCol w="1792080"/>
                <a:gridCol w="2163960"/>
                <a:gridCol w="22017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и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онологи-ческие рам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жняя граница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хняя граница пери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славян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до н.э. -1 в. н.э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деление протославян из индоевро-пейской этнической общ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явление первыхписьменных источников о славянах (древнеримских: Тацит, Птолемей Клавдий, Плиний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тарши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ные палеолингвисти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славян-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- VI / VI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явление первых письменныхисточников о славян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ие славян впроцессах Великого переселения народов, повлекшее распад праславянской общ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мские и византий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Прокопий Кесарийский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евдо-Маврикий и др.) письменные источники, "История готов" Иордана; археолог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оевропейская группа народ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773360"/>
          <a:ext cx="8496000" cy="424764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31194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вянск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ноевро-пейск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чн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чные, западные и южные славяне: русские, поляки, болгары,, украинцы, чехи, сербы, белорусы,   словаки,   хорв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личане, германцы, французы, итальянцы, гре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йцы, иранцы, армяне,  тадж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славяне в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в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50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734080"/>
            <a:ext cx="2627280" cy="101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Леса и лесосте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днестро-днепро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междуреч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661000"/>
            <a:ext cx="273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Средняя и ю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Польша, междуреч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Днепра и Припя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5734080"/>
            <a:ext cx="2987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Нижнее 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Вислы, Поль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Полес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896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этап в самой общей форме можно обозначить 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славянски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тославянский или дославянский. Он охватывает одно-два тысячелетия до нашей эры и несколько веков нашей эры. В эту огромную историческую эпоху на территориях, ныне входящих в состав Российской Федерации, прежде всего в Европейскую часть России, в разное время и в разных регионах располагались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еки, скифы, киммерийцы, сарматы, аланы, готы, гунны, угры, болгар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 Некоторые современные нации ведут свою родословную прямо от этих древнейших поселенцев Восточной Европы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етины — от аланов (ясов), чуваш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 гуннов, венгры (мадьяры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 угров и т. 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Расселение славянских племе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ревнейших времен с судьбами русского народа переплетаются исторические пути, линии этногенеза, часто параллельные с этногенезом русских, более чем 20 неславянских народов. Это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инны — емь, сумь, карела; балт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укштайты, жемайты, земгалы, курши, латгалы, ливы, эсты, ятваги; поволжские племен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ря, мурома, мещера, черемиса; тюрские племен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ченеги, половцы, хазары; скандинавы — варяги и др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сская нация (или древнерусская народность) изначально возникла как суперэтнос, вобравший, впитавший в себя, поглотивший и перемешавший десятки и сотни разроз­ненных и разнородных, близких и далеких племен, их союзов, различных этнических единиц, былых народов, размещавшихся на обширных территориях и прошедших стадию предгосударственных трансформ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развернутый план отве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еликое переселение народ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уясь при этом учебником стр. 17-2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.зад. Параграф 1 вопросы и задания стр. 2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11:13Z</dcterms:created>
  <dc:creator>Admin</dc:creator>
  <dc:description/>
  <dc:language>en-US</dc:language>
  <cp:lastModifiedBy>Admin</cp:lastModifiedBy>
  <dcterms:modified xsi:type="dcterms:W3CDTF">2010-09-19T11:23:03Z</dcterms:modified>
  <cp:revision>5</cp:revision>
  <dc:subject/>
  <dc:title>Индоевропейцы. Исторические корни славян.</dc:title>
</cp:coreProperties>
</file>