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D98-39E1-4AA5-957C-CB8932A8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AC0-3621-4736-8E97-07ED670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44D-886C-40BD-840C-05BE5259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DE5-C836-4721-ABAA-340DF945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2B64-ED75-4143-83AC-7136C0FA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56D0-616E-4241-B47F-8560C457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3D12-20B3-4AF6-BCA0-F38D27CB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F9FF-157C-4A59-9B32-44DA4D8F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10CE-C1F8-487B-A0C5-A9FD02FF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B2C3-C9FE-4215-B737-149F0AC3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7111-D326-4911-9BBA-62E02894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C0E-D42A-4B52-92E6-9932A616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1073-6D49-4A35-8A65-F08DC05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8B59-059C-42D0-B4A1-81F75830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93A0-F8A1-4EF6-AA17-7E4C70D5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363A-228D-49A8-88C1-C10406C4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859B-C736-480A-AB36-F7534886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61E-1366-4A89-800D-3D824329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AA6-8A3C-4B8B-B9CF-12FC41D5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680-2A32-497B-B243-7A7F33F1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510-B96B-471C-AB64-7FA2C97B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591-553F-4634-BE37-0408152E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528-FB16-45C8-A7BA-BE3F68BC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4BE-7719-4667-82D8-0BD486CB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BBB0-5692-45C7-A655-FD3096170D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53CD-74AD-4265-A78E-C51CE9D24E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ндоевропейцы. Исторические корни славян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Кто такие индоевропейц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П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риодизация первоначальной истории славян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Расселение славянских плем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Великое переселение нар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Периодизация первоначальной истории славянств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836640"/>
          <a:ext cx="9144000" cy="6178680"/>
        </p:xfrm>
        <a:graphic>
          <a:graphicData uri="http://schemas.openxmlformats.org/drawingml/2006/table">
            <a:tbl>
              <a:tblPr/>
              <a:tblGrid>
                <a:gridCol w="1558800"/>
                <a:gridCol w="1427400"/>
                <a:gridCol w="1792080"/>
                <a:gridCol w="2163960"/>
                <a:gridCol w="22017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и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ронологи-ческие рам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жняя граница пери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хняя граница пери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чник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тославян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до н.э. -1 в. н.э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деление протославян из индоевро-пейской этнической общ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явление первыхписьменных источников о славянах (древнеримских: Тацит, Птолемей Клавдий, Плиний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тарши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ные палеолингвисти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2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славян-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- VI / VII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явление первых письменныхисточников о славян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стие славян впроцессах Великого переселения народов, повлекшее распад праславянской общ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мские и византий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Прокопий Кесарийский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севдо-Маврикий и др.) письменные источники, "История готов" Иордана; археологиче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ндоевропейская группа народ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1773360"/>
          <a:ext cx="8496000" cy="4247640"/>
        </p:xfrm>
        <a:graphic>
          <a:graphicData uri="http://schemas.openxmlformats.org/drawingml/2006/table">
            <a:tbl>
              <a:tblPr/>
              <a:tblGrid>
                <a:gridCol w="2687400"/>
                <a:gridCol w="2689200"/>
                <a:gridCol w="31194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вянская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адноевро-пейская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точная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точные, западные и южные славяне: русские, поляки, болгары,, украинцы, чехи, сербы, белорусы,   словаки,   хорва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гличане, германцы, французы, итальянцы, гре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дийцы, иранцы, армяне,  тадж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славяне в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I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в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503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734080"/>
            <a:ext cx="2627280" cy="101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4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Arial"/>
              </a:rPr>
              <a:t>Леса и лесостеп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Arial"/>
              </a:rPr>
              <a:t>днестро-днепро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Arial"/>
              </a:rPr>
              <a:t>междуреч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5661000"/>
            <a:ext cx="273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Средняя и юж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Польша, междуреч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Днепра и Припя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5734080"/>
            <a:ext cx="2987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Нижнее 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Вислы, Поль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0000"/>
                </a:solidFill>
                <a:latin typeface="Arial"/>
              </a:rPr>
              <a:t>Полес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8960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этап в самой общей форме можно обозначить как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славянский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тославянский или дославянский. Он охватывает одно-два тысячелетия до нашей эры и несколько веков нашей эры. В эту огромную историческую эпоху на территориях, ныне входящих в состав Российской Федерации, прежде всего в Европейскую часть России, в разное время и в разных регионах располагались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реки, скифы, киммерийцы, сарматы, аланы, готы, гунны, угры, болгар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др. Некоторые современные нации ведут свою родословную прямо от этих древнейших поселенцев Восточной Европы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сетины — от аланов (ясов), чуваш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 гуннов, венгры (мадьяры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 угров и т. 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3.Расселение славянских племе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древнейших времен с судьбами русского народа переплетаются исторические пути, линии этногенеза, часто параллельные с этногенезом русских, более чем 20 неславянских народов. Это: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инны — емь, сумь, карела; балты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укштайты, жемайты, земгалы, курши, латгалы, ливы, эсты, ятваги; поволжские племен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ря, мурома, мещера, черемиса; тюрские племен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еченеги, половцы, хазары; скандинавы — варяги и др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сская нация (или древнерусская народность) изначально возникла как суперэтнос, вобравший, впитавший в себя, поглотивший и перемешавший десятки и сотни разроз­ненных и разнородных, близких и далеких племен, их союзов, различных этнических единиц, былых народов, размещавшихся на обширных территориях и прошедших стадию предгосударственных трансформ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развернутый план отве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еликое переселение народ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уясь при этом учебником стр. 17-2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.зад. Параграф 1 вопросы и задания стр. 2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11:13Z</dcterms:created>
  <dc:creator>Admin</dc:creator>
  <dc:description/>
  <dc:language>en-US</dc:language>
  <cp:lastModifiedBy>Admin</cp:lastModifiedBy>
  <dcterms:modified xsi:type="dcterms:W3CDTF">2010-09-19T11:23:03Z</dcterms:modified>
  <cp:revision>5</cp:revision>
  <dc:subject/>
  <dc:title>Индоевропейцы. Исторические корни славян.</dc:title>
</cp:coreProperties>
</file>