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614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A1EE-A846-4559-937F-AD0DFDFE0C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4B8B-5D88-4205-A887-330FC072AB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28C-72EE-4C21-9923-834B080E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A0E-B40A-4794-B667-6912FC5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A25-E437-4C91-BC3A-2D413315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16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880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16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880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04F-9134-4DDF-B4DE-64A2E39A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24A1-E975-46EC-941A-735834BD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3372-EC13-4C58-9F42-25B3BD8D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E2AB-7053-4663-A5FE-1E7C28BD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1E8E-F45E-4DED-A59A-41FDB70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6D6-7985-43D6-B345-9FBBFCEE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9913-A89D-47CD-B98E-7B39B214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AA8-5AF2-4184-BCAF-AD9E064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260-E534-449A-BC6F-823C14F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ABEA-C59C-456F-B4FC-A454AE4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BBE-14DC-4117-8252-7744BD4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1545-2273-469F-A397-E20E358C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A9E-DE5D-4C80-A171-970B40B7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16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28800" y="198108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16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28800" y="43693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3D80-B871-43AF-A788-EA1C8D74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6A6-66F6-49DE-B597-FA140093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1F8-C03B-45C4-BDC7-8508739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BAF-D2C4-412B-9B0B-1627CBC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ADC-55D6-4FB1-9ECE-A979EC2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10F-EA3E-4C8F-B044-BB54929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42960" y="436932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D01-ABF7-4190-B129-67322CD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42960" y="1981080"/>
            <a:ext cx="3532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369320"/>
            <a:ext cx="7238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45F-4B07-413E-930C-98E0059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614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4BD-4E83-44FC-BC6E-733AC6459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614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27D0-7043-424E-ACBD-415A3D8D2D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7281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ование Web 2.0 в образовании</a:t>
            </a:r>
            <a:r>
              <a:rPr b="0" lang="ru-RU" sz="4800" spc="-1" strike="noStrike">
                <a:solidFill>
                  <a:srgbClr val="616143"/>
                </a:solidFill>
                <a:latin typeface="Tahoma"/>
              </a:rPr>
              <a:t>   Батяева М.С.</a:t>
            </a:r>
            <a:endParaRPr b="0" lang="en-US" sz="48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-1027800"/>
            <a:ext cx="712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еб 2.0 с точки зрения программиста:</a:t>
            </a:r>
            <a:endParaRPr b="0" lang="en-US" sz="32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54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Ajax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API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синдикация R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24360" y="2276640"/>
            <a:ext cx="47512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б 2.0 с точки зрения пользователя:</a:t>
            </a:r>
            <a:endParaRPr b="0" lang="en-US" sz="36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86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пользователям самим наполнять сайты содержимы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е ссылки на опубликованные материал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ки как средство решения классификационных задач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уализация динамических отношений, которые существуют между участниками сетевых сообществ, категориями статей, отдельными статьями, фотографиями, рисунками и медиа-объект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431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31c01"/>
                </a:solidFill>
                <a:latin typeface="Tahoma"/>
              </a:rPr>
              <a:t>Социальные сервисы </a:t>
            </a:r>
            <a:r>
              <a:rPr b="0" lang="ru-RU" sz="4000" spc="-1" strike="noStrike">
                <a:solidFill>
                  <a:srgbClr val="a31c01"/>
                </a:solidFill>
                <a:latin typeface="Tahoma"/>
              </a:rPr>
              <a:t>Веб 2.0</a:t>
            </a:r>
            <a:r>
              <a:rPr b="0" lang="ru-RU" sz="4000" spc="-1" strike="noStrike">
                <a:solidFill>
                  <a:srgbClr val="61614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открытых, бесплатных и свободных электронных ресурс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ое создание сетевого учебного содерж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ие информационных концепций, знаний и навы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 за деятельностью участников сообщества практи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13"/>
          <p:cNvSpPr txBox="1"/>
          <p:nvPr/>
        </p:nvSpPr>
        <p:spPr>
          <a:xfrm>
            <a:off x="1000080" y="2500200"/>
            <a:ext cx="707220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ИКИ-ВИКИ"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59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6143"/>
                </a:solidFill>
                <a:latin typeface="Times New Roman"/>
              </a:rPr>
              <a:t>Способы использования Вики в педагогической практике</a:t>
            </a:r>
            <a:endParaRPr b="0" lang="en-US" sz="36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4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редставление, расширение и аннотирование учебных матери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овместное создание виртуальных краеведческих и экологических экскурсий школьниками и студент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оллективное создание творческих работ — сказок, стихотворений, эссе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28e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оллективное создание учительских, студенческих и школьных энциклопед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077920"/>
            <a:ext cx="80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1614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826920" y="2060640"/>
            <a:ext cx="66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28:50Z</dcterms:created>
  <dc:creator>Педагогический  факультет</dc:creator>
  <dc:description/>
  <cp:keywords/>
  <dc:language>en-US</dc:language>
  <cp:lastModifiedBy>Мария</cp:lastModifiedBy>
  <dcterms:modified xsi:type="dcterms:W3CDTF">2013-02-25T19:16:18Z</dcterms:modified>
  <cp:revision>14</cp:revision>
  <dc:subject/>
  <dc:title>Использования Web 2.0 в школ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49</vt:lpwstr>
  </property>
</Properties>
</file>