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614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886C-A106-453A-99CA-0B727B6F3A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DCF1-033A-409B-A130-80D472B3A8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163-54F8-4303-B6C8-DE1204F9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36932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119-9292-42F6-AF6D-C00227A7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4296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CA4-22CF-457D-BA5D-84C256FD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16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2880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16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2880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74A-D819-4E6A-B529-6D32A5E1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8843-0427-4A7C-B431-46307EFD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9751-48F7-424F-9975-F41DBA7E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D085-D1AF-4B99-B51E-56F78B3C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CB69-0438-4CE5-B595-D0B3F85D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CB6A-B2B6-4E1B-85C7-0F3A6324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49C6-87F2-48F4-AA06-D6B80B62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FB0F-629D-4B88-97D5-2364BB5F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AD5-35C9-4C76-B835-0C06B62A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4296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77A7-CDE7-495D-91DC-CA4F7EB6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6C9D-C5DF-43DA-AE98-461CB293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36932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0638-95EF-44D1-BDEA-0377ABB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4296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29D4-BA16-44D6-8D3E-AD7D8550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16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2880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16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2880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74BA-719E-4C69-A4D9-88CB0E02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CF6-3BC3-4C17-B29F-67042714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FC4-B7C6-46C6-9AFC-3A74A030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A97-3D08-4052-BF67-60FC40C8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E5D-9DDA-45CB-9E3D-11B3C437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6EE-77E4-4962-B63A-ABDCC0DC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4296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001-D3C6-4811-B856-CF4466F0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15D-49BC-4544-BF6B-EEDF033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614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424F-A121-43A5-BC4B-ED45301F7E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614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8903-7E1B-48E0-B01C-05AADE32E1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7281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ование Web 2.0 в образовании</a:t>
            </a:r>
            <a:r>
              <a:rPr b="0" lang="ru-RU" sz="4800" spc="-1" strike="noStrike">
                <a:solidFill>
                  <a:srgbClr val="616143"/>
                </a:solidFill>
                <a:latin typeface="Tahoma"/>
              </a:rPr>
              <a:t>   Батяева М.С.</a:t>
            </a:r>
            <a:endParaRPr b="0" lang="en-US" sz="48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-1027800"/>
            <a:ext cx="712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еб 2.0 с точки зрения программиста:</a:t>
            </a:r>
            <a:endParaRPr b="0" lang="en-US" sz="32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4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Ajax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API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б-синдикация R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924360" y="2276640"/>
            <a:ext cx="475128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б 2.0 с точки зрения пользователя:</a:t>
            </a:r>
            <a:endParaRPr b="0" lang="en-US" sz="36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86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пользователям самим наполнять сайты содержимы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ые ссылки на опубликованные материал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ки как средство решения классификационных задач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зуализация динамических отношений, которые существуют между участниками сетевых сообществ, категориями статей, отдельными статьями, фотографиями, рисунками и медиа-объект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431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31c01"/>
                </a:solidFill>
                <a:latin typeface="Tahoma"/>
              </a:rPr>
              <a:t>Социальные сервисы </a:t>
            </a:r>
            <a:r>
              <a:rPr b="0" lang="ru-RU" sz="4000" spc="-1" strike="noStrike">
                <a:solidFill>
                  <a:srgbClr val="a31c01"/>
                </a:solidFill>
                <a:latin typeface="Tahoma"/>
              </a:rPr>
              <a:t>Веб 2.0</a:t>
            </a:r>
            <a:r>
              <a:rPr b="0" lang="ru-RU" sz="4000" spc="-1" strike="noStrike">
                <a:solidFill>
                  <a:srgbClr val="61614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431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открытых, бесплатных и свободных электронных ресурс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ое создание сетевого учебного содерж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ение информационных концепций, знаний и навык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людение за деятельностью участников сообщества практи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13"/>
          <p:cNvSpPr txBox="1"/>
          <p:nvPr/>
        </p:nvSpPr>
        <p:spPr>
          <a:xfrm>
            <a:off x="1000080" y="2500200"/>
            <a:ext cx="7072200" cy="26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ВИКИ-ВИКИ"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595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16143"/>
                </a:solidFill>
                <a:latin typeface="Times New Roman"/>
              </a:rPr>
              <a:t>Способы использования Вики в педагогической практике</a:t>
            </a:r>
            <a:endParaRPr b="0" lang="en-US" sz="36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431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представление, расширение и аннотирование учебных матери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совместное создание виртуальных краеведческих и экологических экскурсий школьниками и студент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коллективное создание творческих работ — сказок, стихотворений, эссе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коллективное создание учительских, студенческих и школьных энциклопед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077920"/>
            <a:ext cx="80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826920" y="2060640"/>
            <a:ext cx="6697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28:50Z</dcterms:created>
  <dc:creator>Педагогический  факультет</dc:creator>
  <dc:description/>
  <cp:keywords/>
  <dc:language>en-US</dc:language>
  <cp:lastModifiedBy>Мария</cp:lastModifiedBy>
  <dcterms:modified xsi:type="dcterms:W3CDTF">2013-02-25T19:16:18Z</dcterms:modified>
  <cp:revision>14</cp:revision>
  <dc:subject/>
  <dc:title>Использования Web 2.0 в школ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31049</vt:lpwstr>
  </property>
</Properties>
</file>