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527-931D-4786-9F06-266327FE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EDF-4466-4D77-BC76-0865C267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2FD-818D-45B8-A539-3817808D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259-B106-4684-9B18-AF924EFE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9E75-1DC9-4169-8EDB-4D9EECC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7D03-2391-4918-8570-AF220A19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3651-0E03-4EA2-8C0E-CF2ABBB7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740B-D747-439B-8B44-45569BDA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9624-C0AC-4DEE-A932-C3720521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7E78-2F92-4CC4-B903-B6486CFE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30B4-8C57-4F5A-9883-A2E3046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5D4-ED6A-4AC7-8717-6953713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30F-25DD-4FEA-812F-8BE99B1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C48-FD7A-4901-A3C3-AF44EDE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828-29F8-4A50-81C2-63CA0457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F8A-DB8E-4008-8946-4787E525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72FF-8DB6-48F8-8DE4-E247B526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31F-E90B-4A0F-AFD8-65521021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5CA-3EA9-4267-89F9-A197EB9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9CA-9DE2-4BF3-8688-6462632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CD1-8D10-4FFE-956C-D42AD7E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BBC-446A-4A6B-8F4F-EAEF249B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CA7-633B-4C77-A520-3DBE9AA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4AB-BA6D-4418-91CE-F99FA13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6F2-FC1A-4F5B-9742-81CDE7B70E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DEAB-C67D-43B0-961A-99C43797FD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66"/>
                </a:solidFill>
                <a:latin typeface="Arial"/>
              </a:rPr>
              <a:t>маркетинг</a:t>
            </a:r>
            <a:endParaRPr b="0" lang="en-US" sz="11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прос — это потребность, подкреплённая покупательной способностью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Товар — всё, что может удовлетворить потребность или нужду и предлагается рынку с целью привлечения внимания, приобретения, использования или потребл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аркетинг имеет место в тех случаях, когда люди решают удовлетворить свою нужду и запросы с помощью обме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Обмен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— основное понятие маркетинга как научной дисциплины. Для его совершения необходимо соблюдение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яти услов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Сторон должно быть как минимум две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Каждая сторона должна располагать чем-то, что могло бы представлять ценность для другой сторон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Каждая сторона должна быть способна осуществлять коммуникацию и доставку своего товара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4.Каждая сторона должна быть совершенно свободной в принятии или отклонении предложения другой стороны.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5.Каждая сторона должна быть уверена в целесообразности или желательности иметь дело с другой стороно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основной единицей измерения в сфере маркетинга является </a:t>
            </a:r>
            <a:br>
              <a:rPr sz="6600"/>
            </a:b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сдел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делка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— коммерческий обмен ценностями между двумя сторонами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апример, покупатель отдает продавцу какую-то сумму и получает нужный ему товар. Это классическая денежная сделка. При бартерной сделке происходит обмен вещами — подсолнечник обменивают на металл, или услугами — юрист составляет завещание врачу, в обмен на медицинское освидетельствование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«сделк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«рынок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́ркетинг, марке́тинг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(от англ. marketing — торговля, сбыт и market — рынок) — разнородная деятельность в сфере рынка товаров, услуг, ценных бумаг, осуществляемая в целях продвижения сбыта товаров, развития и ускорения рыночного обмена, оптимального удовлетворения потребностей участников рынка; призван приспособить производство к требованиям рынка; включает: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азработку товара (определение вида и установление характеристик продаваемого товара)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лиз рынка (разделение, выделение, сегментация и позиционирование рынков)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новую стратегию и политику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рекламу;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различают маркетинг: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дифференцированн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рассчитанный на несколько сегментов рынка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конверсионн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преодолевающий отрицательный спрос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концентрированный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сосредоточенный на отдельных рынках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массовы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применяемый к товарам массового потребления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ротиводействующ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ограничивающий иррациональный спрос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тратегически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основанный на изучении внутренних и внешних возможностях фирмы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евой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ориентированный на определённый сегмент рынка)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новой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(устанавливающий цену товар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Интернет-маркетинг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(англ. internet marketing) — это практика использования всех аспектов традиционного маркетинга в Интернете, затрагивающая основные элементы маркетинг-микса: цена, продукт, место продаж и продвижение. Основная цель — получение максимального эффекта от потенциальной аудитории сай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4400" y="-53931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Ма́рке́тинг[1] (от англ. marketing — продажа, торговля на рынке) — процесс выявления, предугадывания потребностей клиентов, организации соответствующей ожиданиям рекламы и производства с целью повышения количества продаж и максимизации прибыл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Сетевой маркетинг</a:t>
            </a: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следует путать с Сетевой подход в маркетинг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ровень доходов зависит от суммарного уровня продаж дистрибьютора и нижележащих ветвей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ход каждого участника сети состоит из комиссионных за реализацию продукции и дополнительных вознаграждений (бонусов), зависящих от объёма продаж, совершённых привлечёнными ими сбытовыми агентам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Сетевой маркетинг может рассматриваться как форма внемагазинной розничной торговли, особый вид прямых (персональных) продаж, при которой сбытовые агенты (дистрибьюторы) фирмы-производителя самостоятельно устанавливают, в первую очередь на основе личных связей, прямые контакты с потенциальными покупателям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здаётся многоуровневая сеть покупателей-продавцов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ногоуровневый сетевой маркетинг используется такими известными фирмами, как Zepter International, Vitamax, Oriflame, Avon Products, Neways, Faberlic, Amway, Mary Kay, Primerica (ранее — A.L. Williams), Shaklee, Kirby, корпорация «Сибирское Здоровье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ировой сетевой бизнес оценивается приблизительно в 150—200 млрд долл. Крупнейшие корпорации имеют оборот от 5 до 9 млрд долл. в год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инципы маркетин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роизводство и продажа товаров должны соответствовать потребностям покупателей, рыночной ситуации и возможностям компан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олное удовлетворение потребностей покупателей и соответствие современному техническому и художественному уровн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рисутствие на рынке на момент наиболее эффективно возможной продажи 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постоянное обновление выпускаемой или реализуемой продук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единство стратегии и тактики для быстрого реагирования на изменяющийся спро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бота в сетевой компании может быть привлекательной для тех, кто нуждается в дополнительном заработке и располагает свободным временем, либо для тех, у кого есть возможность работать лишь по гибкому графику (студенты, молодые матери и пр.)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бота в сетевом маркетинге является одной из форм частного предпринимательства. Для начинающих может быть удобна тем, что для открытия «своего бизнеса» не требуется крупных вложени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 точки зрения самих MLM-компаний, можно говорить о следующих достоинствах сетевого маркетинга[7]: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применение прямых продаж позволяет обеспечить экономию на рекламе и торговых площадях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быт, основанный на демонстрации исключительности собственного товара, может быть эффективнее, чем сбыт через магазины, в которых представлен широкий ассортимент аналогичных товаров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омпания может воспитать лояльных клиентов, которые предпочитают покупать только у знакомых им людей;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омпании стимулируют повышение объёмов продаж значительными комиссионными выплатами дистрибьюторам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етевые компании лучше переживают экономические кризисы, чем линейный бизнес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етевой маркетинг позволяет человеку самостоятельно выбирать темпы роста, график и занятость, а также партнёров по бизнесу. Дистрибьютор взаимодействует в сети на партнёрских условиях, что позволяет избежать отношений подчинённост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3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-5393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ольшинство компаний проводит для дистрибьюторов различные тренинги, в том числе, направленные на стимулирование развития личност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лучшение личных показателей приводит к росту дохода дистрибьюторов. Но это так же приводит к росту доходов всей компании. По этому в сетевом маркетинге обычно складывается атмосфера взаимопомощи и партнерства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итер Друкер –</a:t>
            </a:r>
            <a:br>
              <a:rPr sz="40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дин из ведущих теоретиков по проблемам управл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Цель маркетинг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делать усилия по сбыту ненужными. Его цель — так хорошо познать и понять клиента, что товар или услуга будут точно подходить последнему и продавать себя сами»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7360" y="-5393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Verdana"/>
              </a:rPr>
              <a:t>Исходной идеей, лежащей в основе маркетинга, является идея человеческих нужд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523188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ужда — чувство нехватки чего-либо. Нужды людей многообразны и сложны, однако в целом их количество конечно, в отличие от потребностей. Тут и основные физиологические нужды в пище, одежде, тепле и безопасности; и социальные нужды в духовной близости, влиянии и привязанности; личные нужды в знаниях и самовыражении. Большинство этих нужд определяются исходными составляющими природы человека. Если нужда не удовлетворена, человек чувствует себя неудовлетворенным и стремится либо найти объект, способный удовлетворить нужду, либо попытаться заглушить её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581724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Verdana"/>
              </a:rPr>
              <a:t>Второй исходной идеей маркетинга является идея человеческих потребностей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53931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отребность — нужда, принявшая специфическую форму в соответствии с культурным уровнем и личностью индиви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апример, пожилому человеку потребность в общении может возместить телевизор, для молодёжи — дискотека. Потребности выражаются в объектах, способных удовлетворить нужду тем способом, который присущ культурному укладу конкретного общества или социальной групп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-53931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Потребности людей практически безграничны, но человек приобретает только те товары, которые доставляют ему наибольшее удовлетворение при минимальных стоимостных, временны́х, информационных издержк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22:06:08Z</dcterms:created>
  <dc:creator>1</dc:creator>
  <dc:description/>
  <dc:language>en-US</dc:language>
  <cp:lastModifiedBy>1</cp:lastModifiedBy>
  <dcterms:modified xsi:type="dcterms:W3CDTF">2013-01-25T23:40:57Z</dcterms:modified>
  <cp:revision>4</cp:revision>
  <dc:subject/>
  <dc:title>маркетинг</dc:title>
</cp:coreProperties>
</file>