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A6D5-3DC9-4846-BE4E-A2DFD315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1CED-AF91-441D-A5E1-256B7511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F3AD-FE4C-4496-AF9F-B65128867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3471-9C17-408E-B705-ED6E213A5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D8D5-563F-4C87-9594-C98CB7B3B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64B6-C682-418A-B393-57221854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636F-BAEE-4A43-9061-CC642954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A2ED-98A9-4161-814F-5A389562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FA0C-86AA-46D4-B332-5E1D663D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7E56-E145-4E73-A0D6-53D50195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1193-34E3-4093-BCCD-6F77D7A6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FC7A-20DA-48E6-8F81-4A7EDA4E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21AC-DAD8-4033-99C6-3D15DBBB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1593-5E79-4F2D-BF68-C5CFC0AB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EAD9-0E4C-4E6D-A9A5-FEE2A779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F7C1-873B-4452-A188-39D262CB6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B35F-7916-4CCB-A27A-0602736DA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A575-1CA1-45E5-901C-7228231B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6B49-94E5-42D7-AB5E-34B449DF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B6D1-72B5-477F-B797-40D1F6B0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7C74-8D60-4F96-8821-2B2C0F9E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C81E-1DBC-4F61-9DBE-F1825652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0BC7-E44A-46CD-AA2A-2C2DC8C5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3311-832A-4893-91BE-6945DE34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CA0F-99CF-4FDA-A8AA-76B727C28F5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A860-824B-4ACB-AAED-07E676E359B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0066"/>
                </a:solidFill>
                <a:latin typeface="Arial"/>
              </a:rPr>
              <a:t>маркетинг</a:t>
            </a:r>
            <a:endParaRPr b="0" lang="en-US" sz="117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61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Спрос — это потребность, подкреплённая покупательной способностью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Товар — всё, что может удовлетворить потребность или нужду и предлагается рынку с целью привлечения внимания, приобретения, использования или потреблен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1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Маркетинг имеет место в тех случаях, когда люди решают удовлетворить свою нужду и запросы с помощью обмен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Обмен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— основное понятие маркетинга как научной дисциплины. Для его совершения необходимо соблюдение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пяти условий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1.Сторон должно быть как минимум две.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2.Каждая сторона должна располагать чем-то, что могло бы представлять ценность для другой стороны.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3.Каждая сторона должна быть способна осуществлять коммуникацию и доставку своего товара.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4.Каждая сторона должна быть совершенно свободной в принятии или отклонении предложения другой стороны.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5.Каждая сторона должна быть уверена в целесообразности или желательности иметь дело с другой стороной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основной единицей измерения в сфере маркетинга является </a:t>
            </a:r>
            <a:br>
              <a:rPr sz="6600"/>
            </a:br>
            <a:r>
              <a:rPr b="0" lang="en-US" sz="6600" spc="-1" strike="noStrike">
                <a:solidFill>
                  <a:srgbClr val="ff0066"/>
                </a:solidFill>
                <a:latin typeface="Arial"/>
              </a:rPr>
              <a:t>сделка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Сделка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— коммерческий обмен ценностями между двумя сторонами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Например, покупатель отдает продавцу какую-то сумму и получает нужный ему товар. Это классическая денежная сделка. При бартерной сделке происходит обмен вещами — подсолнечник обменивают на металл, или услугами — юрист составляет завещание врачу, в обмен на медицинское освидетельствование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2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«сделка»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        </a:t>
            </a:r>
            <a:r>
              <a:rPr b="0" lang="en-US" sz="5400" spc="-1" strike="noStrike">
                <a:solidFill>
                  <a:srgbClr val="ff0066"/>
                </a:solidFill>
                <a:latin typeface="Arial"/>
              </a:rPr>
              <a:t>«рынок»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11640" y="3213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Ма́ркетинг, марке́тинг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(от англ. marketing — торговля, сбыт и market — рынок) — разнородная деятельность в сфере рынка товаров, услуг, ценных бумаг, осуществляемая в целях продвижения сбыта товаров, развития и ускорения рыночного обмена, оптимального удовлетворения потребностей участников рынка; призван приспособить производство к требованиям рынка; включает: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разработку товара (определение вида и установление характеристик продаваемого товара)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анализ рынка (разделение, выделение, сегментация и позиционирование рынков)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ценовую стратегию и политику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рекламу;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2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различают маркетинг: </a:t>
            </a:r>
            <a:br>
              <a:rPr sz="2400"/>
            </a:b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дифференцированный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(рассчитанный на несколько сегментов рынка) </a:t>
            </a:r>
            <a:br>
              <a:rPr sz="2400"/>
            </a:b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конверсионный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(преодолевающий отрицательный спрос) </a:t>
            </a:r>
            <a:br>
              <a:rPr sz="2400"/>
            </a:b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концентрированный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(сосредоточенный на отдельных рынках) </a:t>
            </a:r>
            <a:br>
              <a:rPr sz="2400"/>
            </a:b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массовый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(применяемый к товарам массового потребления) </a:t>
            </a:r>
            <a:br>
              <a:rPr sz="2400"/>
            </a:b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противодействующий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(ограничивающий иррациональный спрос) </a:t>
            </a:r>
            <a:br>
              <a:rPr sz="2400"/>
            </a:b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стратегический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(основанный на изучении внутренних и внешних возможностях фирмы) </a:t>
            </a:r>
            <a:br>
              <a:rPr sz="2400"/>
            </a:b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целевой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(ориентированный на определённый сегмент рынка) </a:t>
            </a:r>
            <a:br>
              <a:rPr sz="2400"/>
            </a:b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ценовой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(устанавливающий цену товара)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2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Интернет-маркетинг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 (англ. internet marketing) — это практика использования всех аспектов традиционного маркетинга в Интернете, затрагивающая основные элементы маркетинг-микса: цена, продукт, место продаж и продвижение. Основная цель — получение максимального эффекта от потенциальной аудитории сайта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74400" y="-539316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Ма́рке́тинг[1] (от англ. marketing — продажа, торговля на рынке) — процесс выявления, предугадывания потребностей клиентов, организации соответствующей ожиданиям рекламы и производства с целью повышения количества продаж и максимизации прибыли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2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Arial"/>
              </a:rPr>
              <a:t>Сетевой маркетинг</a:t>
            </a:r>
            <a:br>
              <a:rPr sz="6600"/>
            </a:br>
            <a:br>
              <a:rPr sz="66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е следует путать с Сетевой подход в маркетинг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Уровень доходов зависит от суммарного уровня продаж дистрибьютора и нижележащих ветвей.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доход каждого участника сети состоит из комиссионных за реализацию продукции и дополнительных вознаграждений (бонусов), зависящих от объёма продаж, совершённых привлечёнными ими сбытовыми агентами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2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Сетевой маркетинг может рассматриваться как форма внемагазинной розничной торговли, особый вид прямых (персональных) продаж, при которой сбытовые агенты (дистрибьюторы) фирмы-производителя самостоятельно устанавливают, в первую очередь на основе личных связей, прямые контакты с потенциальными покупателями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2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оздаётся многоуровневая сеть покупателей-продавцов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28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2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Многоуровневый сетевой маркетинг используется такими известными фирмами, как Zepter International, Vitamax, Oriflame, Avon Products, Neways, Faberlic, Amway, Mary Kay, Primerica (ранее — A.L. Williams), Shaklee, Kirby, корпорация «Сибирское Здоровье»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Мировой сетевой бизнес оценивается приблизительно в 150—200 млрд долл. Крупнейшие корпорации имеют оборот от 5 до 9 млрд долл. в год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Принципы маркетинг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производство и продажа товаров должны соответствовать потребностям покупателей, рыночной ситуации и возможностям компани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полное удовлетворение потребностей покупателей и соответствие современному техническому и художественному уровню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присутствие на рынке на момент наиболее эффективно возможной продажи продукци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постоянное обновление выпускаемой или реализуемой продукци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единство стратегии и тактики для быстрого реагирования на изменяющийся спрос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Работа в сетевой компании может быть привлекательной для тех, кто нуждается в дополнительном заработке и располагает свободным временем, либо для тех, у кого есть возможность работать лишь по гибкому графику (студенты, молодые матери и пр.).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2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Работа в сетевом маркетинге является одной из форм частного предпринимательства. Для начинающих может быть удобна тем, что для открытия «своего бизнеса» не требуется крупных вложений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С точки зрения самих MLM-компаний, можно говорить о следующих достоинствах сетевого маркетинга[7]: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применение прямых продаж позволяет обеспечить экономию на рекламе и торговых площадях;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сбыт, основанный на демонстрации исключительности собственного товара, может быть эффективнее, чем сбыт через магазины, в которых представлен широкий ассортимент аналогичных товаров;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компания может воспитать лояльных клиентов, которые предпочитают покупать только у знакомых им людей;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компании стимулируют повышение объёмов продаж значительными комиссионными выплатами дистрибьюторам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Сетевые компании лучше переживают экономические кризисы, чем линейный бизнес.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1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Сетевой маркетинг позволяет человеку самостоятельно выбирать темпы роста, график и занятость, а также партнёров по бизнесу. Дистрибьютор взаимодействует в сети на партнёрских условиях, что позволяет избежать отношений подчинённости.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35344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7360" y="-539316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403848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Большинство компаний проводит для дистрибьюторов различные тренинги, в том числе, направленные на стимулирование развития личности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8320" y="333360"/>
            <a:ext cx="403848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Улучшение личных показателей приводит к росту дохода дистрибьюторов. Но это так же приводит к росту доходов всей компании. По этому в сетевом маркетинге обычно складывается атмосфера взаимопомощи и партнерства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229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                      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итер Друкер –</a:t>
            </a:r>
            <a:br>
              <a:rPr sz="40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один из ведущих теоретиков по проблемам управления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Цель маркетинга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— сделать усилия по сбыту ненужными. Его цель — так хорошо познать и понять клиента, что товар или услуга будут точно подходить последнему и продавать себя сами»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7360" y="-539316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Verdana"/>
              </a:rPr>
              <a:t>Исходной идеей, лежащей в основе маркетинга, является идея человеческих нужд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-5231880"/>
            <a:ext cx="824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Нужда — чувство нехватки чего-либо. Нужды людей многообразны и сложны, однако в целом их количество конечно, в отличие от потребностей. Тут и основные физиологические нужды в пище, одежде, тепле и безопасности; и социальные нужды в духовной близости, влиянии и привязанности; личные нужды в знаниях и самовыражении. Большинство этих нужд определяются исходными составляющими природы человека. Если нужда не удовлетворена, человек чувствует себя неудовлетворенным и стремится либо найти объект, способный удовлетворить нужду, либо попытаться заглушить её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-5817240"/>
            <a:ext cx="1443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Verdana"/>
              </a:rPr>
              <a:t>Второй исходной идеей маркетинга является идея человеческих потребностей.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-5393160"/>
            <a:ext cx="1332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Потребность — нужда, принявшая специфическую форму в соответствии с культурным уровнем и личностью индивид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Например, пожилому человеку потребность в общении может возместить телевизор, для молодёжи — дискотека. Потребности выражаются в объектах, способных удовлетворить нужду тем способом, который присущ культурному укладу конкретного общества или социальной групп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-5393160"/>
            <a:ext cx="1332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Потребности людей практически безграничны, но человек приобретает только те товары, которые доставляют ему наибольшее удовлетворение при минимальных стоимостных, временны́х, информационных издержках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22:06:08Z</dcterms:created>
  <dc:creator>1</dc:creator>
  <dc:description/>
  <dc:language>en-US</dc:language>
  <cp:lastModifiedBy>1</cp:lastModifiedBy>
  <dcterms:modified xsi:type="dcterms:W3CDTF">2013-01-25T23:40:57Z</dcterms:modified>
  <cp:revision>4</cp:revision>
  <dc:subject/>
  <dc:title>маркетинг</dc:title>
</cp:coreProperties>
</file>