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8583-0E23-4647-81B1-D4B04C855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6968-1BD5-4949-BAEE-F93F6E80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D723-08DC-42A8-9D53-A12CCC81D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754C-1AE5-44F8-B0E0-F9B93EAB1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0158-6FB9-4642-9203-AFCA62E1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B127-D62F-42D8-9842-7D2ADA37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E357-4C61-4567-8192-CBB17003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F34E-0B90-43B5-A037-6C3B27C2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909A-1AE8-4214-9ECF-CC124480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A9B6-55D3-48BB-A38A-F754CC15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71D8-3FA1-4BEB-9466-C2CA4B9B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F1FF-3422-42AD-BA9E-E060A940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9E1C-0453-4727-AE27-B01AD6DEE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0" y="765000"/>
            <a:ext cx="914400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Облако в штанах"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4000" y="393840"/>
            <a:ext cx="85690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Новый Христос» Маяковского – это Человек, который способен в самом себе выявить божественную силу, направленную на реальное пересоздание бы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Тринадцатый апостол» бросает вызов Творцу и создает свое собственное «обыкновенное евангели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Тринадцатый апостол» провозглашает неизбежное наступление революции. Но его третируют, стремятся «распять», как когда-то распяли Иисуса Хри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11280" y="393840"/>
            <a:ext cx="813744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ыводы по поэ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мантический конфликт не ограничивается любовной сфе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еудача в любви приводит героя к последовательному отрицанию современной этики, эстетики, политики и рели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отальное, нигилистическое отрицание не является самоцелью для героя, оно пронизано пафосом утверждения новых ценностей, строительства нового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11280" y="620640"/>
            <a:ext cx="7993080" cy="41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В поэме предсказана общая компози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поэм: решительная заявка героя, зат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выход героя «на улицу», к людям, в це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мир и, наконец, возвращение в себ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трагическое подведение итогов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В.Альфон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59280" y="0"/>
            <a:ext cx="4284720" cy="6099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03640" y="5877000"/>
            <a:ext cx="59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С.Барт. Портрет Маяковского. Иллюстрация к «Облако в штана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260280"/>
            <a:ext cx="4537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касается Маяковского, то он сам определил пафос своей жизни и искусства. «Громада любовь» и «громада ненависть», имеющие истоком «сплошное сердце» поэта, - такова единая формула его творчества, одинаково верная для всех периодов его творчества…. , для каждого сколько-нибудь заметного его произведен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94080" y="189000"/>
            <a:ext cx="4476600" cy="6049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1280" y="616572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.Власов. Иллюстрация к поэме «Облако в штана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47880" y="0"/>
            <a:ext cx="4052880" cy="6237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4360" y="637056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С.Барт. Иллюстрация к поэме «Облако в штана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3887640" cy="5040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8360" y="615456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.Маяковский. 1915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1330200"/>
            <a:ext cx="4537080" cy="23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увствую мастерство. Могу овладеть темой. Вплотную. Ставлю вопрос о теме. О революционной. Думаю над «Облаком в штана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яковский. «Я са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775280" cy="37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меня в душе ни одного седого волос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старческой нежности нет в не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р огромив мощью голос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у – красив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адцатидвухлет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блако в штана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032360" cy="5759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2000" y="457056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яковский. «Облако в штанах». П., 1915. Облож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63640" y="611280"/>
            <a:ext cx="7056360" cy="4682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1280" y="53625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.Маяковский. «Облако в штанах». 1915. Страница первого издания поэмы с цензурными изъят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00720" y="333360"/>
            <a:ext cx="4319280" cy="568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427640" y="61545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.Денисова. Одесса. 1913г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765000"/>
            <a:ext cx="4572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ри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я твоё я боюсь забыть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ло тво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буду беречь и люб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солда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рубленный войно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нуж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ч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режёт свою единственн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378240" y="260280"/>
            <a:ext cx="5032440" cy="6337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5661000"/>
            <a:ext cx="30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.Денисова. 1920 год. После тиф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788000" y="404640"/>
            <a:ext cx="4105080" cy="4392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8360" y="1268280"/>
            <a:ext cx="42480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вершена поэма в 1915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вящена Л.Ю.Бр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Тринадцатый апостол». Цензура запрещает это название. Полностью была издана в 1918г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дущий образ поэмы – лирическое «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Программная вещ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овной прием – антитеза, гиперболиз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39384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ращение к любимой становится основанием для разговора с людьми, с миром и даже Творц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341360"/>
            <a:ext cx="85690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яковский писал, что в 4-х частях его произведения выражены 4-е крика «долой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Долой вашу любовь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Долой ваше искусство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Долой ваш строй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Долой вашу религию» -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четыре крика четырех часте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1:00:39Z</dcterms:created>
  <dc:creator>Galina</dc:creator>
  <dc:description/>
  <dc:language>en-US</dc:language>
  <cp:lastModifiedBy>Admin</cp:lastModifiedBy>
  <dcterms:modified xsi:type="dcterms:W3CDTF">2013-02-25T09:40:09Z</dcterms:modified>
  <cp:revision>7</cp:revision>
  <dc:subject/>
  <dc:title>Слайд 1</dc:title>
</cp:coreProperties>
</file>