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7BE-D3AA-4AD2-9523-4E2C5B97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2DE-40B4-4F01-AA2B-F100C181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030-AAC2-425E-854C-AB0E3716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14B-AD7A-4B48-AD79-7FC190FB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423-EDD5-4DC5-AB1B-20F33801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5DF-F3C4-4904-B8D8-447206C2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F6A-A28A-4762-8CE3-A354069A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577-BBCE-4A15-82C0-0195C89E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651-8A1A-4509-BDA9-397ECCD3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B45-E42F-493B-B1BF-B674C742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49C-549D-4889-B938-F04D1D28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4E9-8ED7-4AE9-87F1-7221B37A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DAEB-F93A-4775-BEFA-08938D285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765000"/>
            <a:ext cx="914400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Облако в штанах"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393840"/>
            <a:ext cx="8569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Новый Христос» Маяковского – это Человек, который способен в самом себе выявить божественную силу, направленную на реальное пересоздание бы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Тринадцатый апостол» бросает вызов Творцу и создает свое собственное «обыкновенное евангел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Тринадцатый апостол» провозглашает неизбежное наступление революции. Но его третируют, стремятся «распять», как когда-то распяли Иисуса Х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393840"/>
            <a:ext cx="81374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воды по поэ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мантический конфликт не ограничивается любовной сф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еудача в любви приводит героя к последовательному отрицанию современной этики, эстетики, политики и рели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тальное, нигилистическое отрицание не является самоцелью для героя, оно пронизано пафосом утверждения новых ценностей, строительства нов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1280" y="620640"/>
            <a:ext cx="7993080" cy="41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В поэме предсказана общая компози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поэм: решительная заявка героя, за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выход героя «на улицу», к людям, в ц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мир и, наконец, возвращение в себ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трагическое подведение итог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В.Альфон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09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03640" y="587700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С.Барт. Портрет Маяковского. Иллюстрация к «Облако в штан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60280"/>
            <a:ext cx="453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касается Маяковского, то он сам определил пафос своей жизни и искусства. «Громада любовь» и «громада ненависть», имеющие истоком «сплошное сердце» поэта, - такова единая формула его творчества, одинаково верная для всех периодов его творчества…. , для каждого сколько-нибудь заметного его произведе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94080" y="189000"/>
            <a:ext cx="4476600" cy="6049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6165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Власов. Иллюстрация к поэме «Облако в штан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7880" y="0"/>
            <a:ext cx="4052880" cy="6237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63705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С.Барт. Иллюстрация к поэме «Облако в штан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8764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1545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Маяковский. 1915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1330200"/>
            <a:ext cx="453708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вствую мастерство. Могу овладеть темой. Вплотную. Ставлю вопрос о теме. О революционной. Думаю над «Облаком в штан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яковский. «Я са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77528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меня в душе ни одного седого воло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тарческой нежности нет в н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 огромив мощью голо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у – красив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дцатидвухлет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лако в штан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032360" cy="5759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0" y="457056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яковский. «Облако в штанах». П., 1915. Обло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63640" y="611280"/>
            <a:ext cx="7056360" cy="468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3625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Маяковский. «Облако в штанах». 1915. Страница первого издания поэмы с цензурными изъят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31928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27640" y="61545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.Денисова. Одесса. 1913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65000"/>
            <a:ext cx="4572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р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я твоё я боюсь забы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тво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буду беречь и люб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солд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убленный войн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нуж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ч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жёт свою единстве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78240" y="260280"/>
            <a:ext cx="5032440" cy="633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66100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.Денисова. 1920 год. После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88000" y="40464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1268280"/>
            <a:ext cx="42480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вершена поэма в 191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вящена Л.Ю.Бр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Тринадцатый апостол». Цензура запрещает это название. Полностью была издана в 1918г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ущий образ поэмы – лирическое «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рограммная вещ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ой прием – антитеза, гипербо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3938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щение к любимой становится основанием для разговора с людьми, с миром и даже Твор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341360"/>
            <a:ext cx="8569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яковский писал, что в 4-х частях его произведения выражены 4-е крика «долой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олой вашу любовь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олой ваше искусство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олой ваш строй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олой вашу религию» -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четыре крика четырех част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1:00:39Z</dcterms:created>
  <dc:creator>Galina</dc:creator>
  <dc:description/>
  <dc:language>en-US</dc:language>
  <cp:lastModifiedBy>Admin</cp:lastModifiedBy>
  <dcterms:modified xsi:type="dcterms:W3CDTF">2013-02-25T09:40:09Z</dcterms:modified>
  <cp:revision>7</cp:revision>
  <dc:subject/>
  <dc:title>Слайд 1</dc:title>
</cp:coreProperties>
</file>