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A737-D8F5-49F7-9C8D-8693C38314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820-1FE8-493A-8268-9DA21C8C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418-618D-4382-9BA5-BC499E6F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4A5-7411-4354-867F-DC02E1B5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557-C922-4736-A419-33C49A0F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EE4C-9B42-4A98-B48E-ED4A9199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D6A-7319-4136-8403-DDB23DF7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E977-37E2-46E4-B357-1FA714B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C2AB-53BC-4F30-BAEF-C25AF827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B5A-3F10-40D8-87AD-567EE2C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8B66-30C4-49BB-8808-B0B9FE3D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D6FE-ABA9-4158-8C21-A4DABFB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CD6-A0C5-42D0-A53C-646A8DC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5C1E-3B9D-48FA-AEA8-72F0AAC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C68A-5E3A-42E4-83AC-BE6B162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3F67-FE37-462F-B3B4-F4788B6F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D4DD-2A29-4C33-A033-96B44049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CA1-A555-45F4-B251-0167F924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5DE4-4E26-4170-B0EC-2DFCF4B3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45D9-FCC9-4587-99EE-B694D25C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AD5F-CD80-43BA-AF76-5979473F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DB6D-B8D6-4CED-A2A1-8CE7333D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793E-876A-4EBD-8145-410E9301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AC1-406E-49BA-84DE-C0C50B41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3950-0270-404A-9101-159658CB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9A6B-7752-4CFD-A5C8-875B2D2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D410-1018-475C-AF9F-1E3EDEBD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A57E-95C0-457B-B137-FA6DB03E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CFFE-6463-4081-8129-E925372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6768-CF08-46F4-99B3-F70D8D4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DBB9-9701-4427-B41A-100C9F17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520-2016-471B-BF72-1C4C17A8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7DF-442B-4CD5-9BE7-B23A428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ADF-F7DA-4B6A-9255-1884ECF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F71-715E-4527-8F37-7B1F0BF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079-D552-4D7F-8714-FDF4266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843-B48A-4E4A-96FB-7C0C144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245F-C5F3-4B87-9094-583B27F810B9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423-B26D-480B-BDB4-6C486455E48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3572-C7E2-4561-A2DB-1E48B0990D7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47;&#1072;&#1085;&#1080;&#1084;&#1072;&#1090;&#1077;&#1083;&#1100;&#1085;&#1099;&#1081;%20&#1082;&#1088;&#1086;&#1089;&#1089;&#1074;&#1086;&#1088;&#1076;.doc" TargetMode="External"/><Relationship Id="rId2" Type="http://schemas.openxmlformats.org/officeDocument/2006/relationships/hyperlink" Target="file:///&#1047;&#1072;&#1085;&#1080;&#1084;&#1072;&#1090;&#1077;&#1083;&#1100;&#1085;&#1099;&#1081;%20&#1082;&#1088;&#1086;&#1089;&#1089;&#1074;&#1086;&#1088;&#1076;.doc" TargetMode="External"/><Relationship Id="rId3" Type="http://schemas.openxmlformats.org/officeDocument/2006/relationships/hyperlink" Target="file:///&#1087;&#1086;&#1079;&#1085;&#1072;&#1074;&#1072;&#1090;&#1077;&#1083;&#1100;&#1085;&#1099;&#1081;%20&#1082;&#1088;&#1086;&#1089;&#1089;&#1074;&#1086;&#1088;&#1076;.doc" TargetMode="External"/><Relationship Id="rId4" Type="http://schemas.openxmlformats.org/officeDocument/2006/relationships/hyperlink" Target="file:///&#1087;&#1086;&#1079;&#1085;&#1072;&#1074;&#1072;&#1090;&#1077;&#1083;&#1100;&#1085;&#1099;&#1081;%20&#1082;&#1088;&#1086;&#1089;&#1089;&#1074;&#1086;&#1088;&#1076;.doc" TargetMode="External"/><Relationship Id="rId5" Type="http://schemas.openxmlformats.org/officeDocument/2006/relationships/hyperlink" Target="file:///&#1050;&#1086;&#1085;&#1090;&#1088;&#1086;&#1083;&#1100;&#1085;&#1072;&#1103;%20&#1088;&#1072;&#1073;&#1086;&#1090;&#1072;%20&#1087;&#1086;%20&#1090;&#1077;&#1084;&#1077;.doc" TargetMode="External"/><Relationship Id="rId6" Type="http://schemas.openxmlformats.org/officeDocument/2006/relationships/hyperlink" Target="file:///&#1050;&#1086;&#1085;&#1090;&#1088;&#1086;&#1083;&#1100;&#1085;&#1072;&#1103;%20&#1088;&#1072;&#1073;&#1086;&#1090;&#1072;%20&#1087;&#1086;%20&#1090;&#1077;&#1084;&#1077;.doc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7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6;&#1077;&#1073;&#1091;&#1089;&#1099;.doc" TargetMode="External"/><Relationship Id="rId2" Type="http://schemas.openxmlformats.org/officeDocument/2006/relationships/hyperlink" Target="file:///&#1056;&#1077;&#1073;&#1091;&#1089;&#1099;.doc" TargetMode="External"/><Relationship Id="rId3" Type="http://schemas.openxmlformats.org/officeDocument/2006/relationships/hyperlink" Target="file:///&#1090;&#1074;&#1086;&#1088;&#1095;&#1077;&#1089;&#1082;&#1080;&#1077;%20&#1088;&#1072;&#1073;&#1086;&#1090;&#1099;.doc" TargetMode="External"/><Relationship Id="rId4" Type="http://schemas.openxmlformats.org/officeDocument/2006/relationships/hyperlink" Target="file:///&#1090;&#1074;&#1086;&#1088;&#1095;&#1077;&#1089;&#1082;&#1080;&#1077;%20&#1088;&#1072;&#1073;&#1086;&#1090;&#1099;.doc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4;&#1087;&#1090;&#1080;&#1095;&#1077;&#1089;&#1082;&#1080;&#1077;%20&#1080;&#1083;&#1083;&#1102;&#1079;&#1080;&#1080;.doc" TargetMode="External"/><Relationship Id="rId2" Type="http://schemas.openxmlformats.org/officeDocument/2006/relationships/hyperlink" Target="file:///&#1054;&#1087;&#1090;&#1080;&#1095;&#1077;&#1089;&#1082;&#1080;&#1077;%20&#1080;&#1083;&#1083;&#1102;&#1079;&#1080;&#1080;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2;&#1080;&#1082;&#1090;&#1086;&#1088;&#1080;&#1085;&#1072;.doc" TargetMode="External"/><Relationship Id="rId2" Type="http://schemas.openxmlformats.org/officeDocument/2006/relationships/hyperlink" Target="file:///&#1042;&#1080;&#1082;&#1090;&#1086;&#1088;&#1080;&#1085;&#1072;.doc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47;&#1072;&#1085;&#1080;&#1084;&#1072;&#1090;&#1077;&#1083;&#1100;&#1085;&#1099;&#1077;%20&#1079;&#1072;&#1076;&#1072;&#1095;&#1080;.doc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34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ОБЩЕНИЕ ПЕДАГОГИЧЕСКОГО ОПЫТА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276720" y="1700280"/>
            <a:ext cx="554328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учителя информатики</a:t>
            </a:r>
            <a:br>
              <a:rPr sz="2400"/>
            </a:b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второй квалификационной категор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МБОУ «Садовая СОШ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2400"/>
            </a:b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ЗИНЯКОВОЙ </a:t>
            </a:r>
            <a:br>
              <a:rPr sz="2800"/>
            </a:b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ЕЛЕНЫ ВЛАДИМИРОВ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2013 г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264492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04384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 Black"/>
              </a:rPr>
              <a:t>ВИДЫ ЗАНИМАТЕЛЬНЫХ ЗАДАНИЙ </a:t>
            </a:r>
            <a:br>
              <a:rPr sz="2200"/>
            </a:br>
            <a:r>
              <a:rPr b="1" lang="ru-RU" sz="2200" spc="-1" strike="noStrike">
                <a:solidFill>
                  <a:srgbClr val="d1282e"/>
                </a:solidFill>
                <a:latin typeface="Arial Black"/>
              </a:rPr>
              <a:t>(ПО М.Ю. ШУБА</a:t>
            </a: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 )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071720"/>
            <a:ext cx="81154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ые вопросы, задачи, упражнени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ие работы занимательного характер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ие иг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же   М.Ю.Шуба предлагает  другую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классификацию занимательных материалов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форме (различные виды головоломок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содержанию (занимательные задачи, викторины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и по форме, и по содержанию (дидактические игры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ГОЛОВОЛОМКИ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5480" y="714240"/>
            <a:ext cx="84294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оломка – это сложная, трудноразрешимая загадка, задача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зыковые (загадки, анаграммы, криптограммы, ребусы, кроссворды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(оптические иллюзии, геометрические, лабиринты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ические (на дедукцию, противоречия, парадоксы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матические (магические квадраты, алгебраические задачки, крипто-загадки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с элементами головоломок (игры на перестановки, механические и сборные игры, настольные игры, игры с картами и костями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головоломок – эффективный инструмент повышения интереса учащихся к предмет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ение головоломок на уроках информатики дает возможность, и повысить мотивацию учащихся, и дать им зна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6840" y="428760"/>
            <a:ext cx="81867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адка – мудреный, замысловатый вопрос, в котором то, что загадано, всегда скрывается под «маской», на предмет загадывания лишь делается намек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28800" y="1643040"/>
          <a:ext cx="7548480" cy="4664160"/>
        </p:xfrm>
        <a:graphic>
          <a:graphicData uri="http://schemas.openxmlformats.org/drawingml/2006/table">
            <a:tbl>
              <a:tblPr/>
              <a:tblGrid>
                <a:gridCol w="2984400"/>
                <a:gridCol w="2116080"/>
                <a:gridCol w="2448000"/>
              </a:tblGrid>
              <a:tr h="4664160">
                <a:tc>
                  <a:txBody>
                    <a:bodyPr lIns="63720" rIns="6372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17928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же этот ящик?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в себя бумагу тащит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ейчас же буквы, точки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ятые – строчка к строчке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ечатает картинку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вкий мастер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йный ...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те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17928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й записаны программ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ля мамы, и для папы!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паковке, как конфета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вертится ...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ке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LcPeriod"/>
                        <a:tabLst>
                          <a:tab algn="l" pos="17928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ы поро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ят между собой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для этого одн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штуковина нужна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телефону подключил –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получил!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ь, известная не всем!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ся ... (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2968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АНАГРАММА (ОТ ГРЕЧ. ANAGRAMMATISMOS – ПЕРЕСТАНОВКА БУКВ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928800"/>
            <a:ext cx="8258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о или слово­сочетание, образованное перестановкой букв другого слова или словосочета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зяв из слов только вторые слоги, составьте новое сло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овей, потол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я, ра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говица, молоток, ла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ор, бузина, ти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орот, пороша, кана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 анаграммам найти исходные сло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б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к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цт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ыз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мдн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кбуин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57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РИПТОГРАММ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428840"/>
            <a:ext cx="797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ение или высказывание зашифровано с помощью самой простой технологии: каждая буква алфавита заменена какой-нибудь другой буквой. Например, "Привет" может быть "Бнефид", где "Б" заменяет "П", "Н" заменяет "Р", "Е" заменяет "И", "Ф" заменяет "В", "И" заменяет "Е" и "Д" заменяет "Т". Особенность криптограмм в том, что чем они длиннее, тем легче их расшифровать. Обычно процесс начинают с поиска слов, состоящих из одной буквы, они могут значить «и» и «в», двухбуквенных слов, часто это «на», «по». Если фраза начинается с трехбуквенного слова, это может быть «что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5791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КРОССВОРДЫ </a:t>
            </a:r>
            <a:br>
              <a:rPr sz="2500"/>
            </a:b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5840" y="571680"/>
            <a:ext cx="8858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мыслу эта головоломка напоминает викторину с подсказк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ы можно разбить по разным признакам на такие груп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о специфике используемых вопросов (стандартные, занимате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Занимательный кроссворд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Для активизации деятельности (познавательные, мотивационные, актуализирующие, развивающие)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кроссворде через вопросы предполагается сформировать у обучаемых новые знания, то это кроссворд познавательного характера (Приложение 5). Если вопросы призваны привлечь обучаемых к изучению нового материала или направлены на повышение интереса к предмету, то это мотивационный. Если же через них с опорой на изученный материал предполагается подготовить учащихся к восприятию нового материала, то это актуализирующий кроссворд.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познавательный кроссворд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Для контроля знаний (кроссворды для текущей, тематической или обобщающей проверки).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Контрольная работа по теме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6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49968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 составляет учитель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 составляют учащиеся (Приложение 4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ешения кроссворда из 10-15 слов не требуется много времени, но такая работа требует от учеников хороших теоретических знаний. Если кроссворд разгадан полностью, то учащийся получает оценку «5». Если какие-то слова остаются неразгаданными, то учащимся даю возможность воспользоваться тетрадью, литератур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ным моментом в работе с кроссвордами является проведение конкурса на лучший кроссворд, составленный учениками в качестве домашнего задания. Выполняя задание, ученики работают с литературой (такой навык весьма важен), повторяют изученные на уроках понятия и знакомятся с новыми. При создании кроссворда ученик может проконсультироваться с учи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РЕБУСЫ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785880"/>
            <a:ext cx="8258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ус – это загадка, в которой искомое слово или фраза изображены в виде комбинации фигур, знаков, букв, т.е. «предметов». Одна из главных трудностей при разгадывании ребусов – умение правильно назвать изображённый на рисунке предмет и понять, как соотносятся между собой фрагменты рисунка. Необходимо учитывать наличие синонимов, буквенная «дробь» может быть прочитана по-разному. Кроме знания правил (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Приложение 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нужны еще смекалка и логик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41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5943600" cy="1752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643040" y="6001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Ответ: форма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6840" y="1071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щимся нужно не только составить ребус, но и грамотно оформить его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Ребусы.</a:t>
            </a: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борки ребусов, составленные учащимися, можно оформить в «Книжки-мылышки» во внеурочное время (на факультативном занятии) и используются в следующем учебном году на уроках информатики </a:t>
            </a: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творческие работы.</a:t>
            </a: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0092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ПТИЧЕСКИЕ ИЛЛЮЗИИ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428840"/>
            <a:ext cx="7620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в зрительном восприятии, вызванные неточностью или неадекватностью процессов неосознаваемой коррекции зрительного образа (неверная оценка длины отрезков, величины углов или цвета изображённого объекта, иллюзии движения, «иллюзия отсутствия объекта» – баннерная слепота, и др.), а также физическими причинами («сплюснутая Луна», «сломанная ложка» в стакане с водой) </a:t>
            </a: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Оптические иллюзии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 ОПЫТА: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57120" y="2142720"/>
            <a:ext cx="817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«ФОРМИРОВАН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ПОЗНАВАТЕЛЬНЫХ И ТВОРЧЕСКИХ СПОСОБНОСТЕЙ ШКОЛЬНИКОВ ЧЕРЕЗ ИСПОЛЬЗОВАН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ЗАНИМАТЕЛЬНЫХ ЗАДАЧ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НА УРОКАХ ИНФОРМАТИКИ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ВИКТОРИНЫ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214280"/>
            <a:ext cx="81867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кторина – форма организации деятельности учащихся, состоящая в том, что участники должны отвечать на ряд заданных вопросов, обычно объединенных какой-нибудь общей темой. Слово «викторина» появилось в 1920-х годах. Его придумал известный советский журналист и писатель Михаил Кольцов в качестве названия газетной подборки, включающей в себя различные вопросы, шарады, ребусы и т.п. Готовил эту развлекательную полосу некий Виктор, сотрудник газеты. От этого Виктора и произошла «викторина». Впоследствии нашли связь этого слова со словом «победа». Виктор - победитель. Этим словом стали обозначать все, что имеет вопросы и отве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кторина – одна из наиболее легко организуемых форм соревнования на уроке. В викторине может принять участие каждый желающий, при чем можно организовать командную или индивидуальную викторин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Викторина.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7256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ЗАНИМАТЕЛЬНЫЕ ЗАДАЧИ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713880"/>
            <a:ext cx="8258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– некая ситуация, включающая в себя набор исходных данных, используя которые требуется ответить на поставленный в условии вопрос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ризнаки занимательных задач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развивающую направленность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ы нестандартные формы и способы представления данных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исходных данных и ситуаций используются вымышленные или реальные персонажи, оперируя которыми требуется достигнуть заданной цел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чественная задача, решение которой строится на рассуждении без применения математических выкладок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в себя необычно поставленный вопрос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5804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1282e"/>
                </a:solidFill>
                <a:latin typeface="Arial Black"/>
              </a:rPr>
              <a:t>ТИПОЛОГИЯ ЗАНИМАТЕЛЬНЫХ ЗАДАЧ</a:t>
            </a:r>
            <a:br>
              <a:rPr sz="32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928440"/>
            <a:ext cx="80438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ют различные классификации и типологизации задач, применяемых в учебном процессе, например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пособу подачи информации (текстовые, графические, задачи-рисунки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пособу решения (арифметические, алгебраические, геометрические, графические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одержанию (количественные и качественные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функциональным возможностям в обучении (задачи с дидактическими функциями, задачи с познавательными функциями, задачи с развивающими функциями) и так дале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Занимательные задач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8676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ОСОБЕННОСТИ И НЕКОТОРЫЕ ПРЕИМУЩЕСТВА НАЗВАННЫХ ВЫШЕ ТИПОВ ЗАНИМАТЕЛЬНЫХ ЗАДАЧ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71480"/>
            <a:ext cx="76201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занимательных задач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ость задач повышенной трудности, нестандартных и необычно поставленных, нередко достигается через занимательнос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6150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1282e"/>
                </a:solidFill>
                <a:latin typeface="Arial Black"/>
              </a:rPr>
              <a:t>ДИДАКТИЧЕСКИЕ ИГРЫ </a:t>
            </a:r>
            <a:br>
              <a:rPr sz="3100"/>
            </a:br>
            <a:endParaRPr b="0" lang="en-US" sz="3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85960"/>
            <a:ext cx="8043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 – это особая сфера человеческой активности, в которой личность не преследует никаких других целей, кроме получения удовольствия, удовольствия от проявления физических и духовных си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ва основных типа игр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фиксированными, открытыми правилами (дидактических, познавательных и подвижных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о скрытыми правилами (сюжетно-ролевые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68672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ИДАКТИЧЕСКАЯ ИГР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356840"/>
            <a:ext cx="76201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деятельность, организуемая в процессе обучения с целью развития познавательного интереса за счет эмоциональной окрашенности игровых действи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езультате проведения такой игры формируются конкретные знания, а так же соответствующие умения и навыки по их творческому использованию у ее участник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6840" y="500040"/>
            <a:ext cx="7620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Часто игры соотносятся с содержанием обучения и воспитания. В этой классификации можно представить следующие типы игр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по сенсорному воспитанию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е игр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по ознакомлению с природо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формированию математических представлен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Иногда игры соотносятся с материалом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 с дидактическими игрушк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о-печатные игр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ые игр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евдосюжетные игр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6840" y="571320"/>
            <a:ext cx="8115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– это особая форма детской жизни, выработанная или созданная обществом для управления развитием дете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– творчество, игра – тру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игры у детей вырабатывается привычка сосредотачиваться, мыслить самостоятельно, развивается внимание, стремление к знаниям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лёкшись, дети не замечают, что учатся: познают, запоминают новое, ориентируются в необычных ситуациях, пополняют запас представлений, понятий, развивают фантази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же самые пассивные из детей включаются в игру с огромным желанием, прилагая все усилия, чтобы не подвести товарищей по иг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6840" y="642600"/>
            <a:ext cx="76201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интересны игровые моменты на урока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проведения таких уроков появляется возможность в увлекательной, игровой форме дать детям тот материал, который в традиционной форме усваивается очень слабо и без интереса, провести неординарно обобщающий урок по тем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кими примерами игр на уроках являются игры «Верю – не верю», «Угадай-ка», «Фольклорная информатика», «Компьютерные антиподы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имательные игр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214280"/>
            <a:ext cx="76201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виды занимательности имеют разную направленность (познавательную, развивающую, актуализирующую, мотивирующую, развлекательную), разную эффективность, требуют тщательной подготовки и организации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930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 Black"/>
              </a:rPr>
              <a:t>УСЛОВИЯ ВОЗНИКНОВЕНИЯ И СТАНОВЛЕНИЯ ОПЫТА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ходя на урок информатики дети переживают сложный период адапта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самостоятельно  осваивают игровые программы, умение выполнять некоторые технологические операции создает у многих учащихся иллюзию, что они все знают и им нечему учиться на уро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большого количества интересных готовых программных продуктов снизило стремление учащихся к теоретической информатике (теория информации, основы логики, аппаратное обеспечению компьютера, программирование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сивность части учащихся как на учебных занятиях, так и во внеурочной деятельности по предмет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 Black"/>
              </a:rPr>
              <a:t>ВЕДУЩАЯ ПЕДАГОГИЧЕСКАЯ ИДЕ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214280"/>
            <a:ext cx="8143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Если использование элементов занимательности на уроках сделать  постоянной составляющей частью образовательного процесса, то будут созданы условия для развития творческих способностей  учащих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которые в свою очередь будут способствовать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ированию и развитию внутренней мотивации учащихся к изучению информатики как науки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ю мыслительной активности учащихся и приобретению навыков логического мышления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чевому развитию учащихся, совершенствованию коммуникативной компетенции в целом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ю  индивидуальных особенностей учащихся, их самостоятельности, потребности в самообразовани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ТЕХНОЛОГИЯ ОПЫТА </a:t>
            </a:r>
            <a:br>
              <a:rPr sz="2800"/>
            </a:b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78588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бучение – это ремесло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ующее бесчисленн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ичество маленьких трюков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ри использовании занимательных заданий на уроках полезно учитывать следующие принцип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занимательных заданий целесообразно тогда, когда есть опасность непринятия учащимися какого-либо учебного зада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рохождении сложных тем или при постановке трудных дидактических задач урок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выработке умений и навыков учащихся, когда требуется выполнить значительное количество однотипных упражнен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зучении материала, подлежащего прочному запоминанию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571320"/>
            <a:ext cx="76201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ля каждого занимательного материала, который предполагается использовать на уроке, учитель должен выясни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ет ли он занимательным для учащихся данного класса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но ли он войдет в структуру урок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ет ли его использование эффективны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8676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ТРЕБОВАНИЯ К ЗАНИМАТЕЛЬНОМУ МАТЕРИАЛУ 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4280"/>
            <a:ext cx="8329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732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нимательный материал должен привлекать внимание учеников постановкой вопроса и направлять мысль на поиск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анимательный материал должен быть не развлекательной иллюстрацией к уроку, а вызывать познавательную активность учащихся, помогать им выяснять причинно-следственные связи между явлениям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999720"/>
            <a:ext cx="83296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нимательный материал должен соответствовать возрастным особенностям учащихся, уровню их интеллектуаль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нимательный материал на уроке не должен требовать большой затраты времени, но должен быть ярким, эмоциональным моментом урока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15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При подборе занимательных материалов: </a:t>
            </a:r>
            <a:br>
              <a:rPr sz="13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214280"/>
            <a:ext cx="76201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о определить место занимательности в изучении раздела, темы, в структуре конкретного урока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ее направленность (мотивация, актуализация знаний, отработка понятийной базы, контроль и т.д.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, как она согласуется с намеченными целями урока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ь, соответствует ли занимательный материал уровню подготовленности учащихс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0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ВРЕМЕННЫЕ РАМКИ ИСПОЛЬЗОВАНИЯ ЗАНИМАТЕЛЬНЫХ ЗАДАНИЙ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3572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т одного небольшого задания на 2-3 минуты до практического занятия с элементами занимательности на 15-20 минут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занимательные задания используются не на каждом уроке, а только тогда, когда в этом есть необходимость, иначе у детей возникнет стереотип, что информатика - это предмет, на котором только играют и развлекаются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42472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d1282e"/>
                </a:solidFill>
                <a:latin typeface="Arial Black"/>
              </a:rPr>
              <a:t>Занимательные задания можно применять для всех компонентов учебно-познавательной деятельности:</a:t>
            </a:r>
            <a:br>
              <a:rPr sz="2900"/>
            </a:br>
            <a:endParaRPr b="0" lang="en-US" sz="29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76201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мотивации учащихся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актуализации знаний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формирования понятий и начальных представлений о явлениях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повторения и обобщения материала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0"/>
            <a:ext cx="8400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ость на уроках целесообразно использовать при объяснении нового материала, чтобы вызвать интерес к новой теме и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повысить мотивац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хся. Это могут быть такие типы заданий как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головолом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Заинтриговав детей новым понятием, учитель объясняет его смыс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альнейшем такие головоломки можно использовать при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повторе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ой задачей курса информатики является усвоение учащимися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правильной терминолог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Для этого и используют всевозможные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тематические ребу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Такие упражнения развивают логическое мышление, воображение, творческие способности, зрительное внимание, умение мыслить нестандартно, позволяют отрабатывать грамотное написание терминов по информатик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6840" y="357120"/>
            <a:ext cx="8258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актуализации знаний эффективным средством занимательности может служить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идактическая иг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Игра способствует активизации учебной деятельности школьников, так как, в первую очередь происходит изменение мотивации к получению знан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широкие возможности для установления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межпредметных связ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ля отработки знаний, умений и навык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емам можно использовать решение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занимательных задач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Причем уровень их может меняться (от простых до сложных) с учетом уровня подготовки класса или отдельных учеников, т.е. возможен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дифференцированный подх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чащимся при решении такого рода зада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 Black"/>
              </a:rPr>
              <a:t>АКТУАЛЬНОСТЬ ОПЫТ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125000"/>
            <a:ext cx="8353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 занимательных задач на уроках позволяет успешно развивать  творческое мышление и  позволяет успешно решать  следующие  проблемы в обучени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чная мотивация к обучению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механизма самореализации личност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ь  интеграции знаний по различным предмет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кий уровень коммуникативных и организаторских способносте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ость  оживляет процесс обучения, а также способствует развитию познавательных интересов, интеллектуальных и творческих способносте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ибольшее применение занимательность находит при закреплении и повторении учебного материала, при совершенствовании умений и навыков, когда можно учесть и выявить пробелы в знаниях и умениях учащихся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Игры, головолом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кроссворды, сканворды, ребусы, криптограммы), викторины, логические мини-задачи и задачи-шутк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есообразно использовать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для повторения и обобщения материала,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для контрол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кроссворды и практические работы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элементами занимательност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1282e"/>
                </a:solidFill>
                <a:latin typeface="Arial"/>
              </a:rPr>
              <a:t>Методическая ценность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я занимательных заданий в том, что ученику надо глубже вникать в сущность задания, выделять главные моменты, учитывая связи между компонентами, и т. д. Благодаря этому учебный навык, на формирование которого направлены эти задания, вырабатывается быстрее, ибо он связан с продуктивной мыслительной деятельностью ученик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ПРАКТИЧЕСКИЕ РАБОТЫ С ЭЛЕМЕНТАМИ ЗАНИМАТЕЛЬНОСТИ 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 из форм организации деятельности учащихся, способствующая формированию устойчивых навыков использования компьютера в учебной деятельности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ая работа по тем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0092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ЗАНИМАТЕЛЬНЫЕ ЗАДАЧИ ДЛЯ ЭМОЦИОНАЛЬНОЙ РАЗГРУЗКИ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928800"/>
            <a:ext cx="7620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акцентировать на этом внимание обучаемых. Например, не рекомендуется предварять решение таких задач словами: «А теперь давайте отдохнем (т.е. расслабимся!) и решим занимательную задачу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лишнее число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3,6,7,1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,12,3,29,45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,20,30,36,4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 ря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7,11,15,19,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4,9,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6,48,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РАССМОТРИМ НЕКОТОРЫЕ ТЕМЫ , В КОТОРЫХ ЦЕЛЕСООБРАЗНО ИСПОЛЬЗОВАТЬ ЗАНИМАТЕЛЬНЫЕ ЗАДАНИЯ:</a:t>
            </a:r>
            <a:br>
              <a:rPr sz="2500"/>
            </a:b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071360"/>
            <a:ext cx="79725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1282e"/>
                </a:solidFill>
                <a:latin typeface="Arial"/>
              </a:rPr>
              <a:t>Тема «Информация в памяти компьютер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представления информации является сквозной в курсе информатики 2-6 класс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уждая   проблему восприятия человеком информации из внешнего мира,  обращаю внимание учеников на то, что человек обладает множеством каналов, по которым в его мозг поступает информация. Эти каналы – наши органы чувств (зрение, слух, обоняние, осязание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шестого класса ученики, безусловно, знакомы с записью чисел как римскими, так и арабскими цифрами. «Верно ли равенство, записанное одинаковыми цифрам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11 (?)», представляется учащихся занимательной (занимательная логическая задача). выполнить сложение или умножение многозначных чисел, записанных римскими и арабскими цифрами. Дети почти сразу же поймут, что для решения подобных примеров римские цифры совершенно не подходя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9725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1282e"/>
                </a:solidFill>
                <a:latin typeface="Arial Black"/>
              </a:rPr>
              <a:t>НА СЛЕДУЮЩЕМ ЭТАПЕ УРОКА «ИНФОРМАЦИЯ В ПАМЯТИ КОМПЬЮТЕРА. СИСТЕМЫ СЧИСЛЕНИЯ» 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4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ю понять, что позиционных систем счисления существует множество: наша – десятичная, компьютер – двоичная, восьмеричная, шестнадцатеричная, а так же, например, двенадцатеричная, шестидесятерична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м занимательности на уроке может служить вопрос учителя: </a:t>
            </a:r>
            <a:r>
              <a:rPr b="1" lang="ru-RU" sz="2800" spc="-1" strike="noStrike">
                <a:solidFill>
                  <a:srgbClr val="d1282e"/>
                </a:solidFill>
                <a:latin typeface="Arial"/>
              </a:rPr>
              <a:t>почему в году 12 месяцев, в минуте 60 секунд, в сутках 24 часа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11548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ТЕМА УРОКА «ДВОИЧНОЕ КОДИРОВАНИЕ ЧИСЛОВОЙ ИНФОРМАЦИИ» </a:t>
            </a:r>
            <a:endParaRPr b="0" lang="en-US" sz="2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78552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превратиться в сухую математик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мной предлагается с самых первых минут урока   занимательные задачи,  которые не только помогут отработать навыки по переводу чисел из двоичной СС в десятичную, но и не позволят «столбикам деления на 2» убить интерес к информатик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ельные задачи по тем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ледующем уроке можно предложить ученикам выполнить занимательную практическую работу (Приложение 20). Опыт показывает, что включение такой практической работы повышает качество знаний по этой теме до 90-95%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ая работа по тем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«КОДИРОВАНИЕ ТЕКСТОВОЙ ИНФОРМАЦИИ»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3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зучении темы учащиеся знакомятся с различными таблицами кодировок, выполняют упражнения по кодированию и декодированию символьной информ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домашнего за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ом уроке ученикам предлагаю закодировать текстовое сообщение. Работу принести не в тетради, а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на отдельном листоч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чтобы на следующем уроке, предварительно собрав и перемешав листочки, выдать учащимся для декодирова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ую работу дети охотно выполняют и с нетерпением ждут результаты декодирования, т.к. оценка зависит не только от расшифрованного сообщения, но и от правильного кодирования работы, выполненной до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285840"/>
            <a:ext cx="8472600" cy="17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ПРЕДСТАВЛЕНИЕ ГРАФИЧЕСКОЙ ИНФОРМАЦИИ СУЩЕСТВУЕТ ДВА ПОДХОДА: РАСТРОВОЕ И ВЕКТОРНОЕ КОДИРОВАНИЕ.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752480"/>
            <a:ext cx="8115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растрового кодирования графической информации целесообразно сопроводить еще одной практической работой с элементами занимательности (Приложение 25</a:t>
            </a:r>
            <a:r>
              <a:rPr b="1" lang="ru-RU" sz="2400" spc="-1" strike="noStrike">
                <a:solidFill>
                  <a:srgbClr val="b89101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которой еще раз повторяется перевод десятичных чисел в двоичную систему счисления, и декодируется графическая информаци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мся эта практическая работа очень нравится и некоторые дети на следующий урок приносят свои кодированные рисунки с предложением выдать коды одноклассникам для декодирова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725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ИТА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я занимательные задания на уроках данной темы, можно избежать утомительных   математических вычислений и скучных урок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 Black"/>
              </a:rPr>
              <a:t>НОВИЗНА ОПЫТ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11280" y="14839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можно обозначить как репродуктивно-рационализаторский,  поскольку данный вопрос уже разрабатывался отечественными и зарубежными педагогам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 адаптировала наработки, созданные в ходе подготовки опыта, к условиям своей школы в соответствии с целями и задачами моей методической те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151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282e"/>
                </a:solidFill>
                <a:latin typeface="Arial Black"/>
              </a:rPr>
              <a:t>ТЕОРЕТИЧЕСКАЯ БАЗА ОПЫТА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64296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бная деятельность идет более успешно, если у учеников сформировано положительное отношение к учению, если у них есть познавательный интерес, потребность в получении знаний, умений и навыков, если у них воспитаны чувства долга, ответственности и другие мотивы учения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оцессе обучения важно обеспечивать возникновение положительных эмоций по отношению к учебной деятельности, к её содержанию, формам и методам осуществления. Эмоциональное состояние всегда связано с переживаниями, душевными волнениями, сочувствием, радостью, гневом, удивлением. К процессам внимания, запоминания, осмысливания в таком состоянии подключаются глубокие внутренние переживания личности, которые делают эти процессы интенсивными и оттого более эффективными в смысле достигаемых целей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428400"/>
            <a:ext cx="7900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занимательных задач и игровых технологий на уроках с учениками разного уровня подготовки и способностя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выполненных учащимися   работ в качестве наглядного и дидактического материала к урокам: творческие р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  системы  уроков по темам: </a:t>
            </a:r>
            <a:r>
              <a:rPr b="1" lang="ru-RU" sz="2400" spc="-1" strike="noStrike">
                <a:solidFill>
                  <a:srgbClr val="595959"/>
                </a:solidFill>
                <a:latin typeface="Arial"/>
              </a:rPr>
              <a:t>Занимательные задания в курсе информатики 5,6 класса.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  системы  уроков по темам, которая должна будет войти в мой сайт учителя информати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15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РЕЗУЛЬТАТИВНОСТЬ </a:t>
            </a:r>
            <a:br>
              <a:rPr sz="2800"/>
            </a:br>
            <a:r>
              <a:rPr b="1" lang="ru-RU" sz="2800" spc="-1" strike="noStrike">
                <a:solidFill>
                  <a:srgbClr val="d1282e"/>
                </a:solidFill>
                <a:latin typeface="Arial Black"/>
              </a:rPr>
              <a:t>ОПЫТА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85680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альной действительности, к сожалению, на уроке на решение всех занимательных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задач времени недостаточ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этому занимательные задачи полезно и интересно использовать в рамках проведения различных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внеурочных мероприят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Без занимательных задач просто не обходится ни одно внеклассное мероприятие: КВН, недели информатики, факультативные и кружковые занятия, они прививают интерес к предмету, расширяют и углубляют знания учащих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я над развитием творческой активности детей, появляется устойчивый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интерес к творчеств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й способствует пониманию предмета информатики и обеспечивает перенос усвоенных знаний в самые разнообразные ситу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сился уровень самостоятельности, изобретательской активности, мастерства учащихся, имеются положительные результаты влияния такой работы на других учащих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713880"/>
            <a:ext cx="8043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Увеличился объём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е, повысилось внимание и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работоспособ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т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ился и общий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сихологический клима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ах: ребята не боятся ошибок, помогают друг другу, с удовольствием участвуют в различных мероприятиях, проводимых как в школе, так и на районном, областном и всероссийском уровня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широко используя различные приемы активизации творческой активности и применяя их в учебном процессе, можно добиться </a:t>
            </a:r>
            <a:r>
              <a:rPr b="1" lang="ru-RU" sz="2000" spc="-1" strike="noStrike">
                <a:solidFill>
                  <a:srgbClr val="d1282e"/>
                </a:solidFill>
                <a:latin typeface="Arial"/>
              </a:rPr>
              <a:t>положительных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учении и воспитании школьник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1143000" y="2071800"/>
          <a:ext cx="7143840" cy="4608360"/>
        </p:xfrm>
        <a:graphic>
          <a:graphicData uri="http://schemas.openxmlformats.org/drawingml/2006/table">
            <a:tbl>
              <a:tblPr/>
              <a:tblGrid>
                <a:gridCol w="1459080"/>
                <a:gridCol w="1379520"/>
                <a:gridCol w="1214280"/>
                <a:gridCol w="1473120"/>
                <a:gridCol w="1617840"/>
              </a:tblGrid>
              <a:tr h="823320">
                <a:tc gridSpan="5"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качества по предмету информатика за 2009-10/2011-12 учебные г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5640"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10 уч.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11 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12 уч.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класс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за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1214280" y="756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намику развития творческой активности можно проследить по следующим критер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  <a:ea typeface="Times New Roman"/>
              </a:rPr>
              <a:t>Стабильные или повышенные проц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Arial"/>
                <a:ea typeface="Times New Roman"/>
              </a:rPr>
              <a:t>качества успеваемости по информатике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571320"/>
            <a:ext cx="76201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учащихся, индивидуально или в составе творческой группы умеют оформлять творческую работу (кроссворды, викторины,  реферат, альбом и пр.). Примером таких работ могут быть : архив рисунков, презентаций учащихся как компьютерных, так и выполненных на бумаге, для  дальнейших методических целей.творческие р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е не один год   мои ученики активно участвуют в различных конкурсах и олимпиадах по  информатике и  являются призерами и победителями этих конкурсов, количество участников и победителей возрастае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429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2009-2010 УЧЕБНЫЙ ГОД:</a:t>
            </a:r>
            <a:r>
              <a:rPr b="1" lang="ru-RU" sz="3600" spc="-1" strike="noStrike">
                <a:solidFill>
                  <a:srgbClr val="d1282e"/>
                </a:solidFill>
                <a:latin typeface="Arial Black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3" name="Объект 3"/>
          <p:cNvSpPr/>
          <p:nvPr/>
        </p:nvSpPr>
        <p:spPr>
          <a:xfrm>
            <a:off x="250920" y="1700280"/>
            <a:ext cx="81072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ий игровой конкурс  «КИТ (Компьютеры. Информатика. Технологии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место в районе - Ермилова Екатерина, 5 класс; результаты кит 2009 заверенная копия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есто в районе - Зиняков Михаил, 4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ая игра «Инфозна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сто в районе во -  Хазов Дмитрий, 4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есто – Зиняков Михаил, 4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3588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2010-2011 учебный год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7120" y="999720"/>
            <a:ext cx="2857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сто в России во Всероссийской игре «Инфознайка» -  Ерофеева Анастасия, 4 клас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сто в районе,4 место в регионе во Всероссийской игре «Инфознайка» - Зиняков Михаил, 5 клас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F:\аттестация - критерии мое портфолио\Благодарность инфознайка 2011.JPG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369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3357720" y="1000080"/>
            <a:ext cx="2682720" cy="3286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5786280" y="3164040"/>
            <a:ext cx="29289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790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1282e"/>
                </a:solidFill>
                <a:uFillTx/>
                <a:latin typeface="Arial Black"/>
              </a:rPr>
              <a:t>2011-2012 учебный год:</a:t>
            </a: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5352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сто в  регионе  во Всероссийском игровом конкурсе «КИТ (Компьютеры. Информатика. Технологии)» - Борисова Яна, 5 класс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место в районе во Всероссийском игровом конкурсе «КИТ (Компьютеры. Информатика. Технологии)» - Оськина Юлия, 6 класс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 место в районе КИТ 2011"/>
          <p:cNvPicPr/>
          <p:nvPr/>
        </p:nvPicPr>
        <p:blipFill>
          <a:blip r:embed="rId1"/>
          <a:stretch/>
        </p:blipFill>
        <p:spPr>
          <a:xfrm>
            <a:off x="5724360" y="1484280"/>
            <a:ext cx="2544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1760" y="452160"/>
            <a:ext cx="4921560" cy="45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282e"/>
                </a:solidFill>
                <a:uFillTx/>
                <a:latin typeface="Arial"/>
              </a:rPr>
              <a:t>2011-2012 учебный год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755640" y="2109960"/>
            <a:ext cx="259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России   -  Баран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 место в России во -  Серова Д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 место в России -  Торопов Алекса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диплом Федерального победителя Инфознайки 2012 Баранов Александр"/>
          <p:cNvPicPr/>
          <p:nvPr/>
        </p:nvPicPr>
        <p:blipFill>
          <a:blip r:embed="rId1"/>
          <a:stretch/>
        </p:blipFill>
        <p:spPr>
          <a:xfrm>
            <a:off x="3000240" y="2214720"/>
            <a:ext cx="2806920" cy="4132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диплом Федерального победителя Инфознайки 2012 Серова Дарья"/>
          <p:cNvPicPr/>
          <p:nvPr/>
        </p:nvPicPr>
        <p:blipFill>
          <a:blip r:embed="rId2"/>
          <a:stretch/>
        </p:blipFill>
        <p:spPr>
          <a:xfrm>
            <a:off x="5715000" y="0"/>
            <a:ext cx="3063960" cy="44704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5"/>
          <p:cNvSpPr/>
          <p:nvPr/>
        </p:nvSpPr>
        <p:spPr>
          <a:xfrm>
            <a:off x="627120" y="985680"/>
            <a:ext cx="34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нфозна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диплом Федерального победителя Инфознайки 2012 Торопов Александр"/>
          <p:cNvPicPr/>
          <p:nvPr/>
        </p:nvPicPr>
        <p:blipFill>
          <a:blip r:embed="rId3"/>
          <a:stretch/>
        </p:blipFill>
        <p:spPr>
          <a:xfrm>
            <a:off x="5643720" y="2255760"/>
            <a:ext cx="3187440" cy="46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F:\аттестация - критерии мое портфолио\диплом победителя Инфознайки 2012 Торгова Анастасия.jpg"/>
          <p:cNvPicPr/>
          <p:nvPr/>
        </p:nvPicPr>
        <p:blipFill>
          <a:blip r:embed="rId1"/>
          <a:stretch/>
        </p:blipFill>
        <p:spPr>
          <a:xfrm>
            <a:off x="0" y="428760"/>
            <a:ext cx="2986200" cy="4373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F:\аттестация - критерии мое портфолио\диплом победителя Инфознайки 2012 Зиняков Михаил.jpg"/>
          <p:cNvPicPr/>
          <p:nvPr/>
        </p:nvPicPr>
        <p:blipFill>
          <a:blip r:embed="rId2"/>
          <a:stretch/>
        </p:blipFill>
        <p:spPr>
          <a:xfrm>
            <a:off x="3071880" y="2695680"/>
            <a:ext cx="2895480" cy="4162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F:\аттестация - критерии мое портфолио\диплом победителя Инфознайки 2012 Железов Максим.jpg"/>
          <p:cNvPicPr/>
          <p:nvPr/>
        </p:nvPicPr>
        <p:blipFill>
          <a:blip r:embed="rId3"/>
          <a:stretch/>
        </p:blipFill>
        <p:spPr>
          <a:xfrm>
            <a:off x="5929200" y="785880"/>
            <a:ext cx="32148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64296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им из методов эмоционального стимулирования учения является </a:t>
            </a:r>
            <a:r>
              <a:rPr b="1" lang="ru-RU" sz="2400" spc="-1" strike="noStrike">
                <a:solidFill>
                  <a:srgbClr val="d1282e"/>
                </a:solidFill>
                <a:latin typeface="Arial"/>
              </a:rPr>
              <a:t>метод стимулирования занимательность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 в учебный процесс занимательных примеров, опытов, парадоксальных фактов. Это примеры о применении компьютеров в быту, занимательные рассказы об информатике. Разговор о занимательных фактах вызывает неизменный отклик у учеников. Они с удовольствием самостоятельно подбирают примеры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занимательностью на уроке понимаем те компоненты урока, способы подачи учебного материала, специфические свойства информации и заданий, связанные с учебным материалом, а иногда и организацией обучения, которые содержат в себе элементы необычайного, удивительного, неожиданного, комического, вызывают интерес у школьников к учебному предмету и способствуют созданию положительной эмоциональной обстановки учения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призер Всероссийской дистанционной олимпиады по информатике"/>
          <p:cNvPicPr/>
          <p:nvPr/>
        </p:nvPicPr>
        <p:blipFill>
          <a:blip r:embed="rId1"/>
          <a:stretch/>
        </p:blipFill>
        <p:spPr>
          <a:xfrm>
            <a:off x="4545000" y="549360"/>
            <a:ext cx="4326120" cy="5832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d1282e"/>
                </a:solidFill>
                <a:uFillTx/>
                <a:latin typeface="Arial Black"/>
              </a:rPr>
              <a:t>2011-2012 учебный год:</a:t>
            </a:r>
            <a:br>
              <a:rPr sz="4000"/>
            </a:b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114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зёр во Всероссийской интернет -олимпиаде по информатике (2 место) – ученик 6 класса Зиняков Михаил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А ТАКЖЕ: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642960"/>
            <a:ext cx="2757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региональный сетевая викторина «Когда Россия молодая мужала с гением Петр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региональный сетевая викторина «Флаг России – наша гордость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детский творческий онлайн – конкурс «Интернешка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https://mail.yandex.ru/message_part/%D0%97%D0%B8%D0%BD%D1%8F%D0%BA%D0%BE%D0%B2%D0%B0.jpg?hid=1.5&amp;ids=2330000000173978855&amp;no_disposition=y&amp;name=%D0%97%D0%B8%D0%BD%D1%8F%D0%BA%D0%BE%D0%B2%D0%B0.jpg&amp;thumb=y&amp;exif_rotate=y"/>
          <p:cNvPicPr/>
          <p:nvPr/>
        </p:nvPicPr>
        <p:blipFill>
          <a:blip r:embed="rId1"/>
          <a:stretch/>
        </p:blipFill>
        <p:spPr>
          <a:xfrm>
            <a:off x="3286080" y="214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https://mail.yandex.ru/message_part/%D0%93%D1%80%D0%B8%D0%B1%D0%BE%D0%B2%D0%B0.jpg?hid=1.2&amp;ids=2330000000173978855&amp;no_disposition=y&amp;name=%D0%93%D1%80%D0%B8%D0%B1%D0%BE%D0%B2%D0%B0.jpg&amp;thumb=y&amp;exif_rotate=y"/>
          <p:cNvPicPr/>
          <p:nvPr/>
        </p:nvPicPr>
        <p:blipFill>
          <a:blip r:embed="rId2"/>
          <a:stretch/>
        </p:blipFill>
        <p:spPr>
          <a:xfrm>
            <a:off x="6072120" y="214200"/>
            <a:ext cx="3071880" cy="3357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https://mail.yandex.ru/message_part/%D0%91%D0%B0%D0%B9%D0%BA%D0%BE%D0%B2.jpg?hid=1.2&amp;ids=2330000000495209610&amp;no_disposition=y&amp;name=%D0%91%D0%B0%D0%B9%D0%BA%D0%BE%D0%B2.jpg&amp;thumb=y&amp;exif_rotate=y"/>
          <p:cNvPicPr/>
          <p:nvPr/>
        </p:nvPicPr>
        <p:blipFill>
          <a:blip r:embed="rId3"/>
          <a:stretch/>
        </p:blipFill>
        <p:spPr>
          <a:xfrm>
            <a:off x="3357720" y="357192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https://mail.yandex.ru/message_part/%D0%97%D0%B8%D0%BD%D1%8F%D0%BA%D0%BE%D0%B2.jpg?hid=1.4&amp;ids=2330000000495209610&amp;no_disposition=y&amp;name=%D0%97%D0%B8%D0%BD%D1%8F%D0%BA%D0%BE%D0%B2.jpg&amp;thumb=y&amp;exif_rotate=y"/>
          <p:cNvPicPr/>
          <p:nvPr/>
        </p:nvPicPr>
        <p:blipFill>
          <a:blip r:embed="rId4"/>
          <a:stretch/>
        </p:blipFill>
        <p:spPr>
          <a:xfrm>
            <a:off x="6215040" y="3571920"/>
            <a:ext cx="2928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5708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2012-2013 учебный год:</a:t>
            </a:r>
            <a:br>
              <a:rPr sz="3200"/>
            </a:br>
            <a:r>
              <a:rPr b="0" lang="ru-RU" sz="2500" spc="-1" strike="noStrike">
                <a:solidFill>
                  <a:srgbClr val="595959"/>
                </a:solidFill>
                <a:latin typeface="Arial Black"/>
              </a:rPr>
              <a:t>ВСЕРОССИЙСКИЙ ИГРОВОЙ КОНКУРС  «КИТ (КОМПЬЮТЕРЫ. ИНФОРМАТИКА. ТЕХНОЛОГИИ)» - 63 ЧЕЛОВЕКА</a:t>
            </a:r>
            <a:endParaRPr b="0" lang="en-US" sz="25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928880"/>
            <a:ext cx="7620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области    - Андреева Анастасия, 3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 районе  - Львов Кирилл, 2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-  Ионов Александр, 4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сто в   районе -  Дрозд Анна, 5 класс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место в районе   -  Зиняков Михаил, 7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место в районе   -   Боярсков Евгений,6 класс,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место в районе   -Халиуллина Анастасия, 7 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82160" y="260280"/>
            <a:ext cx="85899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282e"/>
                </a:solidFill>
                <a:latin typeface="Arial"/>
              </a:rPr>
              <a:t>2012-2013 учебный год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4786200" y="1285920"/>
            <a:ext cx="3951360" cy="5194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2"/>
          <a:stretch/>
        </p:blipFill>
        <p:spPr>
          <a:xfrm>
            <a:off x="357120" y="857160"/>
            <a:ext cx="4435560" cy="60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278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2012-2013 учебный год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3900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й уровень проект-квест "WikiВладимир-5 лет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 во Всероссийской сетевой игре «Улей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судьбе России – моя судь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посвящена Году российской истори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уровень: игра-путешествие «Инфознайка» – участвовало 59 челове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https://docviewer.yandex.ru/htmlimage?id=535n-ie2u0islqsgsiue8lvxkscgcwdqtf0iyr8qh3d8vc9atbmhdg7tflo1825t9tybza6cw2tizj75whn4ww1zhajvog9xcqjuns9a&amp;width=900&amp;name=bg-0.jpg"/>
          <p:cNvPicPr/>
          <p:nvPr/>
        </p:nvPicPr>
        <p:blipFill>
          <a:blip r:embed="rId1"/>
          <a:stretch/>
        </p:blipFill>
        <p:spPr>
          <a:xfrm>
            <a:off x="4500720" y="1000080"/>
            <a:ext cx="3143160" cy="444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F:\аттестация - критерии мое портфолио\Благодарность инфознайка 2012.jpg"/>
          <p:cNvPicPr/>
          <p:nvPr/>
        </p:nvPicPr>
        <p:blipFill>
          <a:blip r:embed="rId2"/>
          <a:stretch/>
        </p:blipFill>
        <p:spPr>
          <a:xfrm>
            <a:off x="6572160" y="3357720"/>
            <a:ext cx="2482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82964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РОМЕ ЭТОГО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00080"/>
            <a:ext cx="4471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сентября 2012 года занимаюсь с детьми 3 класса по программе «Учимся вместе 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уть к успеху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2012-2013 у.г. являюсь участником региональной экспериментальной площадки на базе ВИПКРО по апробации международной программы  программ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Учимся вместе с Интел» в рамках реализации проектной деятельности школьников (начальная и основная школа) с использованием ИКТ в условиях реализации новых ФГОС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D:\мама\обобщение\справка ВИПКРО экспериментальная площадка Зинякова.JPG"/>
          <p:cNvPicPr/>
          <p:nvPr/>
        </p:nvPicPr>
        <p:blipFill>
          <a:blip r:embed="rId1"/>
          <a:stretch/>
        </p:blipFill>
        <p:spPr>
          <a:xfrm>
            <a:off x="5072040" y="1143000"/>
            <a:ext cx="359892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571680"/>
            <a:ext cx="29718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юсь участницей Всероссийской Интернет-олимпиады «Учител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юсь лауреатом второго регионального конкурса педагогических эссе "На пути к новому образованию" – 2012 год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F:\сертификат олимпиада"/>
          <p:cNvPicPr/>
          <p:nvPr/>
        </p:nvPicPr>
        <p:blipFill>
          <a:blip r:embed="rId1"/>
          <a:stretch/>
        </p:blipFill>
        <p:spPr>
          <a:xfrm>
            <a:off x="3429000" y="0"/>
            <a:ext cx="3600360" cy="4956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D:\мама\обобщение\Грамота 2012 в областном конкурсе эссе.jpg"/>
          <p:cNvPicPr/>
          <p:nvPr/>
        </p:nvPicPr>
        <p:blipFill>
          <a:blip r:embed="rId2"/>
          <a:stretch/>
        </p:blipFill>
        <p:spPr>
          <a:xfrm>
            <a:off x="5643720" y="2367000"/>
            <a:ext cx="31543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6840" y="257184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http://s44.radikal.ru/i103/1205/2e/36f71293c936.jpg"/>
          <p:cNvPicPr/>
          <p:nvPr/>
        </p:nvPicPr>
        <p:blipFill>
          <a:blip r:embed="rId1"/>
          <a:stretch/>
        </p:blipFill>
        <p:spPr>
          <a:xfrm>
            <a:off x="0" y="0"/>
            <a:ext cx="898524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7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ЗАНИМАТЕЛЬНОСТЬ ОБУЧЕНИЯ ПО К.Д. УШИНСКОМУ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ится  на «внешнюю» (не связанную с содержанием урока) и «внутреннюю», причем «внутренняя» занимательность предпочтительнее «внешней», и удельный вес ее должен постепенно увеличивать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се  материалы занимательного характера обычно подразделяют на три групп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форме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по содержанию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ы, занимательные и по форме, и по содержани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ЗАНИМАТЕЛЬНОСТЬ БЫВАЕТ: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28440"/>
            <a:ext cx="76201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онная занимательность – занимательность, связанная с организацией урока и лишь косвенно связанная с учебным материало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ая занимательность – информация учебно-познавательного характера, которая вызывает любопытство учащихся. Обычно эта информация не ставит перед учащимися проблемы, а заставляет их задуматьс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043840" cy="16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1282e"/>
                </a:solidFill>
                <a:latin typeface="Arial Black"/>
              </a:rPr>
              <a:t>ЧТОБЫ </a:t>
            </a:r>
            <a:r>
              <a:rPr b="0" lang="ru-RU" sz="2000" spc="-1" strike="noStrike">
                <a:solidFill>
                  <a:srgbClr val="d1282e"/>
                </a:solidFill>
                <a:latin typeface="Arial Black"/>
              </a:rPr>
              <a:t>ПРИВЛЕЧЬ ВНИМАНИЕ УЧАЩИХСЯ НА УРОКЕ, НУЖНО ПРИМЕНЯТЬ ПРИЕМЫ ЗАНИМАТЕЛЬНОСТИ</a:t>
            </a: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.  </a:t>
            </a:r>
            <a:br>
              <a:rPr sz="3200"/>
            </a:b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14680"/>
            <a:ext cx="7620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занимательности, связанные с подачей задания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занимательности, связанные со структурой задан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ы занимательности, связанные с организацией и процессом реш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6:22:04Z</dcterms:created>
  <dc:creator>маша</dc:creator>
  <dc:description/>
  <dc:language>en-US</dc:language>
  <cp:lastModifiedBy>Admin</cp:lastModifiedBy>
  <dcterms:modified xsi:type="dcterms:W3CDTF">2013-02-25T19:14:58Z</dcterms:modified>
  <cp:revision>105</cp:revision>
  <dc:subject/>
  <dc:title>Обобщение педагогического опыта</dc:title>
</cp:coreProperties>
</file>