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A8C-19AB-45AE-9E20-A7016C38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A3A-F343-4511-B02C-4415835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C96-292C-4016-B810-6E257638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ECE-0834-4C3B-980B-59A14D2E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E3D9-0715-4C86-BCCB-DC8591D4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3620-B2B2-4F16-86D5-B59F16B9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65BB-275A-405A-83D8-1CFD8CA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2BA1-B5D5-4031-924E-A6AF9ABB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42B5-98DE-4337-A280-26F7FABC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839E-8AE7-43B9-8EEB-5443A436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D849-0AC0-4DF0-896A-DFEE47C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CEF-1328-4B79-A6AF-15F7037C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F143-3BEC-4250-9A49-974FDFE7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B1C2-E299-440B-9DEC-1649D1EC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7D9A-EF7A-4AFE-B1B9-1982968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609F-1E21-45B1-A1FA-14A47FF0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EBAC-54BA-4EBD-B47E-A8E66FC5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364-24EF-414A-8E28-0908E45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B76-908A-4B44-970F-39C24E9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DA6-51C7-401D-9CFE-B0B8E951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2CA-281C-46EB-AB3E-84536955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72D-2359-4E42-8F3C-4BA43FB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D88-B98E-4564-9735-1F059821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972-1A25-4160-9BE3-27B2265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545B-3672-490E-A42C-7DD4132046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0D3F-3EB3-4F29-89A1-F03E8825DA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О,сколько нам открытий чудных готовит просвещенья дух…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81280" y="2711520"/>
            <a:ext cx="19717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равнить дроб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\7 и 4\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изминутк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ыстро встали ,улыбнулис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ше- выше потянулис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у-ка,плечи распрямите,поднимите, опустит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право,влево повернитесь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 коленями коснитес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ли ,встали.Сели,вста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на месте побежа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равнение дроб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равнить дроби с разными знаменателями, надо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вести дроби к наименьшему общему знаменателю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равнить полученные дроб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равнить дроб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)а)7\10 и13\20 б)2\3 и5\8 в)21\\\25 и 13\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) расположить в порядке возраста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\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\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\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\3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)найти две дроби, каждая из которых больше 3\5 и меньше4\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\з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знайка решил начать новую жизнь. Он составил себе распис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6 часть суток- чтение книг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\8--------совершение добрых дел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12-----на прием пищи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8-----занятия спортом, 8 часов сон. Сможете ли вы помочь Незнайке и сказать выполним ли его план. Составьте свои задачи с этими данны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равнить дроб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 сравнить дроби с одинаковыми знаменателя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 сравнить дроби с одинаковыми числителя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 сравнить дроби с разными знаменателя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этом уроке я приобрел(а) следующие знания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 научился(ась)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 продемонсрировал(а) умения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не нравятся уроки проблематизации за то , что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пасибо за ур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71960" y="340992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ократите дроб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\1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\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\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0\2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1\1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8\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\2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4\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0040" y="1752480"/>
            <a:ext cx="3927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ведите к наименьшему знаменател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4 и1\2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3 и5\21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\12 и8\9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\22 и 3\3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2355840"/>
            <a:ext cx="1801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ему равен 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\14=х\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х\4=1\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\12=х\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\х=4\1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х\7=20\2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\12=2\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\х=2\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-1,л-3,н-7,т-5,а-2,ю-4,и-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молодц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АЛЮТ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76680" y="3146400"/>
            <a:ext cx="17794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 себ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ерно ли утвержд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\7=6\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5=5\2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\12=4\1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\8=21\2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6=3\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\7=9\1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\5=2\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иния ответ «нет», звездочка или галочка ответ «да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 себ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*-*-*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«5»-без ошиб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«4»- одна ошиб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«3» две ошиб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олодц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аспределите по группа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3,4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,3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7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,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Расположить в порядке возрастания         убыв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\1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6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10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1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\4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дач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ама купила два одинаковых по весу арбуза. Один разрезала на 7частей и дала дочери 3 части,а второй на9и дала сыну 4 части Кто из детей получил больше арб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20:33:55Z</dcterms:created>
  <dc:creator>Admin</dc:creator>
  <dc:description/>
  <dc:language>en-US</dc:language>
  <cp:lastModifiedBy>Admin</cp:lastModifiedBy>
  <dcterms:modified xsi:type="dcterms:W3CDTF">2012-10-11T21:52:04Z</dcterms:modified>
  <cp:revision>2</cp:revision>
  <dc:subject/>
  <dc:title>О,сколько нам открытий чудных готовит просвещенья дух….</dc:title>
</cp:coreProperties>
</file>