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021-A3F3-4589-8E7C-FEDA8B46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7F1-B5F2-47A1-8562-A38C0462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4E1-9EB4-4887-9253-270B36D9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462-2CD6-4A61-89C0-4047E12C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EDE5-9C33-4407-B3E3-AFCC7697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BB68-9A8F-40BB-8179-A85117F5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4F3C-DE86-440D-BBB3-4511622C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8411-A10E-4E9B-B994-3E582665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DC9F-39F6-40E1-9F50-3EC17E97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60B5-87EA-475A-A2E3-51545F62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2C51-698A-4486-A498-2EEDF9D1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9EF-29AC-4D90-8F18-E823CB7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C360-904F-43B6-ADBF-400B792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52D0-98EA-46E3-BD83-D8565F18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8A90-2021-4D67-AE5D-579DC1E0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FF85-9876-4BB8-8BB8-2CCB2884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4541-80E1-4083-9DA6-D07F8E8A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A83-4A24-4492-8621-1EFDE070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7A3-C1EE-4B4F-9A24-8ADA41C9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758-253D-4F4D-B950-47197957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F24-2EA3-4540-8D0A-33BB8C9C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4B3-94F3-4B1F-984B-52395E87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B44-1724-4727-B2D7-C98C8CC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C6B-E70C-44A0-BEF9-20284A44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25F1-1B75-41A1-91CE-6EE7A4DB93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41E6-A2EA-456A-B0EA-6918320DDD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О,сколько нам открытий чудных готовит просвещенья дух…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81280" y="2711520"/>
            <a:ext cx="19717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равнить дроб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\7 и 4\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изминутк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ыстро встали ,улыбнулис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ше- выше потянулис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у-ка,плечи распрямите,поднимите, опустит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право,влево повернитесь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 коленями коснитес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ли ,встали.Сели,вста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на месте побежа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равнение дроб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равнить дроби с разными знаменателями, надо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вести дроби к наименьшему общему знаменателю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равнить полученные дроб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равнить дроби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)а)7\10 и13\20 б)2\3 и5\8 в)21\\\25 и 13\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) расположить в порядке возраста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\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\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\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\3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)найти две дроби, каждая из которых больше 3\5 и меньше4\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\з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знайка решил начать новую жизнь. Он составил себе распис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6 часть суток- чтение книг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\8--------совершение добрых дел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12-----на прием пищи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\8-----занятия спортом, 8 часов сон. Сможете ли вы помочь Незнайке и сказать выполним ли его план. Составьте свои задачи с этими данны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равнить дроб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 сравнить дроби с одинаковыми знаменателя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 сравнить дроби с одинаковыми числителя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 сравнить дроби с разными знаменателя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этом уроке я приобрел(а) следующие знания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 научился(ась)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 продемонсрировал(а) умения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не нравятся уроки проблематизации за то , что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пасибо за ур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71960" y="340992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ократите дроб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\1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\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\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0\2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1\1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8\4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\2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4\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0040" y="1752480"/>
            <a:ext cx="3927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ведите к наименьшему знаменател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4 и1\2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\3 и5\21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\12 и8\9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\22 и 3\3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2355840"/>
            <a:ext cx="1801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Чему равен 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\14=х\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х\4=1\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\12=х\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\х=4\1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х\7=20\2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\12=2\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\х=2\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-1,л-3,н-7,т-5,а-2,ю-4,и-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молодц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АЛЮТ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76680" y="3146400"/>
            <a:ext cx="17794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 себ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ерно ли утвержд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\7=6\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5=5\2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\12=4\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\8=21\2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\6=3\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\7=9\1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\5=2\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Линия ответ «нет», звездочка или галочка ответ «да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 себ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*-*-*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«5»-без ошиб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«4»- одна ошиб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«3» две ошиб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олодц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Распределите по группа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3,4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,3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7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4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,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Расположить в порядке возрастания         убыв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6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10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1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4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дач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ама купила два одинаковых по весу арбуза. Один разрезала на 7частей и дала дочери 3 части,а второй на9и дала сыну 4 части Кто из детей получил больше арб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20:33:55Z</dcterms:created>
  <dc:creator>Admin</dc:creator>
  <dc:description/>
  <dc:language>en-US</dc:language>
  <cp:lastModifiedBy>Admin</cp:lastModifiedBy>
  <dcterms:modified xsi:type="dcterms:W3CDTF">2012-10-11T21:52:04Z</dcterms:modified>
  <cp:revision>2</cp:revision>
  <dc:subject/>
  <dc:title>О,сколько нам открытий чудных готовит просвещенья дух….</dc:title>
</cp:coreProperties>
</file>