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9EE-8BCC-4913-AA22-F191AD70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B93-252D-4723-85EB-761879C5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D33-3ABD-4B69-AD5B-66DAAE1B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A10-494D-49C7-8708-AF1C9D2D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5F3-3F90-4AAE-B5CE-F54A4EF1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228-0EEC-49C2-9236-93A009C6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D2B-CCEE-4CE0-A0A3-E8CCC9CD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DEB-2212-4836-B917-7EEDADC8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F1F-F97F-4106-B724-7F79B66C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00D-ECCE-442E-BEA6-FBBA05BA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E73-4784-4AD8-9126-9A2397FD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D52-8806-44ED-BCCB-AE867C67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1A65-D082-4BFA-9FD5-967D1DE8D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ЕННОСТИ ПСИХОЛОГО-ПЕДАГОГИЧЕСКОГО СОПРОВОЖДЕНИЯ СЕМЬИ РЕБЕНКА С ОГРАНИЧЕННЫМИ ВОЗМОЖНОСТЯМИ ЗДОРОВЬЯ В УСЛОВИЯХ КОРРЕКЦИОННО-ОБРАЗОВАТЕЛЬНОГО УЧРЕЖДЕН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ИД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86900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Е.С.Наумо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Государственное бюджетное специальное (коррекционное) образовательное учреждение для обучающихся, воспитанников с ограниченными возможностями здоровья специальной (коррекционной) общеобразовательной школы (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-вида) № 4 Василеостровского район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Санкт- Петербург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Эмблема1"/>
          <p:cNvPicPr/>
          <p:nvPr/>
        </p:nvPicPr>
        <p:blipFill>
          <a:blip r:embed="rId1"/>
          <a:stretch/>
        </p:blipFill>
        <p:spPr>
          <a:xfrm>
            <a:off x="179280" y="0"/>
            <a:ext cx="1470240" cy="155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Изображение 620"/>
          <p:cNvPicPr/>
          <p:nvPr/>
        </p:nvPicPr>
        <p:blipFill>
          <a:blip r:embed="rId2"/>
          <a:stretch/>
        </p:blipFill>
        <p:spPr>
          <a:xfrm>
            <a:off x="6016680" y="92160"/>
            <a:ext cx="291924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39720" y="3240"/>
            <a:ext cx="79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нинг по гармонизации детско-родитель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ношений «Дружная семей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79280" y="1078560"/>
            <a:ext cx="35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армонизация взаимоотношений «родитель—ребенок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ктуализация позитивного эмоционального опыта; осознание семейных ролей и отношений; увеличение взаимной открытости; развитие способности конструктивного взаимодействия; снятие психоэмоционального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:\DCIM\100MEDIA\IMAG0968.jpg"/>
          <p:cNvPicPr/>
          <p:nvPr/>
        </p:nvPicPr>
        <p:blipFill>
          <a:blip r:embed="rId1"/>
          <a:stretch/>
        </p:blipFill>
        <p:spPr>
          <a:xfrm>
            <a:off x="3376440" y="950760"/>
            <a:ext cx="4127760" cy="2829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:\DCIM\100MEDIA\IMAG0972.jpg"/>
          <p:cNvPicPr/>
          <p:nvPr/>
        </p:nvPicPr>
        <p:blipFill>
          <a:blip r:embed="rId2"/>
          <a:stretch/>
        </p:blipFill>
        <p:spPr>
          <a:xfrm>
            <a:off x="6181560" y="3041640"/>
            <a:ext cx="25909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923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14-1"/>
          <p:cNvPicPr/>
          <p:nvPr/>
        </p:nvPicPr>
        <p:blipFill>
          <a:blip r:embed="rId1"/>
          <a:stretch/>
        </p:blipFill>
        <p:spPr>
          <a:xfrm>
            <a:off x="539640" y="333360"/>
            <a:ext cx="3275280" cy="218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6-1"/>
          <p:cNvPicPr/>
          <p:nvPr/>
        </p:nvPicPr>
        <p:blipFill>
          <a:blip r:embed="rId2"/>
          <a:stretch/>
        </p:blipFill>
        <p:spPr>
          <a:xfrm>
            <a:off x="5364000" y="4221000"/>
            <a:ext cx="321012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влияющие на воспитательный потенциал семьи ребенка с ОВЗ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11970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графиче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руктура семь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иально-культур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разовательный и культурный уровень роди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экономиче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мущественные характеристики и занятость родителей на рабо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о-гигиениче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ловий проживания, оборудованность жилища, особенности образа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В.Мудр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484280"/>
            <a:ext cx="4316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язанные с психоэмоциональным состоянием родител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с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ины и стес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истенциальный кризи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нравственные (отношение общества и государств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экономическ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1"/>
          <p:cNvGrpSpPr/>
          <p:nvPr/>
        </p:nvGrpSpPr>
        <p:grpSpPr>
          <a:xfrm>
            <a:off x="755640" y="189000"/>
            <a:ext cx="7550280" cy="5761080"/>
            <a:chOff x="755640" y="189000"/>
            <a:chExt cx="7550280" cy="5761080"/>
          </a:xfrm>
        </p:grpSpPr>
        <p:sp>
          <p:nvSpPr>
            <p:cNvPr id="49" name="Rectangle 32"/>
            <p:cNvSpPr/>
            <p:nvPr/>
          </p:nvSpPr>
          <p:spPr>
            <a:xfrm>
              <a:off x="7552800" y="189000"/>
              <a:ext cx="753120" cy="57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33"/>
            <p:cNvGrpSpPr/>
            <p:nvPr/>
          </p:nvGrpSpPr>
          <p:grpSpPr>
            <a:xfrm>
              <a:off x="755640" y="550800"/>
              <a:ext cx="6779160" cy="5394240"/>
              <a:chOff x="755640" y="550800"/>
              <a:chExt cx="6779160" cy="5394240"/>
            </a:xfrm>
          </p:grpSpPr>
          <p:sp>
            <p:nvSpPr>
              <p:cNvPr id="51" name="Line 34"/>
              <p:cNvSpPr/>
              <p:nvPr/>
            </p:nvSpPr>
            <p:spPr>
              <a:xfrm>
                <a:off x="4371120" y="3816000"/>
                <a:ext cx="3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35"/>
              <p:cNvSpPr/>
              <p:nvPr/>
            </p:nvSpPr>
            <p:spPr>
              <a:xfrm flipV="1">
                <a:off x="4389120" y="1709640"/>
                <a:ext cx="300960" cy="21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36"/>
              <p:cNvSpPr/>
              <p:nvPr/>
            </p:nvSpPr>
            <p:spPr>
              <a:xfrm flipV="1">
                <a:off x="4389120" y="2532240"/>
                <a:ext cx="300960" cy="119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37"/>
              <p:cNvSpPr/>
              <p:nvPr/>
            </p:nvSpPr>
            <p:spPr>
              <a:xfrm flipV="1">
                <a:off x="4389120" y="1513800"/>
                <a:ext cx="300960" cy="87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38"/>
              <p:cNvSpPr/>
              <p:nvPr/>
            </p:nvSpPr>
            <p:spPr>
              <a:xfrm>
                <a:off x="4371120" y="2471400"/>
                <a:ext cx="282960" cy="129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39"/>
              <p:cNvSpPr/>
              <p:nvPr/>
            </p:nvSpPr>
            <p:spPr>
              <a:xfrm flipV="1">
                <a:off x="4353120" y="855360"/>
                <a:ext cx="30096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40"/>
              <p:cNvSpPr/>
              <p:nvPr/>
            </p:nvSpPr>
            <p:spPr>
              <a:xfrm flipV="1">
                <a:off x="1508760" y="1238400"/>
                <a:ext cx="452160" cy="12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41"/>
              <p:cNvSpPr/>
              <p:nvPr/>
            </p:nvSpPr>
            <p:spPr>
              <a:xfrm flipV="1">
                <a:off x="1508760" y="2388960"/>
                <a:ext cx="45216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2"/>
              <p:cNvSpPr/>
              <p:nvPr/>
            </p:nvSpPr>
            <p:spPr>
              <a:xfrm>
                <a:off x="1508760" y="2471400"/>
                <a:ext cx="452160" cy="12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3"/>
              <p:cNvSpPr/>
              <p:nvPr/>
            </p:nvSpPr>
            <p:spPr>
              <a:xfrm>
                <a:off x="1441080" y="2532240"/>
                <a:ext cx="519480" cy="240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44"/>
              <p:cNvSpPr/>
              <p:nvPr/>
            </p:nvSpPr>
            <p:spPr>
              <a:xfrm>
                <a:off x="4389120" y="4878720"/>
                <a:ext cx="30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Group 45"/>
              <p:cNvGrpSpPr/>
              <p:nvPr/>
            </p:nvGrpSpPr>
            <p:grpSpPr>
              <a:xfrm>
                <a:off x="7083360" y="621360"/>
                <a:ext cx="451440" cy="4023360"/>
                <a:chOff x="7083360" y="621360"/>
                <a:chExt cx="451440" cy="4023360"/>
              </a:xfrm>
            </p:grpSpPr>
            <p:sp>
              <p:nvSpPr>
                <p:cNvPr id="63" name="Line 46"/>
                <p:cNvSpPr/>
                <p:nvPr/>
              </p:nvSpPr>
              <p:spPr>
                <a:xfrm flipH="1" flipV="1">
                  <a:off x="7083360" y="1752840"/>
                  <a:ext cx="451440" cy="71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47"/>
                <p:cNvGrpSpPr/>
                <p:nvPr/>
              </p:nvGrpSpPr>
              <p:grpSpPr>
                <a:xfrm>
                  <a:off x="7083360" y="621360"/>
                  <a:ext cx="451440" cy="4023360"/>
                  <a:chOff x="7083360" y="621360"/>
                  <a:chExt cx="451440" cy="4023360"/>
                </a:xfrm>
              </p:grpSpPr>
              <p:sp>
                <p:nvSpPr>
                  <p:cNvPr id="65" name="Line 48"/>
                  <p:cNvSpPr/>
                  <p:nvPr/>
                </p:nvSpPr>
                <p:spPr>
                  <a:xfrm flipH="1">
                    <a:off x="7083360" y="2537280"/>
                    <a:ext cx="451440" cy="114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49"/>
                  <p:cNvSpPr/>
                  <p:nvPr/>
                </p:nvSpPr>
                <p:spPr>
                  <a:xfrm flipH="1">
                    <a:off x="7083360" y="2537280"/>
                    <a:ext cx="451440" cy="2107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Line 50"/>
                  <p:cNvSpPr/>
                  <p:nvPr/>
                </p:nvSpPr>
                <p:spPr>
                  <a:xfrm flipH="1" flipV="1">
                    <a:off x="7083360" y="621360"/>
                    <a:ext cx="451440" cy="191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Line 51"/>
                  <p:cNvSpPr/>
                  <p:nvPr/>
                </p:nvSpPr>
                <p:spPr>
                  <a:xfrm flipH="1">
                    <a:off x="7083360" y="2537280"/>
                    <a:ext cx="45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" name="Rectangle 52"/>
              <p:cNvSpPr/>
              <p:nvPr/>
            </p:nvSpPr>
            <p:spPr>
              <a:xfrm>
                <a:off x="4672080" y="1508400"/>
                <a:ext cx="241092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ипоопе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53"/>
              <p:cNvSpPr/>
              <p:nvPr/>
            </p:nvSpPr>
            <p:spPr>
              <a:xfrm>
                <a:off x="4672080" y="550800"/>
                <a:ext cx="241092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оциально желательный стил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54"/>
              <p:cNvSpPr/>
              <p:nvPr/>
            </p:nvSpPr>
            <p:spPr>
              <a:xfrm>
                <a:off x="1960920" y="2143800"/>
                <a:ext cx="241020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Завышение возможностей ребен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55"/>
              <p:cNvSpPr/>
              <p:nvPr/>
            </p:nvSpPr>
            <p:spPr>
              <a:xfrm>
                <a:off x="1960920" y="760320"/>
                <a:ext cx="241020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Естественное восприятие ребен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56"/>
              <p:cNvSpPr/>
              <p:nvPr/>
            </p:nvSpPr>
            <p:spPr>
              <a:xfrm>
                <a:off x="4646160" y="2394720"/>
                <a:ext cx="241092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Авторитарна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иперсоциализац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57"/>
              <p:cNvSpPr/>
              <p:nvPr/>
            </p:nvSpPr>
            <p:spPr>
              <a:xfrm>
                <a:off x="4672080" y="3485160"/>
                <a:ext cx="241092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епоследовательны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тиль повед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58"/>
              <p:cNvSpPr/>
              <p:nvPr/>
            </p:nvSpPr>
            <p:spPr>
              <a:xfrm>
                <a:off x="1960920" y="3485160"/>
                <a:ext cx="241020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Эмоциональное отвержение ребен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59"/>
              <p:cNvSpPr/>
              <p:nvPr/>
            </p:nvSpPr>
            <p:spPr>
              <a:xfrm>
                <a:off x="4672080" y="4633920"/>
                <a:ext cx="241092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иперопе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0"/>
              <p:cNvSpPr/>
              <p:nvPr/>
            </p:nvSpPr>
            <p:spPr>
              <a:xfrm>
                <a:off x="1960920" y="4633920"/>
                <a:ext cx="2410200" cy="77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Инфантилизация ребен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61"/>
              <p:cNvSpPr/>
              <p:nvPr/>
            </p:nvSpPr>
            <p:spPr>
              <a:xfrm>
                <a:off x="755640" y="643320"/>
                <a:ext cx="753120" cy="5301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Line 62"/>
          <p:cNvSpPr/>
          <p:nvPr/>
        </p:nvSpPr>
        <p:spPr>
          <a:xfrm>
            <a:off x="4356000" y="249228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6"/>
          <p:cNvSpPr/>
          <p:nvPr/>
        </p:nvSpPr>
        <p:spPr>
          <a:xfrm>
            <a:off x="2971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855720" y="6166080"/>
            <a:ext cx="74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 Структурная схема типов семейного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родителей к взаимодействию со своим  ребенком представляет собой совокупность трех компонентов: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4000" y="1413000"/>
          <a:ext cx="8569080" cy="5113080"/>
        </p:xfrm>
        <a:graphic>
          <a:graphicData uri="http://schemas.openxmlformats.org/drawingml/2006/table">
            <a:tbl>
              <a:tblPr/>
              <a:tblGrid>
                <a:gridCol w="2625480"/>
                <a:gridCol w="3013200"/>
                <a:gridCol w="2930400"/>
              </a:tblGrid>
              <a:tr h="496800">
                <a:tc gridSpan="3">
                  <a:txBody>
                    <a:bodyPr lIns="67320" rIns="6732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уктурные компонент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67320" rIns="6732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нитив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ональ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3720">
                <a:tc>
                  <a:txBody>
                    <a:bodyPr lIns="67320" rIns="67320" tIns="936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ние  особенностей развития ребенка  с интеллектуальным нарушение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мание специфики средств и методов, применяемых в работе с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имеющегося у него наруш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936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родителями ребенка таким, какой он е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важение индивидуальности ребен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добрение интересов и планов ребен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брожелательное и дружелюбное, внимательное и ласковое отношение к ребенк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936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ор родителями способов психолого-педагогического взаимодействия с ребенком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вык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ятельность родителя по уходу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альному обеспечению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анию и обучению ребен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50920" y="907920"/>
          <a:ext cx="8712000" cy="5805720"/>
        </p:xfrm>
        <a:graphic>
          <a:graphicData uri="http://schemas.openxmlformats.org/drawingml/2006/table">
            <a:tbl>
              <a:tblPr/>
              <a:tblGrid>
                <a:gridCol w="2421000"/>
                <a:gridCol w="3087360"/>
                <a:gridCol w="3203640"/>
              </a:tblGrid>
              <a:tr h="549360">
                <a:tc gridSpan="3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уктурные компон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нитив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оциона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736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анкета «Определение воспитательских умений у родителей детей с отклонениями в развитии» B. B. Ткачевой  (шкала 2 «Рациональное понимание — непонимание проблем ребенка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наблю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тестовая диагностика опросник родительского отношения О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.Я. Варга, В.В. Стол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 анкета «Определение воспитательских умений у родителей детей с отклонениями в развитии» B. B. Ткачевой (шкала1 ««Эмоциональное принятие — отвержение ребен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наблю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анкета «Определение воспитательских умений у родителей детей с отклонениями в развитии» B. B. Ткачевой  (шкала 3 «Адекватные — неадекватные формы взаимодействия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наблю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"/>
          <p:cNvSpPr/>
          <p:nvPr/>
        </p:nvSpPr>
        <p:spPr>
          <a:xfrm>
            <a:off x="395280" y="21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ки для изучения структурных компон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товности к  взаимодействию со своим 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89156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водилось в период с декабря 2010 по  март 2011 го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47640" y="1413000"/>
          <a:ext cx="7274160" cy="1682640"/>
        </p:xfrm>
        <a:graphic>
          <a:graphicData uri="http://schemas.openxmlformats.org/drawingml/2006/table">
            <a:tbl>
              <a:tblPr/>
              <a:tblGrid>
                <a:gridCol w="2424240"/>
                <a:gridCol w="2424240"/>
                <a:gridCol w="2425680"/>
              </a:tblGrid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ьная группа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ьная группа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– 54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9" name="Диаграмма 4" descr=""/>
          <p:cNvPicPr/>
          <p:nvPr/>
        </p:nvPicPr>
        <p:blipFill>
          <a:blip r:embed="rId1"/>
          <a:stretch/>
        </p:blipFill>
        <p:spPr>
          <a:xfrm>
            <a:off x="1616040" y="3279600"/>
            <a:ext cx="7210440" cy="3322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556000" y="9079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обследуемых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56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ый анализ распределения по уровням готовности родителей к взаимодействию со своими детьми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Диаграмма 1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611280" y="1268280"/>
            <a:ext cx="82818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24000" y="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работке комплексной помощи мы опиралась на принципы, разработанные В.В.Ткачёво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39640" y="162864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а сотрудничества между родителями и специалист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а ведущей деяте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а гуманного и деликатного отношения к членам семьи и к самому ребён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а конфиденциальности и профессиональной э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та психологических особенностей родителей, воспитывающих детей с ОВЗ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1403280" y="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рганизации работ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9280" y="765000"/>
            <a:ext cx="39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виду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-рекомендате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занятия с ребёнком и родит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67280" y="549360"/>
            <a:ext cx="41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ов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онно-просветительск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занятия для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углые стол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чтения и конферен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рупповые зан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й кл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Family\Pictures\школа\род.собр. в нач школе 20марта2012\DSC09259.jpg"/>
          <p:cNvPicPr/>
          <p:nvPr/>
        </p:nvPicPr>
        <p:blipFill>
          <a:blip r:embed="rId1"/>
          <a:stretch/>
        </p:blipFill>
        <p:spPr>
          <a:xfrm>
            <a:off x="60480" y="3114720"/>
            <a:ext cx="4749480" cy="3614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Family\Pictures\школа\род.собр. в нач школе 20марта2012\DSC09260.jpg"/>
          <p:cNvPicPr/>
          <p:nvPr/>
        </p:nvPicPr>
        <p:blipFill>
          <a:blip r:embed="rId2"/>
          <a:stretch/>
        </p:blipFill>
        <p:spPr>
          <a:xfrm>
            <a:off x="4529160" y="4552920"/>
            <a:ext cx="28224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5:15:27Z</dcterms:created>
  <dc:creator>Family</dc:creator>
  <dc:description/>
  <dc:language>en-US</dc:language>
  <cp:lastModifiedBy>Family</cp:lastModifiedBy>
  <dcterms:modified xsi:type="dcterms:W3CDTF">2013-02-25T16:26:43Z</dcterms:modified>
  <cp:revision>33</cp:revision>
  <dc:subject/>
  <dc:title>ОСОБЕННОСТИ ПСИХОЛОГО-ПЕДАГОГИЧЕСКОГО СОПРОВОЖДЕНИЯ СЕМЬИ РЕБЕНКА С ОГРАНИЧЕННЫМИ ВОЗМОЖНОСТЯМИ ЗДОРОВЬЯ В УСЛОВИЯХ КОРРЕКЦИОННО-ОБРАЗОВАТЕЛЬНОГО УЧРЕЖДЕНИЯ VIII ВИДА</dc:title>
</cp:coreProperties>
</file>