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1AD0-4940-4486-AED5-2C970A99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D995-2EC8-4457-8774-45983050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5F04-C2F4-477C-9375-3B7B75AA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BD6A-29AE-4E97-8D57-A55917AD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17BD-660B-483F-97A6-77B56CDC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6CDD-CA52-4790-94EB-E67905E5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314F-B5D4-41ED-A558-EBE421E3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00AD-9BAE-47BA-8ADB-2013F947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C4C6-20BF-496B-B039-B71DCBC3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6E25-C9C5-4CC6-BBF0-6A6F32C9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5CD6-5A30-44DA-B0C3-6E70BEAA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D3BF-7C83-4856-9EAF-47AF37EF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69A5-2BE0-4018-BFDD-C47C434AD83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ланета друзей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ли и задачи классного час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Определить правила жизнедеятельности в классном коллективе и коллективе вообщ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Развивать коммуникативные возможности  обучающихся, умения правильного общения в общест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авила техники общения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Излучайте положительные эмо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Улыбайтесь человеку и старайтесь это делать искренней улыбк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Демонстрируйте внимание и интерес к человеку как к лич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Называйте его по имени и так, как он хочет с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Нужно уметь слушать и уметь распределять инициативу в разгово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Говорите комплимен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Поддерживайте темы разговора, которые предложил ваш собеседни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Законы классного коллектив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Закон Прав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вда нужна не только тебе. Но и окружающим. Будь правди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Закон Доб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удь добр к ближнему, и добро вернётся к теб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Закон З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жде чем требовать внимания к себе, прояви его к окружающ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Закон Ува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чешь. Чтобы тебя уважали, уважай друг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Закон Смел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Закон Че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мни о своей духовной силе, долге, достоинст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 Закон Милосерд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бе сегодня хорошо, а другим, может быть, плохо- не забывай о них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09:51:06Z</dcterms:created>
  <dc:creator>user</dc:creator>
  <dc:description/>
  <dc:language>en-US</dc:language>
  <cp:lastModifiedBy>Красулина</cp:lastModifiedBy>
  <dcterms:modified xsi:type="dcterms:W3CDTF">2013-02-10T04:51:29Z</dcterms:modified>
  <cp:revision>14</cp:revision>
  <dc:subject/>
  <dc:title>Планета друзей</dc:title>
</cp:coreProperties>
</file>