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8A6-99AC-411B-BA26-B362961F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956-937C-42F1-9B0D-BC0B8408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42A-65F6-46CB-A15A-B090C9BE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A2A-03A0-49E7-8236-58FB8DA3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9C0-2680-442D-B502-A05196C8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F35-CB11-4E90-BFA2-907F183A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B6A-11F5-4A3C-8D63-BA8F59FD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F68-03D4-4645-85CA-C83CE6F2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84E-8CE4-4D36-B8D8-26ECCE94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759-D4D0-479B-9BDD-FDEF440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C88-7EC7-4DFA-83AC-D23897F6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5CE-51B8-4481-A392-D39C59E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B590-E420-4053-91B9-50289834FF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нета друз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и и задачи классного ча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Определить правила жизнедеятельности в классном коллективе и коллективе вообщ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Развивать коммуникативные возможности  обучающихся, умения правильного общения в обще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авила техники общения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Излучайте положительные эмо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Улыбайтесь человеку и старайтесь это делать искренней улыб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Демонстрируйте внимание и интерес к человеку как к ли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Называйте его по имени и так, как он хочет 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Нужно уметь слушать и уметь распределять инициативу в разгов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Говорите компли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Поддерживайте темы разговора, которые предложил ваш собесед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коны классного коллектив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Закон Прав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да нужна не только тебе. Но и окружающим. Будь правди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Закон Доб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ь добр к ближнему, и добро вернётся к те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Закон З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жде чем требовать внимания к себе, прояви его к окружающ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Закон Ува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чешь. Чтобы тебя уважали, уважай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Закон Смел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Закон Че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ни о своей духовной силе, долге, достоин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Закон Милосерд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бе сегодня хорошо, а другим, может быть, плохо- не забывай о них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09:51:06Z</dcterms:created>
  <dc:creator>user</dc:creator>
  <dc:description/>
  <dc:language>en-US</dc:language>
  <cp:lastModifiedBy>Красулина</cp:lastModifiedBy>
  <dcterms:modified xsi:type="dcterms:W3CDTF">2013-02-10T04:51:29Z</dcterms:modified>
  <cp:revision>14</cp:revision>
  <dc:subject/>
  <dc:title>Планета друзей</dc:title>
</cp:coreProperties>
</file>