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EED0-AC7A-4556-8010-D22063BD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DCE1-ED53-43B2-B864-945E6B2F3F9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2E7A-0F1A-4E82-B7B2-415D230DC55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2FF8-23A8-494F-8A6A-9438A48389C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D881-4B30-4113-B905-BC5492E532B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DFD7-7828-4415-9EFE-1962A2054EB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4797-B3A4-40E4-B639-6E5F3AB832A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96B8-E795-448A-B354-D66A5C4ABF2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EE6-6259-43FE-BEC6-21E4722EEE3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083-4AE6-412D-ACB7-6716A784996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Users\Олег\Desktop\Рисунок1.png"/>
          <p:cNvPicPr/>
          <p:nvPr/>
        </p:nvPicPr>
        <p:blipFill>
          <a:blip r:embed="rId1"/>
          <a:stretch/>
        </p:blipFill>
        <p:spPr>
          <a:xfrm>
            <a:off x="611280" y="4292640"/>
            <a:ext cx="1966680" cy="215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Users\Олег\Desktop\Рисунок1sw.png"/>
          <p:cNvPicPr/>
          <p:nvPr/>
        </p:nvPicPr>
        <p:blipFill>
          <a:blip r:embed="rId2"/>
          <a:stretch/>
        </p:blipFill>
        <p:spPr>
          <a:xfrm>
            <a:off x="-181080" y="-136440"/>
            <a:ext cx="11811240" cy="8858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6985080" cy="1522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1ff"/>
                </a:solidFill>
                <a:latin typeface="Bookman Old Style"/>
                <a:ea typeface="Calibri"/>
              </a:rPr>
              <a:t>Человек и информация</a:t>
            </a:r>
            <a:endParaRPr b="0" lang="en-US" sz="7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32000" y="5348160"/>
            <a:ext cx="5367600" cy="541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Подготовила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1ff"/>
                </a:solidFill>
                <a:latin typeface="Bookman Old Style"/>
                <a:ea typeface="Calibri"/>
              </a:rPr>
              <a:t>учитель информатики и ИКТ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Лидонова Т.В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609480" y="1413000"/>
            <a:ext cx="7634520" cy="479556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Что такое умозаключение?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1ff"/>
                </a:solidFill>
                <a:latin typeface="Bookman Old Style"/>
              </a:rPr>
              <a:t>Постройте правильные умозаключения</a:t>
            </a:r>
            <a:endParaRPr b="0" lang="en-US" sz="3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268280"/>
            <a:ext cx="85694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Все имена существительные изменяются по паде­жам и числам. Слово «урок» - имя существитель­ное. Следовательно,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488520" indent="-48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488520" indent="-48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2) Все ученики, которые учатся в первую смену, при­ходят в школу в 8 часов. Сережа учится в первую смену. Когда приходит в школу Сережа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488520" indent="-48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1ff"/>
                </a:solidFill>
                <a:latin typeface="Bookman Old Style"/>
              </a:rPr>
              <a:t>Постройте правильные умозаключения</a:t>
            </a:r>
            <a:endParaRPr b="0" lang="en-US" sz="3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77300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3) Названия городов - имена собственные. Имена собственные пишутся с большой буквы. Значит, ... 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4) Если числитель дроби меньше знаменателя, то дробь правильная. У дроби 3/8 числитель меньше знаменателя. Следовательно,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1ff"/>
                </a:solidFill>
                <a:latin typeface="Bookman Old Style"/>
              </a:rPr>
              <a:t>Постройте правильные умозаключения</a:t>
            </a:r>
            <a:endParaRPr b="0" lang="en-US" sz="3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77300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5) Все растения на свету поглощают углекислый газ. Тополь - растение. Следовательно,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6) Если ни один слон не может летать, и все птицы летают, то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195640" y="404640"/>
            <a:ext cx="611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1ff"/>
                </a:solidFill>
                <a:latin typeface="Calibri"/>
                <a:ea typeface="Calibri"/>
              </a:rPr>
              <a:t>Заголовок слайда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955880" y="1773360"/>
            <a:ext cx="6769080" cy="388764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екст слайд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09480" y="701640"/>
            <a:ext cx="611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Заполните пробелы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609480" y="2320920"/>
            <a:ext cx="7634520" cy="388764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Информация для человека     –    это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______________________  ,  которые он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получает  из различных источников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09480" y="701640"/>
            <a:ext cx="611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Заполните пробелы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609480" y="2320920"/>
            <a:ext cx="7634520" cy="388764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Сообщение, полученное человеком,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может пополнить его знания, если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содержащиеся в нем сведения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являются для человека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___________________ и __________________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24000" y="95400"/>
            <a:ext cx="6913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1ff"/>
                </a:solidFill>
                <a:latin typeface="Bookman Old Style"/>
              </a:rPr>
              <a:t>Определите являются ли для вас информативными следующие сообщения. Свой ответ пояснит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79280" y="2320920"/>
            <a:ext cx="8785440" cy="434808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а) «Сколько в слове гласных звуков, столько в слове и слогов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б) «Одной из основных операций, производимых над массивами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являются операции сортировки или упорядочивания элементо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массива по какому-либо  признаку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в) «Первый персональный компьютер фирмы IBM появился в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1981 году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г) «Квадрат гипотенузы равен сумме квадратов катетов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д) «Если сумма цифр числа делится на три, то и само  число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делится на три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е) «Компьютерный вирус – это специально  написанная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небольшая программа, которая может записывать  свои копии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в компьютерные программы,  причем эти копии сохраняют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возможность к  «размножению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4"/>
          <p:cNvSpPr/>
          <p:nvPr/>
        </p:nvSpPr>
        <p:spPr>
          <a:xfrm>
            <a:off x="609480" y="1413000"/>
            <a:ext cx="7634520" cy="479556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Вспомните, пожалуйста, что такое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понятие.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Что отражается в понятии?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Основными логическими приемами формирования понятий являются: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анализ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синтез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сравнение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абстрагирование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обобщение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197000"/>
            <a:ext cx="67579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Анализ </a:t>
            </a:r>
            <a:r>
              <a:rPr b="0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– мысленное разделение объекта на составные части или выделение признаков объекта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1763640" y="4221000"/>
            <a:ext cx="69724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Синтез </a:t>
            </a: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– мысленное соединение в единое целое частей объекта или его признаков, полученных в процессе анализа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Picture 9" descr="3231"/>
          <p:cNvPicPr/>
          <p:nvPr/>
        </p:nvPicPr>
        <p:blipFill>
          <a:blip r:embed="rId1"/>
          <a:stretch/>
        </p:blipFill>
        <p:spPr>
          <a:xfrm>
            <a:off x="5867280" y="213372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yramid11"/>
          <p:cNvPicPr/>
          <p:nvPr/>
        </p:nvPicPr>
        <p:blipFill>
          <a:blip r:embed="rId2"/>
          <a:stretch/>
        </p:blipFill>
        <p:spPr>
          <a:xfrm>
            <a:off x="228600" y="443700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pyramid05"/>
          <p:cNvPicPr/>
          <p:nvPr/>
        </p:nvPicPr>
        <p:blipFill>
          <a:blip r:embed="rId3"/>
          <a:stretch/>
        </p:blipFill>
        <p:spPr>
          <a:xfrm>
            <a:off x="1187280" y="4365720"/>
            <a:ext cx="67644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yramid02"/>
          <p:cNvPicPr/>
          <p:nvPr/>
        </p:nvPicPr>
        <p:blipFill>
          <a:blip r:embed="rId4"/>
          <a:stretch/>
        </p:blipFill>
        <p:spPr>
          <a:xfrm>
            <a:off x="826920" y="3510000"/>
            <a:ext cx="50508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"/>
          <p:cNvPicPr/>
          <p:nvPr/>
        </p:nvPicPr>
        <p:blipFill>
          <a:blip r:embed="rId5"/>
          <a:stretch/>
        </p:blipFill>
        <p:spPr>
          <a:xfrm>
            <a:off x="7308720" y="1046160"/>
            <a:ext cx="15843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571680"/>
            <a:ext cx="57243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Сравнение </a:t>
            </a:r>
            <a:r>
              <a:rPr b="0" lang="ru-RU" sz="2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– мысленное установление сходства или различия объектов по существенным или несущественным признакам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1547640" y="4857840"/>
            <a:ext cx="51674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Обобщение – </a:t>
            </a: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мысленное объединение однородных объектов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143240" y="2365200"/>
            <a:ext cx="5000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Абстрагирование – </a:t>
            </a: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мысленное выделение одних признаков объекта и отвлечение от других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9" descr="C:\Users\Юля\Desktop\Безымянный.jpg"/>
          <p:cNvPicPr/>
          <p:nvPr/>
        </p:nvPicPr>
        <p:blipFill>
          <a:blip r:embed="rId1"/>
          <a:stretch/>
        </p:blipFill>
        <p:spPr>
          <a:xfrm>
            <a:off x="5364000" y="765000"/>
            <a:ext cx="3000600" cy="17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:\Users\Юля\Desktop\Безымянный.jpg"/>
          <p:cNvPicPr/>
          <p:nvPr/>
        </p:nvPicPr>
        <p:blipFill>
          <a:blip r:embed="rId2"/>
          <a:stretch/>
        </p:blipFill>
        <p:spPr>
          <a:xfrm>
            <a:off x="909720" y="2760840"/>
            <a:ext cx="3085920" cy="167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:\Users\Юля\Desktop\Безымянный.jpg"/>
          <p:cNvPicPr/>
          <p:nvPr/>
        </p:nvPicPr>
        <p:blipFill>
          <a:blip r:embed="rId3"/>
          <a:stretch/>
        </p:blipFill>
        <p:spPr>
          <a:xfrm>
            <a:off x="114480" y="4869000"/>
            <a:ext cx="1590480" cy="1695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C:\Users\Юля\Desktop\Безымянный.jpg"/>
          <p:cNvPicPr/>
          <p:nvPr/>
        </p:nvPicPr>
        <p:blipFill>
          <a:blip r:embed="rId4"/>
          <a:stretch/>
        </p:blipFill>
        <p:spPr>
          <a:xfrm>
            <a:off x="6948360" y="4848120"/>
            <a:ext cx="1590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609480" y="1413000"/>
            <a:ext cx="7634520" cy="479556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Что такое суждение?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Перечислите виды простых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суждений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06:03:45Z</dcterms:created>
  <dc:creator>Олег</dc:creator>
  <dc:description/>
  <dc:language>en-US</dc:language>
  <cp:lastModifiedBy>Татьяна Лидонова</cp:lastModifiedBy>
  <dcterms:modified xsi:type="dcterms:W3CDTF">2013-02-02T16:04:48Z</dcterms:modified>
  <cp:revision>5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6618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