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14.gif" ContentType="image/gif"/>
  <Override PartName="/ppt/media/image3.gif" ContentType="image/gif"/>
  <Override PartName="/ppt/media/image26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FA5-BA2D-41C6-83A4-43967F86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9EB-C41F-48DD-963B-5679B5DC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3DB-14A5-4DA6-91D2-B38BF0BB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97E-7153-4F5B-AE9F-49F60053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22E-1524-4FE9-9881-72147433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6F0-EA9E-459F-A04C-8266AF30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126-6A9A-4FE2-AF45-D679A6B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F69-BB75-4ADB-934A-C7F87D64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615-7C1C-4C0F-9478-DEBF418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4D1A-2CDC-494F-BEF9-1225069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FBA-F3C4-4B07-BF1F-A793CEC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99B-5840-43B2-9E6D-4A40EF04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ABE2-49FA-44A7-B3D9-19294FD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7102-007E-4352-B522-14D6F9C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75E5-2AAB-48E6-8885-9A87BDB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448F-A0A6-4C0C-8AD6-ED7B04AC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768-8C21-4372-9066-B0804219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1D5-A0ED-4D9B-8AEB-0A353DA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1C0-958E-4856-8947-86B2194C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E19-92B4-49DF-994F-E04A8F6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747-B451-420C-A1E8-53E0F2E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2C8-D141-4B49-94DA-ECA8DA3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F41-23A7-4ADF-AC53-2A6E331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A66-069E-42D4-82AC-5C9F81B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41D6-67FD-4981-B235-A18C2528686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5EE2-2558-4A5D-8296-E79D31F91E7A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0731800">
            <a:off x="304560" y="914040"/>
            <a:ext cx="7924680" cy="32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0" name="Picture 6" descr="Черепашка"/>
          <p:cNvPicPr/>
          <p:nvPr/>
        </p:nvPicPr>
        <p:blipFill>
          <a:blip r:embed="rId1"/>
          <a:stretch/>
        </p:blipFill>
        <p:spPr>
          <a:xfrm>
            <a:off x="6721560" y="3429000"/>
            <a:ext cx="242244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876320" cy="43434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140" name="Picture 5" descr="11378_1"/>
          <p:cNvPicPr/>
          <p:nvPr/>
        </p:nvPicPr>
        <p:blipFill>
          <a:blip r:embed="rId2"/>
          <a:stretch/>
        </p:blipFill>
        <p:spPr>
          <a:xfrm>
            <a:off x="1066680" y="990720"/>
            <a:ext cx="3587760" cy="5181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img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457200" y="152280"/>
            <a:ext cx="2819520" cy="2438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л для себ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5943600" y="4114800"/>
            <a:ext cx="2819520" cy="243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подари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ЕНИ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304920" y="4114800"/>
            <a:ext cx="2819160" cy="243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АКТИВНО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работа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на урок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5867280" y="152280"/>
            <a:ext cx="2819520" cy="2438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На уроке было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ИНТЕРЕСНО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35240" cy="353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is160"/>
          <p:cNvPicPr/>
          <p:nvPr/>
        </p:nvPicPr>
        <p:blipFill>
          <a:blip r:embed="rId1"/>
          <a:stretch/>
        </p:blipFill>
        <p:spPr>
          <a:xfrm>
            <a:off x="5340240" y="2014560"/>
            <a:ext cx="3803760" cy="4843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0" y="0"/>
            <a:ext cx="6477120" cy="6248520"/>
          </a:xfrm>
          <a:prstGeom prst="irregularSeal2">
            <a:avLst/>
          </a:prstGeom>
          <a:solidFill>
            <a:srgbClr val="ffff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1295280" y="914400"/>
            <a:ext cx="3353040" cy="42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за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внимание!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animClr clrSpc="rgb"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set>
                                      <p:cBhvr>
                                        <p:cTn id="1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2" descr=""/>
          <p:cNvPicPr/>
          <p:nvPr/>
        </p:nvPicPr>
        <p:blipFill>
          <a:blip r:embed="rId1"/>
          <a:stretch/>
        </p:blipFill>
        <p:spPr>
          <a:xfrm>
            <a:off x="1905120" y="258840"/>
            <a:ext cx="5029200" cy="659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АСНОСТЬ ПЕРВАЯ – ГАЗ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1. Почувствовав запах газа, немедленно сообщи об этом взрослым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2. Надо сразу же открыть окна и проветрить квартиру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3. Проверить: закрыты ли ручки на газовой плите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4. Ни в коем случае не включай свет и не зажигай спички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5. Немедленно позвони по телефону 04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7" descr="16T4.gif"/>
          <p:cNvPicPr/>
          <p:nvPr/>
        </p:nvPicPr>
        <p:blipFill>
          <a:blip r:embed="rId1"/>
          <a:stretch/>
        </p:blipFill>
        <p:spPr>
          <a:xfrm>
            <a:off x="6643800" y="178596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fm_radio.gif"/>
          <p:cNvPicPr/>
          <p:nvPr/>
        </p:nvPicPr>
        <p:blipFill>
          <a:blip r:embed="rId2"/>
          <a:stretch/>
        </p:blipFill>
        <p:spPr>
          <a:xfrm>
            <a:off x="4929120" y="5357880"/>
            <a:ext cx="1652760" cy="1209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FRIDGE1.gif"/>
          <p:cNvPicPr/>
          <p:nvPr/>
        </p:nvPicPr>
        <p:blipFill>
          <a:blip r:embed="rId3"/>
          <a:stretch/>
        </p:blipFill>
        <p:spPr>
          <a:xfrm>
            <a:off x="7429680" y="5072040"/>
            <a:ext cx="857160" cy="15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15.gif"/>
          <p:cNvPicPr/>
          <p:nvPr/>
        </p:nvPicPr>
        <p:blipFill>
          <a:blip r:embed="rId4"/>
          <a:stretch/>
        </p:blipFill>
        <p:spPr>
          <a:xfrm>
            <a:off x="3500280" y="3857760"/>
            <a:ext cx="200052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8.gif"/>
          <p:cNvPicPr/>
          <p:nvPr/>
        </p:nvPicPr>
        <p:blipFill>
          <a:blip r:embed="rId5"/>
          <a:stretch/>
        </p:blipFill>
        <p:spPr>
          <a:xfrm>
            <a:off x="357120" y="5857920"/>
            <a:ext cx="1200240" cy="799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3" descr="iron_heating_up_md_wht.gif"/>
          <p:cNvPicPr/>
          <p:nvPr/>
        </p:nvPicPr>
        <p:blipFill>
          <a:blip r:embed="rId6"/>
          <a:stretch/>
        </p:blipFill>
        <p:spPr>
          <a:xfrm>
            <a:off x="0" y="4214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пылесос.jpg"/>
          <p:cNvPicPr/>
          <p:nvPr/>
        </p:nvPicPr>
        <p:blipFill>
          <a:blip r:embed="rId7"/>
          <a:stretch/>
        </p:blipFill>
        <p:spPr>
          <a:xfrm>
            <a:off x="428760" y="2000160"/>
            <a:ext cx="128268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4" descr="lampa.gif"/>
          <p:cNvPicPr/>
          <p:nvPr/>
        </p:nvPicPr>
        <p:blipFill>
          <a:blip r:embed="rId8"/>
          <a:stretch/>
        </p:blipFill>
        <p:spPr>
          <a:xfrm>
            <a:off x="214200" y="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стирал.машина2.jpg"/>
          <p:cNvPicPr/>
          <p:nvPr/>
        </p:nvPicPr>
        <p:blipFill>
          <a:blip r:embed="rId9"/>
          <a:stretch/>
        </p:blipFill>
        <p:spPr>
          <a:xfrm>
            <a:off x="1714680" y="4357800"/>
            <a:ext cx="1699920" cy="220500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3" descr="кофеварка.jpg"/>
          <p:cNvPicPr/>
          <p:nvPr/>
        </p:nvPicPr>
        <p:blipFill>
          <a:blip r:embed="rId10"/>
          <a:stretch/>
        </p:blipFill>
        <p:spPr>
          <a:xfrm>
            <a:off x="2857680" y="1928880"/>
            <a:ext cx="127944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обогреватель2.jpg"/>
          <p:cNvPicPr/>
          <p:nvPr/>
        </p:nvPicPr>
        <p:blipFill>
          <a:blip r:embed="rId11"/>
          <a:stretch/>
        </p:blipFill>
        <p:spPr>
          <a:xfrm>
            <a:off x="4929120" y="1857240"/>
            <a:ext cx="105408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16T6.gif"/>
          <p:cNvPicPr/>
          <p:nvPr/>
        </p:nvPicPr>
        <p:blipFill>
          <a:blip r:embed="rId12"/>
          <a:stretch/>
        </p:blipFill>
        <p:spPr>
          <a:xfrm>
            <a:off x="5143680" y="385776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TV3.gif"/>
          <p:cNvPicPr/>
          <p:nvPr/>
        </p:nvPicPr>
        <p:blipFill>
          <a:blip r:embed="rId13"/>
          <a:stretch/>
        </p:blipFill>
        <p:spPr>
          <a:xfrm>
            <a:off x="7429680" y="3571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9"/>
          <p:cNvSpPr/>
          <p:nvPr/>
        </p:nvSpPr>
        <p:spPr>
          <a:xfrm>
            <a:off x="2209680" y="380880"/>
            <a:ext cx="6553440" cy="1143000"/>
          </a:xfrm>
          <a:prstGeom prst="rect">
            <a:avLst/>
          </a:prstGeom>
          <a:solidFill>
            <a:srgbClr val="c2c0ba"/>
          </a:solidFill>
          <a:ln w="9360">
            <a:solidFill>
              <a:srgbClr val="c2c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ahoma"/>
              </a:rPr>
              <a:t>Электрические приборы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73080">
            <a:solidFill>
              <a:srgbClr val="800080"/>
            </a:solidFill>
            <a:miter/>
          </a:ln>
        </p:spPr>
      </p:pic>
      <p:pic>
        <p:nvPicPr>
          <p:cNvPr id="129" name="Picture 3" descr="6d591a4d068aa1260f2e47766e807baa"/>
          <p:cNvPicPr/>
          <p:nvPr/>
        </p:nvPicPr>
        <p:blipFill>
          <a:blip r:embed="rId2"/>
          <a:stretch/>
        </p:blipFill>
        <p:spPr>
          <a:xfrm>
            <a:off x="6172200" y="2171880"/>
            <a:ext cx="3124080" cy="46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АСНОСТЬ ВТОРАЯ – ЭЛЕКТРИЧЕСКИЕ ПРИБОРЫ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1. Уходя из дома, и даже из комнаты, обязательно выключай телевизор, утюг и другие электрические приборы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2. Никогда не тяни за электрический провод руками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3.Ни в коем случае не подходи к оголённым проводам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Голос-0008.wma" descr=""/>
          <p:cNvPicPr/>
          <p:nvPr/>
        </p:nvPicPr>
        <p:blipFill>
          <a:blip r:embed="rId1"/>
          <a:stretch/>
        </p:blipFill>
        <p:spPr>
          <a:xfrm>
            <a:off x="-9144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077320" cy="66294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ПАСНОСТЬ ТРЕТЬЯ –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стрые, колющие и режущие предметы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Все острые, колющие и режущие предметы обязательно надо класть на свои места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Порядок в доме не только для красоты, но и для безопасности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46483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C:\Users\Марина\Desktop\Рисунок1.jpg"/>
          <p:cNvPicPr/>
          <p:nvPr/>
        </p:nvPicPr>
        <p:blipFill>
          <a:blip r:embed="rId1"/>
          <a:stretch/>
        </p:blipFill>
        <p:spPr>
          <a:xfrm>
            <a:off x="457200" y="533520"/>
            <a:ext cx="3886200" cy="594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1378_1"/>
          <p:cNvPicPr/>
          <p:nvPr/>
        </p:nvPicPr>
        <p:blipFill>
          <a:blip r:embed="rId2"/>
          <a:stretch/>
        </p:blipFill>
        <p:spPr>
          <a:xfrm>
            <a:off x="5105520" y="609480"/>
            <a:ext cx="3798720" cy="5486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СШ№4</cp:lastModifiedBy>
  <dcterms:modified xsi:type="dcterms:W3CDTF">2013-02-25T13:14:5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