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42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0.png" ContentType="image/pn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png" ContentType="image/png"/>
  <Override PartName="/ppt/media/image41.png" ContentType="image/png"/>
  <Override PartName="/ppt/media/image53.jpeg" ContentType="image/jpeg"/>
  <Override PartName="/ppt/media/image49.jpeg" ContentType="image/jpeg"/>
  <Override PartName="/ppt/media/image5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1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png" ContentType="image/pn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313-D46C-49DA-91C6-6F544448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E30-6AED-4843-AB1E-6676E55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EC7-E955-48AA-8E63-8A9E8F9D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7E6-9CF6-4B9A-BA6D-9E6C5B60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103-04F6-4329-8AF0-8F864BF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13C-3D05-4246-B091-C31FDEF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425-C749-4748-9582-4407D493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487-1446-4A90-A5A8-9C29F8E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C98-97EE-4C36-A2A4-E468764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612-F1BD-441B-9988-F919815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09F-131F-480C-A216-5BF7CAC1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663-0405-4B69-8284-093AD62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3580-B365-41FF-A40E-02DAE83A9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mile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32720" y="33336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www.divo.ru/lukas/pushkin/Pict/pushkinSL_b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восход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Кипренский"/>
          <p:cNvPicPr/>
          <p:nvPr/>
        </p:nvPicPr>
        <p:blipFill>
          <a:blip r:embed="rId2"/>
          <a:stretch/>
        </p:blipFill>
        <p:spPr>
          <a:xfrm>
            <a:off x="5073480" y="1844640"/>
            <a:ext cx="4070520" cy="5013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16"/>
          <p:cNvSpPr txBox="1"/>
          <p:nvPr/>
        </p:nvSpPr>
        <p:spPr>
          <a:xfrm>
            <a:off x="0" y="0"/>
            <a:ext cx="5435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Солнце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русской поэзии...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0" y="3860640"/>
            <a:ext cx="50036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7" action="ppaction://hlinksldjump"/>
              </a:rPr>
              <a:t>Герб рода Пушки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Родосло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9" action="ppaction://hlinksldjump"/>
              </a:rPr>
              <a:t>«Друзья мои, прекрасен наш союз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«Учитель,  перед именем твоим 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1" action="ppaction://hlinksldjump"/>
              </a:rPr>
              <a:t>Южная ссы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Михайло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3" action="ppaction://hlinksldjump"/>
              </a:rPr>
              <a:t>Болд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«Раб наёмны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5" action="ppaction://hlinksldjump"/>
              </a:rPr>
              <a:t>Преемник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«И славен буду 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Разработка ученика 9б класса МБОУ СОШ №30 с УИПОО «Физическая куль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Демешкевич Алекс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539640" y="0"/>
            <a:ext cx="79930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Преемник Пушкина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49" name="Picture 11" descr="lermmy"/>
          <p:cNvPicPr/>
          <p:nvPr/>
        </p:nvPicPr>
        <p:blipFill>
          <a:blip r:embed="rId3"/>
          <a:stretch/>
        </p:blipFill>
        <p:spPr>
          <a:xfrm>
            <a:off x="250920" y="1125360"/>
            <a:ext cx="4711680" cy="5497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2"/>
          <p:cNvSpPr/>
          <p:nvPr/>
        </p:nvSpPr>
        <p:spPr>
          <a:xfrm>
            <a:off x="5076720" y="2205000"/>
            <a:ext cx="381636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гиб Поэт! - невольник чест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ал оклеветанный мол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С свинцом в груди и жаждой м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никнув гордой головой!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Не вынесла душа Поэ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Позора мелочных оби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Восстал он против мнений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Garamond"/>
              </a:rPr>
              <a:t>Один, как прежде, и уб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амятник Питер"/>
          <p:cNvPicPr/>
          <p:nvPr/>
        </p:nvPicPr>
        <p:blipFill>
          <a:blip r:embed="rId1"/>
          <a:stretch/>
        </p:blipFill>
        <p:spPr>
          <a:xfrm>
            <a:off x="5645160" y="1557360"/>
            <a:ext cx="3498840" cy="410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мятник в лицее"/>
          <p:cNvPicPr/>
          <p:nvPr/>
        </p:nvPicPr>
        <p:blipFill>
          <a:blip r:embed="rId2"/>
          <a:stretch/>
        </p:blipFill>
        <p:spPr>
          <a:xfrm>
            <a:off x="0" y="1700280"/>
            <a:ext cx="3097080" cy="20127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539640" y="0"/>
            <a:ext cx="799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И славен буду я, доколь в подлунном 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мире жив будет хоть один пиит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54" name="Picture 15" descr="pushkin"/>
          <p:cNvPicPr/>
          <p:nvPr/>
        </p:nvPicPr>
        <p:blipFill>
          <a:blip r:embed="rId7"/>
          <a:stretch/>
        </p:blipFill>
        <p:spPr>
          <a:xfrm>
            <a:off x="1042920" y="3141720"/>
            <a:ext cx="2702160" cy="371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pushkin"/>
          <p:cNvPicPr/>
          <p:nvPr/>
        </p:nvPicPr>
        <p:blipFill>
          <a:blip r:embed="rId8"/>
          <a:stretch/>
        </p:blipFill>
        <p:spPr>
          <a:xfrm>
            <a:off x="3492360" y="2205000"/>
            <a:ext cx="2465640" cy="33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opekush-pampush"/>
          <p:cNvPicPr/>
          <p:nvPr/>
        </p:nvPicPr>
        <p:blipFill>
          <a:blip r:embed="rId9"/>
          <a:stretch/>
        </p:blipFill>
        <p:spPr>
          <a:xfrm>
            <a:off x="5292720" y="3344760"/>
            <a:ext cx="294624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250920" y="1413000"/>
            <a:ext cx="3744720" cy="5229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erb"/>
          <p:cNvPicPr/>
          <p:nvPr/>
        </p:nvPicPr>
        <p:blipFill>
          <a:blip r:embed="rId1"/>
          <a:stretch/>
        </p:blipFill>
        <p:spPr>
          <a:xfrm>
            <a:off x="4211640" y="1557360"/>
            <a:ext cx="4680000" cy="4222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384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550800"/>
            <a:ext cx="3671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В верхней половине, в горностаевом поле на пурпуровой подушке с золотыми кистями алая бархатная княжеская шапка  напоминает о том, что выехавший в Россию из Славянской земли муж честный Радша, родоначальник Пушкиных под  знаменем Александра Невского против неверных воевал; в нижней части щита с правой стороны в голубом поле рука в латах, держащая меч,  в доказательство происхождения их из Славонии; с левой же стороны в золотом поле орел с распростертыми до половины крыльями, держащий в когтях меч и державу, был обыкновенным фамильным гербом предков Радши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324000" y="260280"/>
            <a:ext cx="84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Герб рода Пушкиных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7" descr="natali1sml"/>
          <p:cNvPicPr/>
          <p:nvPr/>
        </p:nvPicPr>
        <p:blipFill>
          <a:blip r:embed="rId1"/>
          <a:stretch/>
        </p:blipFill>
        <p:spPr>
          <a:xfrm>
            <a:off x="7093080" y="3213000"/>
            <a:ext cx="14284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Гриша П"/>
          <p:cNvPicPr/>
          <p:nvPr/>
        </p:nvPicPr>
        <p:blipFill>
          <a:blip r:embed="rId2"/>
          <a:stretch/>
        </p:blipFill>
        <p:spPr>
          <a:xfrm>
            <a:off x="4572000" y="765000"/>
            <a:ext cx="447840" cy="7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Наташа П"/>
          <p:cNvPicPr/>
          <p:nvPr/>
        </p:nvPicPr>
        <p:blipFill>
          <a:blip r:embed="rId3"/>
          <a:stretch/>
        </p:blipFill>
        <p:spPr>
          <a:xfrm>
            <a:off x="4643280" y="1628640"/>
            <a:ext cx="51300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Художник К.Гампельн. Сергей Львович Пушкин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5013360"/>
            <a:ext cx="72540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Абрам Петрович Ганнибал"/>
          <p:cNvPicPr/>
          <p:nvPr/>
        </p:nvPicPr>
        <p:blipFill>
          <a:blip r:embed="rId6"/>
          <a:stretch/>
        </p:blipFill>
        <p:spPr>
          <a:xfrm>
            <a:off x="395280" y="5805360"/>
            <a:ext cx="744480" cy="93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Художник Ксавье де Местр. Надежда Осиповна Пушкина."/>
          <p:cNvPicPr/>
          <p:nvPr/>
        </p:nvPicPr>
        <p:blipFill>
          <a:blip r:embed="rId7"/>
          <a:stretch/>
        </p:blipFill>
        <p:spPr>
          <a:xfrm>
            <a:off x="5435640" y="4797360"/>
            <a:ext cx="78408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Художник Ксавье де Местр. Пушкин-ребёнок."/>
          <p:cNvPicPr/>
          <p:nvPr/>
        </p:nvPicPr>
        <p:blipFill>
          <a:blip r:embed="rId8"/>
          <a:stretch/>
        </p:blipFill>
        <p:spPr>
          <a:xfrm>
            <a:off x="1476360" y="2492280"/>
            <a:ext cx="1757520" cy="229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Мария Алексеевна Ганнибал, бабушка Пушкина"/>
          <p:cNvPicPr/>
          <p:nvPr/>
        </p:nvPicPr>
        <p:blipFill>
          <a:blip r:embed="rId9"/>
          <a:stretch/>
        </p:blipFill>
        <p:spPr>
          <a:xfrm>
            <a:off x="7308720" y="5661000"/>
            <a:ext cx="755640" cy="96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Тропинин"/>
          <p:cNvPicPr/>
          <p:nvPr/>
        </p:nvPicPr>
        <p:blipFill>
          <a:blip r:embed="rId10"/>
          <a:stretch/>
        </p:blipFill>
        <p:spPr>
          <a:xfrm>
            <a:off x="1187280" y="2421000"/>
            <a:ext cx="202572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1"/>
          <p:cNvSpPr/>
          <p:nvPr/>
        </p:nvSpPr>
        <p:spPr>
          <a:xfrm>
            <a:off x="3255840" y="2584440"/>
            <a:ext cx="12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2"/>
          <p:cNvSpPr/>
          <p:nvPr/>
        </p:nvSpPr>
        <p:spPr>
          <a:xfrm>
            <a:off x="3564000" y="3141720"/>
            <a:ext cx="316872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Garamond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1799 -18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2" descr="Гартунг Мария Александровна"/>
          <p:cNvPicPr/>
          <p:nvPr/>
        </p:nvPicPr>
        <p:blipFill>
          <a:blip r:embed="rId11"/>
          <a:stretch/>
        </p:blipFill>
        <p:spPr>
          <a:xfrm>
            <a:off x="3564000" y="765000"/>
            <a:ext cx="566640" cy="719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8"/>
          <p:cNvSpPr/>
          <p:nvPr/>
        </p:nvSpPr>
        <p:spPr>
          <a:xfrm>
            <a:off x="1258920" y="6165720"/>
            <a:ext cx="3168720" cy="5749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Ибрагим Петрович 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1696-178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Сын князя в Северной Абиссинии, крещён в православи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Пётр Первый бал его восприемником., получил прекрасное образование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достиг высоких постов, получил орден Александра Невског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9"/>
          <p:cNvSpPr/>
          <p:nvPr/>
        </p:nvSpPr>
        <p:spPr>
          <a:xfrm>
            <a:off x="4643280" y="5805360"/>
            <a:ext cx="259272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Мария Алексеевна 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(1745-181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Ей поэт обязан первыми впечатлениями от русских сказ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у неё  учился красоте и образности русской речи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от нее он узнал русскую грамот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2268360" y="5229360"/>
            <a:ext cx="1295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Сергей Львов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Пушкин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(1770-1848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3851280" y="5229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дежда Осип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Ганнибал</a:t>
            </a:r>
            <a:r>
              <a:rPr b="1" lang="ru-RU" sz="10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(</a:t>
            </a:r>
            <a:r>
              <a:rPr b="0" lang="ru-RU" sz="800" spc="-1" strike="noStrike">
                <a:solidFill>
                  <a:srgbClr val="ff9966"/>
                </a:solidFill>
                <a:latin typeface="Garamond"/>
              </a:rPr>
              <a:t>1775-183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4"/>
          <p:cNvSpPr/>
          <p:nvPr/>
        </p:nvSpPr>
        <p:spPr>
          <a:xfrm>
            <a:off x="3924360" y="4149720"/>
            <a:ext cx="280656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талья Николаевна Гонча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«Гляделась ли ты в зеркало, и уверилась ли т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что с твоим лицом ничего сравнить нельзя на свет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66"/>
                </a:solidFill>
                <a:latin typeface="Garamond"/>
              </a:rPr>
              <a:t>А душу твою я люблю ещё более твоего лиц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5"/>
          <p:cNvSpPr/>
          <p:nvPr/>
        </p:nvSpPr>
        <p:spPr>
          <a:xfrm>
            <a:off x="179280" y="765000"/>
            <a:ext cx="309744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Мария Александровна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1 – 191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Ее отличали аристократические манеры, умение держать себ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Удивительная красота  Марии восхищала окружающих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Детей у нее не было, жила уединенно в Москве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заботясь о своих многочисленных племянниках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6"/>
          <p:cNvSpPr/>
          <p:nvPr/>
        </p:nvSpPr>
        <p:spPr>
          <a:xfrm>
            <a:off x="179280" y="1557360"/>
            <a:ext cx="3456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Александр Александрович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3 – 191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«Посмотрим, как-то наш Сашка будет ладить со своим порфирородны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тезкой; с моим тезкой я не ладил. Не дай бог  ему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идти по моим следам, писать стихи да ссориться с царями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 стихах он отца не перещеголяет, а плетью обуха не перешибет».</a:t>
            </a:r>
            <a:r>
              <a:rPr b="0" lang="ru-RU" sz="800" spc="-1" strike="noStrike">
                <a:solidFill>
                  <a:srgbClr val="ff6699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7"/>
          <p:cNvSpPr/>
          <p:nvPr/>
        </p:nvSpPr>
        <p:spPr>
          <a:xfrm>
            <a:off x="5148360" y="765000"/>
            <a:ext cx="324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Григорий Александрович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5 – 1905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 1866 году он стал владельцем Михайловского, слыл гостеприимны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хозяином, жизнерадостным, остроумным, радушным человеком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И внешностью, и характером очень напоминал отца. К столет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со дня рождения А. С. Пушкина передаёт Михайловское государству.</a:t>
            </a:r>
            <a:r>
              <a:rPr b="0" lang="ru-RU" sz="800" spc="-1" strike="noStrike">
                <a:solidFill>
                  <a:srgbClr val="ff7c80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8"/>
          <p:cNvSpPr/>
          <p:nvPr/>
        </p:nvSpPr>
        <p:spPr>
          <a:xfrm>
            <a:off x="5435640" y="1628640"/>
            <a:ext cx="309708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Garamond"/>
              </a:rPr>
              <a:t>Наталья Александровна</a:t>
            </a:r>
            <a:r>
              <a:rPr b="1" lang="ru-RU" sz="10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ru-RU" sz="900" spc="-1" strike="noStrike">
                <a:solidFill>
                  <a:srgbClr val="ff9966"/>
                </a:solidFill>
                <a:latin typeface="Garamond"/>
              </a:rPr>
              <a:t>(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1836 – 191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…</a:t>
            </a: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она очень напоминала отца, а прелестные черты матер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придавали ей особое очарование. Это была очень ярка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9966"/>
                </a:solidFill>
                <a:latin typeface="Garamond"/>
              </a:rPr>
              <a:t>волевая натура, обладавшая пылким нравом, твердым характером</a:t>
            </a:r>
            <a:r>
              <a:rPr b="0" lang="ru-RU" sz="800" spc="-1" strike="noStrike">
                <a:solidFill>
                  <a:srgbClr val="ffcc66"/>
                </a:solidFill>
                <a:latin typeface="Garamond"/>
              </a:rPr>
              <a:t>.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0"/>
          <p:cNvSpPr/>
          <p:nvPr/>
        </p:nvSpPr>
        <p:spPr>
          <a:xfrm>
            <a:off x="6732720" y="378936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1"/>
          <p:cNvSpPr/>
          <p:nvPr/>
        </p:nvSpPr>
        <p:spPr>
          <a:xfrm>
            <a:off x="3059280" y="5661000"/>
            <a:ext cx="1152360" cy="142920"/>
          </a:xfrm>
          <a:custGeom>
            <a:avLst/>
            <a:gdLst>
              <a:gd name="textAreaLeft" fmla="*/ 194040 w 1152360"/>
              <a:gd name="textAreaRight" fmla="*/ 843120 w 1152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72" hR="21600" stAng="10800000" swAng="-5400000"/>
                <a:lnTo>
                  <a:pt x="12168" y="21600"/>
                </a:lnTo>
                <a:arcTo wR="7272" hR="21600" stAng="5400000" swAng="-1952408"/>
                <a:lnTo>
                  <a:pt x="20760" y="10080"/>
                </a:lnTo>
                <a:lnTo>
                  <a:pt x="16992" y="0"/>
                </a:lnTo>
                <a:lnTo>
                  <a:pt x="11544" y="10080"/>
                </a:lnTo>
                <a:lnTo>
                  <a:pt x="13704" y="10080"/>
                </a:lnTo>
                <a:arcTo wR="7272" hR="21600" stAng="3447592" swAng="1540629"/>
                <a:lnTo>
                  <a:pt x="9720" y="20339"/>
                </a:lnTo>
                <a:arcTo wR="7272" hR="21600" stAng="5811779" swAng="4988221"/>
                <a:close/>
              </a:path>
              <a:path fill="darkenLess" w="21600" h="21600">
                <a:moveTo>
                  <a:pt x="0" y="0"/>
                </a:moveTo>
                <a:arcTo wR="7272" hR="21600" stAng="10800000" swAng="-5400000"/>
                <a:lnTo>
                  <a:pt x="12168" y="21600"/>
                </a:lnTo>
                <a:arcTo wR="7272" hR="21600" stAng="5400000" swAng="411779"/>
                <a:lnTo>
                  <a:pt x="9720" y="20339"/>
                </a:lnTo>
                <a:arcTo wR="7272" hR="21600" stAng="5811779" swAng="4988221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3"/>
          <p:cNvSpPr/>
          <p:nvPr/>
        </p:nvSpPr>
        <p:spPr>
          <a:xfrm flipH="1" flipV="1">
            <a:off x="6227640" y="5229000"/>
            <a:ext cx="1440000" cy="4316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4"/>
          <p:cNvSpPr/>
          <p:nvPr/>
        </p:nvSpPr>
        <p:spPr>
          <a:xfrm flipH="1" flipV="1">
            <a:off x="3203280" y="4797360"/>
            <a:ext cx="1081080" cy="504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5"/>
          <p:cNvSpPr/>
          <p:nvPr/>
        </p:nvSpPr>
        <p:spPr>
          <a:xfrm flipH="1" flipV="1">
            <a:off x="3203280" y="4869000"/>
            <a:ext cx="73080" cy="50472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8" descr="Саша П"/>
          <p:cNvPicPr/>
          <p:nvPr/>
        </p:nvPicPr>
        <p:blipFill>
          <a:blip r:embed="rId12"/>
          <a:stretch/>
        </p:blipFill>
        <p:spPr>
          <a:xfrm>
            <a:off x="3708360" y="1557360"/>
            <a:ext cx="60948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Line 95"/>
          <p:cNvSpPr/>
          <p:nvPr/>
        </p:nvSpPr>
        <p:spPr>
          <a:xfrm flipV="1">
            <a:off x="4427640" y="6524280"/>
            <a:ext cx="2881080" cy="14436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6"/>
          <p:cNvSpPr/>
          <p:nvPr/>
        </p:nvSpPr>
        <p:spPr>
          <a:xfrm flipV="1">
            <a:off x="3203640" y="2205000"/>
            <a:ext cx="1081080" cy="719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7"/>
          <p:cNvSpPr/>
          <p:nvPr/>
        </p:nvSpPr>
        <p:spPr>
          <a:xfrm flipH="1" flipV="1">
            <a:off x="4284720" y="2205000"/>
            <a:ext cx="3024000" cy="10080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98"/>
          <p:cNvSpPr txBox="1"/>
          <p:nvPr/>
        </p:nvSpPr>
        <p:spPr>
          <a:xfrm>
            <a:off x="826920" y="115920"/>
            <a:ext cx="7632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Родословная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4"/>
          <p:cNvSpPr/>
          <p:nvPr/>
        </p:nvSpPr>
        <p:spPr>
          <a:xfrm>
            <a:off x="395280" y="1268280"/>
            <a:ext cx="504036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Царское село"/>
          <p:cNvPicPr/>
          <p:nvPr/>
        </p:nvPicPr>
        <p:blipFill>
          <a:blip r:embed="rId1"/>
          <a:stretch/>
        </p:blipFill>
        <p:spPr>
          <a:xfrm>
            <a:off x="6084720" y="4651200"/>
            <a:ext cx="2880000" cy="195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shkin_room"/>
          <p:cNvPicPr/>
          <p:nvPr/>
        </p:nvPicPr>
        <p:blipFill>
          <a:blip r:embed="rId2"/>
          <a:stretch/>
        </p:blipFill>
        <p:spPr>
          <a:xfrm>
            <a:off x="2268360" y="2852640"/>
            <a:ext cx="1035360" cy="1513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friends10"/>
          <p:cNvPicPr/>
          <p:nvPr/>
        </p:nvPicPr>
        <p:blipFill>
          <a:blip r:embed="rId3"/>
          <a:stretch/>
        </p:blipFill>
        <p:spPr>
          <a:xfrm>
            <a:off x="395280" y="5157720"/>
            <a:ext cx="988920" cy="132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friends05"/>
          <p:cNvPicPr/>
          <p:nvPr/>
        </p:nvPicPr>
        <p:blipFill>
          <a:blip r:embed="rId4"/>
          <a:stretch/>
        </p:blipFill>
        <p:spPr>
          <a:xfrm>
            <a:off x="1547640" y="5157720"/>
            <a:ext cx="108288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kyuxelbeker_2"/>
          <p:cNvPicPr/>
          <p:nvPr/>
        </p:nvPicPr>
        <p:blipFill>
          <a:blip r:embed="rId5"/>
          <a:stretch/>
        </p:blipFill>
        <p:spPr>
          <a:xfrm>
            <a:off x="2843280" y="5157720"/>
            <a:ext cx="10270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friends13"/>
          <p:cNvPicPr/>
          <p:nvPr/>
        </p:nvPicPr>
        <p:blipFill>
          <a:blip r:embed="rId6"/>
          <a:stretch/>
        </p:blipFill>
        <p:spPr>
          <a:xfrm>
            <a:off x="3995640" y="5157720"/>
            <a:ext cx="974880" cy="12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05_15_1"/>
          <p:cNvPicPr/>
          <p:nvPr/>
        </p:nvPicPr>
        <p:blipFill>
          <a:blip r:embed="rId7"/>
          <a:stretch/>
        </p:blipFill>
        <p:spPr>
          <a:xfrm>
            <a:off x="4284720" y="285264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Художник С.Госсе.Царскосельский Лицей.1824"/>
          <p:cNvPicPr/>
          <p:nvPr/>
        </p:nvPicPr>
        <p:blipFill>
          <a:blip r:embed="rId8"/>
          <a:stretch/>
        </p:blipFill>
        <p:spPr>
          <a:xfrm>
            <a:off x="5580000" y="1127160"/>
            <a:ext cx="3456000" cy="222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2"/>
          <p:cNvSpPr/>
          <p:nvPr/>
        </p:nvSpPr>
        <p:spPr>
          <a:xfrm>
            <a:off x="324000" y="1143720"/>
            <a:ext cx="518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Garamond"/>
              </a:rPr>
              <a:t>19 октября 1811 года</a:t>
            </a:r>
            <a:r>
              <a:rPr b="1" lang="ru-RU" sz="1400" spc="-1" strike="noStrike">
                <a:solidFill>
                  <a:srgbClr val="ff6600"/>
                </a:solidFill>
                <a:latin typeface="Garamond"/>
              </a:rPr>
              <a:t> состоялось открытие Царскосельского Лицея, куда юноша Пушкин был зачислен вместе с другими 30-ю дворянскими "недорослями". Именно здесь и развился его характер, любящий, пылкий, независимый. Здесь он жил и учился, вместе с друзьями увлекался литературными занятиями - выпускал рукописные журналы, начал сочинять и печатать свои стих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3"/>
          <p:cNvSpPr txBox="1"/>
          <p:nvPr/>
        </p:nvSpPr>
        <p:spPr>
          <a:xfrm>
            <a:off x="324000" y="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Друзья мои, прекрасен наш союз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93" name="Picture 5" descr="юный Пушкин"/>
          <p:cNvPicPr/>
          <p:nvPr/>
        </p:nvPicPr>
        <p:blipFill>
          <a:blip r:embed="rId11"/>
          <a:stretch/>
        </p:blipFill>
        <p:spPr>
          <a:xfrm>
            <a:off x="395280" y="2852640"/>
            <a:ext cx="1216080" cy="1513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5"/>
          <p:cNvSpPr/>
          <p:nvPr/>
        </p:nvSpPr>
        <p:spPr>
          <a:xfrm>
            <a:off x="250920" y="4508640"/>
            <a:ext cx="151272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Пушкин-лице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124000" y="450864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Комната А.С.Пушк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39640" y="6524640"/>
            <a:ext cx="865440" cy="21744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Данз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1763640" y="6524640"/>
            <a:ext cx="863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Матю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2843280" y="6524640"/>
            <a:ext cx="1008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Кюхельбек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4140360" y="6524640"/>
            <a:ext cx="792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Горч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4067280" y="4221000"/>
            <a:ext cx="144144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Иван Пущ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«Мой первый друг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мой друг бесценны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4" descr="PERSON05"/>
          <p:cNvPicPr/>
          <p:nvPr/>
        </p:nvPicPr>
        <p:blipFill>
          <a:blip r:embed="rId12"/>
          <a:stretch/>
        </p:blipFill>
        <p:spPr>
          <a:xfrm>
            <a:off x="5076720" y="5157720"/>
            <a:ext cx="863640" cy="1301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5"/>
          <p:cNvSpPr/>
          <p:nvPr/>
        </p:nvSpPr>
        <p:spPr>
          <a:xfrm>
            <a:off x="5292720" y="6524640"/>
            <a:ext cx="792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Garamond"/>
              </a:rPr>
              <a:t>Дельв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7" descr="derzhavin"/>
          <p:cNvPicPr/>
          <p:nvPr/>
        </p:nvPicPr>
        <p:blipFill>
          <a:blip r:embed="rId13"/>
          <a:stretch/>
        </p:blipFill>
        <p:spPr>
          <a:xfrm>
            <a:off x="5651640" y="3429000"/>
            <a:ext cx="836640" cy="1150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9"/>
          <p:cNvSpPr/>
          <p:nvPr/>
        </p:nvSpPr>
        <p:spPr>
          <a:xfrm>
            <a:off x="6516720" y="3716280"/>
            <a:ext cx="248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«Старик </a:t>
            </a:r>
            <a:r>
              <a:rPr b="1" lang="ru-RU" sz="1400" spc="-1" strike="noStrike">
                <a:solidFill>
                  <a:srgbClr val="cc3300"/>
                </a:solidFill>
                <a:latin typeface="Garamond"/>
              </a:rPr>
              <a:t>Державин 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нас замет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и в гроб сходя благословил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684360" y="4941720"/>
            <a:ext cx="50400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zhukovskij_gravura"/>
          <p:cNvPicPr/>
          <p:nvPr/>
        </p:nvPicPr>
        <p:blipFill>
          <a:blip r:embed="rId1"/>
          <a:stretch/>
        </p:blipFill>
        <p:spPr>
          <a:xfrm>
            <a:off x="250920" y="1125360"/>
            <a:ext cx="2719440" cy="2735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250920" y="115920"/>
            <a:ext cx="849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Учитель, перед именем твоим позволь смиренно преклонить колени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4763160"/>
            <a:ext cx="5040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      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26 марта 1820 года Пушкин, закончив поэму "Руслан и Людмила", прочитал Жуковскому последние главы поэмы. В знак выигранного поэтического соревнования Жуковский подарил двадцатилетнему Пушкину свой портрет с надписью</a:t>
            </a:r>
            <a:r>
              <a:rPr b="0" lang="ru-RU" sz="1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Garamond"/>
              </a:rPr>
              <a:t>"Победителю ученику от побежденного учителя в тот высокоторжественный день, в который он окончил свою поэму "Руслан и Людмила"…</a:t>
            </a:r>
            <a:r>
              <a:rPr b="0" lang="ru-RU" sz="12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132000" y="1413000"/>
            <a:ext cx="460872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     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С 1817 – учитель русского языка будущей императриц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Александры Фёдоровны.С1826 по 1841 – наста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будущего императора Александра </a:t>
            </a:r>
            <a:r>
              <a:rPr b="0" lang="en-US" sz="1400" spc="-1" strike="noStrike">
                <a:solidFill>
                  <a:srgbClr val="993300"/>
                </a:solidFill>
                <a:latin typeface="Garamond"/>
              </a:rPr>
              <a:t>II</a:t>
            </a: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Помогал ссыльным Е.А.Баратынскому и Ф.Н.Глин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декабристам, А.И.Герцену, принял участие в освобо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Garamond"/>
              </a:rPr>
              <a:t>из крепостной неволи Т.Г.Шевченко</a:t>
            </a:r>
            <a:r>
              <a:rPr b="0" lang="ru-RU" sz="1200" spc="-1" strike="noStrike">
                <a:solidFill>
                  <a:srgbClr val="9933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920" y="4005360"/>
            <a:ext cx="252072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Garamond"/>
              </a:rPr>
              <a:t>Василий Андре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Garamond"/>
              </a:rPr>
              <a:t>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Тропинин"/>
          <p:cNvPicPr/>
          <p:nvPr/>
        </p:nvPicPr>
        <p:blipFill>
          <a:blip r:embed="rId4"/>
          <a:stretch/>
        </p:blipFill>
        <p:spPr>
          <a:xfrm>
            <a:off x="5981760" y="2997360"/>
            <a:ext cx="2852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19400019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1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age15"/>
          <p:cNvPicPr/>
          <p:nvPr/>
        </p:nvPicPr>
        <p:blipFill>
          <a:blip r:embed="rId2"/>
          <a:stretch/>
        </p:blipFill>
        <p:spPr>
          <a:xfrm>
            <a:off x="6041880" y="1241280"/>
            <a:ext cx="3102120" cy="56167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Южная ссылка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268360" y="1989000"/>
            <a:ext cx="3024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Под сень масонского щ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Он загнан скукой Кишинёв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0" y="2781360"/>
            <a:ext cx="305928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А там, как в шайке воровс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Где рубль за вход и два за выход…</a:t>
            </a:r>
            <a:r>
              <a:rPr b="0" lang="ru-RU" sz="1800" spc="-1" strike="noStrike">
                <a:solidFill>
                  <a:srgbClr val="6666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08000" y="907920"/>
            <a:ext cx="395928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Garamond"/>
              </a:rPr>
              <a:t>4 мая 1821 года</a:t>
            </a: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 А.С. Пушкин был приня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Garamond"/>
              </a:rPr>
              <a:t>в масонскую ложу  ( «Овидий» ) в г. Кишиневе</a:t>
            </a:r>
            <a:r>
              <a:rPr b="0" lang="ru-RU" sz="1600" spc="-1" strike="noStrike">
                <a:solidFill>
                  <a:srgbClr val="6666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4365720"/>
            <a:ext cx="2484360" cy="21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0" y="4437000"/>
            <a:ext cx="248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Прощай, свободная стих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В последний раз передо м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ы катишь волны голуб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И блещешь гордою красо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Прощай же, море! Не заб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воей торжественной кра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И долго, долго слышать бу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ff"/>
                </a:solidFill>
                <a:latin typeface="Garamond"/>
              </a:rPr>
              <a:t>Твой гул в вечерние часы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1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Михайловское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21" name="Picture 15" descr="mum74-b"/>
          <p:cNvPicPr/>
          <p:nvPr/>
        </p:nvPicPr>
        <p:blipFill>
          <a:blip r:embed="rId3"/>
          <a:stretch/>
        </p:blipFill>
        <p:spPr>
          <a:xfrm>
            <a:off x="0" y="765000"/>
            <a:ext cx="8964720" cy="609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0" y="1268280"/>
            <a:ext cx="2320920" cy="306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PusinMih"/>
          <p:cNvPicPr/>
          <p:nvPr/>
        </p:nvPicPr>
        <p:blipFill>
          <a:blip r:embed="rId5"/>
          <a:stretch/>
        </p:blipFill>
        <p:spPr>
          <a:xfrm>
            <a:off x="5616720" y="765000"/>
            <a:ext cx="3527280" cy="2554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2"/>
          <p:cNvSpPr/>
          <p:nvPr/>
        </p:nvSpPr>
        <p:spPr>
          <a:xfrm>
            <a:off x="5508720" y="3357720"/>
            <a:ext cx="36352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19 октября 1825 года </a:t>
            </a: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А.С.Пушкин не 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приехать на встречу с друзьями по Лице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9966"/>
                </a:solidFill>
                <a:latin typeface="Garamond"/>
              </a:rPr>
              <a:t>т.к. находился в ссыл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домик няни"/>
          <p:cNvPicPr/>
          <p:nvPr/>
        </p:nvPicPr>
        <p:blipFill>
          <a:blip r:embed="rId6"/>
          <a:stretch/>
        </p:blipFill>
        <p:spPr>
          <a:xfrm>
            <a:off x="2916360" y="4540320"/>
            <a:ext cx="3095640" cy="2317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9"/>
          <p:cNvSpPr/>
          <p:nvPr/>
        </p:nvSpPr>
        <p:spPr>
          <a:xfrm>
            <a:off x="0" y="4797360"/>
            <a:ext cx="2448000" cy="692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Garamond"/>
              </a:rPr>
              <a:t>Арина Родио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Garamond"/>
              </a:rPr>
              <a:t>«Подруга дней моих суров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Garamond"/>
              </a:rPr>
              <a:t>Голубка дряхлая моя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6372360" y="6568920"/>
            <a:ext cx="147456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Garamond"/>
              </a:rPr>
              <a:t>Домик ня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icon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4"/>
          <p:cNvSpPr txBox="1"/>
          <p:nvPr/>
        </p:nvSpPr>
        <p:spPr>
          <a:xfrm>
            <a:off x="971640" y="0"/>
            <a:ext cx="7200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Болдино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30" name="Picture 5" descr="Болдино"/>
          <p:cNvPicPr/>
          <p:nvPr/>
        </p:nvPicPr>
        <p:blipFill>
          <a:blip r:embed="rId4"/>
          <a:stretch/>
        </p:blipFill>
        <p:spPr>
          <a:xfrm>
            <a:off x="0" y="1557360"/>
            <a:ext cx="3635280" cy="2778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5"/>
          <p:cNvSpPr/>
          <p:nvPr/>
        </p:nvSpPr>
        <p:spPr>
          <a:xfrm>
            <a:off x="0" y="437508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79280" y="4437000"/>
            <a:ext cx="33130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Болдино в течение трёх столе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находилось во владении рода Пушк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780000" y="1844640"/>
            <a:ext cx="5364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aramond"/>
              </a:rPr>
              <a:t>Осень 1830 года</a:t>
            </a:r>
            <a:r>
              <a:rPr b="0" lang="ru-RU" sz="1800" spc="-1" strike="noStrike">
                <a:solidFill>
                  <a:srgbClr val="cc66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стала самым плодотво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периодом в творчестве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За три месяца было создано более 30 произве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различных жанров, среди которых «Повести Белкин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«Маленькие трагедии», «Медный всадни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История Пугачёва»,«Пиковая дама», две послед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главы «Евгения Онегина», поэма «Домик в Коломн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«Сказка о попе и его работнике Балд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Garamond"/>
              </a:rPr>
              <a:t>стихи, литературно-критические стат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Дантес"/>
          <p:cNvPicPr/>
          <p:nvPr/>
        </p:nvPicPr>
        <p:blipFill>
          <a:blip r:embed="rId1"/>
          <a:stretch/>
        </p:blipFill>
        <p:spPr>
          <a:xfrm>
            <a:off x="1116000" y="765000"/>
            <a:ext cx="1566720" cy="172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3"/>
          <p:cNvPicPr/>
          <p:nvPr/>
        </p:nvPicPr>
        <p:blipFill>
          <a:blip r:embed="rId2"/>
          <a:stretch/>
        </p:blipFill>
        <p:spPr>
          <a:xfrm>
            <a:off x="5508720" y="360828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А.Х.Бенкендорф. Художник П.Соколов. 1835 г."/>
          <p:cNvPicPr/>
          <p:nvPr/>
        </p:nvPicPr>
        <p:blipFill>
          <a:blip r:embed="rId3"/>
          <a:stretch/>
        </p:blipFill>
        <p:spPr>
          <a:xfrm>
            <a:off x="5364000" y="765000"/>
            <a:ext cx="1254240" cy="17272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1"/>
          <p:cNvSpPr txBox="1"/>
          <p:nvPr/>
        </p:nvSpPr>
        <p:spPr>
          <a:xfrm>
            <a:off x="539640" y="0"/>
            <a:ext cx="7993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"Раб наёмный..."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38" name="Picture 13" descr="gekkeren"/>
          <p:cNvPicPr/>
          <p:nvPr/>
        </p:nvPicPr>
        <p:blipFill>
          <a:blip r:embed="rId6"/>
          <a:stretch/>
        </p:blipFill>
        <p:spPr>
          <a:xfrm>
            <a:off x="3419640" y="765000"/>
            <a:ext cx="1271520" cy="1729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b0361"/>
          <p:cNvPicPr/>
          <p:nvPr/>
        </p:nvPicPr>
        <p:blipFill>
          <a:blip r:embed="rId7"/>
          <a:stretch/>
        </p:blipFill>
        <p:spPr>
          <a:xfrm>
            <a:off x="250920" y="3645000"/>
            <a:ext cx="3160440" cy="2197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7"/>
          <p:cNvSpPr/>
          <p:nvPr/>
        </p:nvSpPr>
        <p:spPr>
          <a:xfrm>
            <a:off x="5292720" y="2708280"/>
            <a:ext cx="13683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Бенкендо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3564000" y="2708280"/>
            <a:ext cx="11541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Гекке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6588000" y="6237360"/>
            <a:ext cx="2305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Могила А.С.Пушкин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Святогорском монасты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5" descr="goncharovaAN2"/>
          <p:cNvPicPr/>
          <p:nvPr/>
        </p:nvPicPr>
        <p:blipFill>
          <a:blip r:embed="rId8"/>
          <a:stretch/>
        </p:blipFill>
        <p:spPr>
          <a:xfrm>
            <a:off x="7308720" y="765000"/>
            <a:ext cx="144792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6"/>
          <p:cNvSpPr/>
          <p:nvPr/>
        </p:nvSpPr>
        <p:spPr>
          <a:xfrm>
            <a:off x="7093080" y="2708280"/>
            <a:ext cx="1873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Александ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Гончарова - Дан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68360" y="6093000"/>
            <a:ext cx="3095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Дуэль А.С.Пушкина и Дант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68360" y="2708280"/>
            <a:ext cx="2951280" cy="865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11280" y="2708280"/>
            <a:ext cx="2736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Garamond"/>
              </a:rPr>
              <a:t>Жорж Дант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Он просто раб наёмный бы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Garamond"/>
              </a:rPr>
              <a:t>Продавшийся масонским лож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6:18:08Z</dcterms:created>
  <dc:creator>Слушатель53</dc:creator>
  <dc:description/>
  <dc:language>en-US</dc:language>
  <cp:lastModifiedBy>Нейман М.Н.</cp:lastModifiedBy>
  <dcterms:modified xsi:type="dcterms:W3CDTF">2013-02-22T03:24:28Z</dcterms:modified>
  <cp:revision>83</cp:revision>
  <dc:subject/>
  <dc:title>Слайд 1</dc:title>
</cp:coreProperties>
</file>