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3BC-70D3-4D4F-8A5E-5AA94DFF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FCA-DB7F-4562-8C7F-938B95C4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575-1AC1-4E1A-A9BC-C3883378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591-D72C-422F-A138-80C3812F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7AB4-F895-4722-9534-63966EDE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D9A-6749-4351-BAFD-D384F1A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4EFC-6455-4FA7-A891-128524CD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E620-D715-406D-8C51-9BC89C5B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D4A9-4EEC-4F4A-B388-F763636B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D526-7B8B-4969-9E47-B8616CF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8966-3F05-4AC1-A453-65C56D3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126-BCE5-4C90-85A7-AA02CB39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FF00-6DB6-49D7-83C7-C8FB2556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0977-6830-426C-A456-E78D4E2A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9F5D-15C9-44D7-97D0-BB7AC61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4192-3069-4D2D-AD0B-EC936867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53A3-81A3-40D0-934B-C3E5098B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2C6-B0FA-4E09-8C05-31ED81BD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D4E-4F38-44BF-8144-76C1718C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53F-5F09-437E-B747-CE173613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FF0-E9EF-45A6-A094-574A01B1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9C7-A66A-4C06-953C-853C6EC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5FD-3597-41E4-9AA1-091A12F9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670-46E6-4137-8D5F-2A983C4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5A51-C4EB-4EF7-BA1D-37BF2C289DC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C84F-FC76-4C00-9384-D2D62C5A3C4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БОУ Гимназия «Аврор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1928520"/>
            <a:ext cx="94680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ЧЕВНАЯ ЕЛЕНА АЛЕКСАНДРО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а 2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ССКИЙ  ЯЗЫ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МА: Имя прилагатель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бщающий 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9680" y="2349360"/>
            <a:ext cx="835812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Развитие умений писать слова с изученной орфограммой, графически объяснять выбор напис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Работать над обогащением словарного запаса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532080"/>
            <a:ext cx="750384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мы знаем об имени прилагательно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обозначают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вязаны между собой в речи имена существительные и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ты думаешь, почему сначала изучается имя существительное, а потом имя прилагательное, а не наоборо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ми членами предложения являются прилагательные -главными или второстепенны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ловоизменение имен прилага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ена прилагательные изменяются по ….и склоняются, то есть …. . Приведи прим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я прилагательное всегда стоит в том же …., …. и …., что и существительное, к которому оно относится. Приведи прим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ты думаешь, то, что прилагательные согласуются с существительным в роде, числе и падеже, - это закон языка или правило письма? Объясни почему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актическ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ди эксперимент. Возьми любое словосочета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ил. + сущ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ставь существительное в разные падежные формы. Понаблюдай, что при этом произойдет с прилагательны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делай выво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авописание безударных падежных окончаний имен прилага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кажи, как нужно действовать, чтобы правильно написать гласную в безударном окончании прилагательного. Сколько «шагов» будет в алгоритме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м правилом нужно пользоваться при написании безударных падежных окончаний прилагательны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но ли сказать, что безударные гласные в окончаниях существительных и прилагательных проверяются одинаково? Объяс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актическ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иши словосочетания в указанных форм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37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Organization Chart 6"/>
          <p:cNvGrpSpPr/>
          <p:nvPr/>
        </p:nvGrpSpPr>
        <p:grpSpPr>
          <a:xfrm>
            <a:off x="1903320" y="4016160"/>
            <a:ext cx="5022360" cy="1193760"/>
            <a:chOff x="1903320" y="4016160"/>
            <a:chExt cx="5022360" cy="1193760"/>
          </a:xfrm>
        </p:grpSpPr>
        <p:cxnSp>
          <p:nvCxnSpPr>
            <p:cNvPr id="115" name="_s102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187960" y="3778200"/>
              <a:ext cx="200520" cy="1748160"/>
            </a:xfrm>
            <a:prstGeom prst="bentConnector3">
              <a:avLst>
                <a:gd name="adj1" fmla="val 570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29"/>
            <p:cNvCxnSpPr>
              <a:stCxn id="119" idx="0"/>
              <a:endCxn id="117" idx="2"/>
            </p:cNvCxnSpPr>
            <p:nvPr/>
          </p:nvCxnSpPr>
          <p:spPr>
            <a:xfrm flipV="1">
              <a:off x="4414680" y="4552200"/>
              <a:ext cx="2160" cy="20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30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3441240" y="3779280"/>
              <a:ext cx="200520" cy="1746360"/>
            </a:xfrm>
            <a:prstGeom prst="bentConnector3">
              <a:avLst>
                <a:gd name="adj1" fmla="val 570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031"/>
            <p:cNvSpPr/>
            <p:nvPr/>
          </p:nvSpPr>
          <p:spPr>
            <a:xfrm>
              <a:off x="3384360" y="4016160"/>
              <a:ext cx="2061000" cy="50796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усская сказ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1032"/>
            <p:cNvSpPr/>
            <p:nvPr/>
          </p:nvSpPr>
          <p:spPr>
            <a:xfrm>
              <a:off x="1903320" y="4752720"/>
              <a:ext cx="152820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Ед.ч., Р.п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650760" y="4752720"/>
              <a:ext cx="152784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Ед.ч., П.п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4"/>
            <p:cNvSpPr/>
            <p:nvPr/>
          </p:nvSpPr>
          <p:spPr>
            <a:xfrm>
              <a:off x="5397840" y="4752720"/>
              <a:ext cx="152784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.ч., Т.п.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актическ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1984320" y="3247920"/>
            <a:ext cx="4814640" cy="1143000"/>
            <a:chOff x="1984320" y="3247920"/>
            <a:chExt cx="4814640" cy="1143000"/>
          </a:xfrm>
        </p:grpSpPr>
        <p:cxnSp>
          <p:nvCxnSpPr>
            <p:cNvPr id="124" name="_s2052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5131800" y="2991600"/>
              <a:ext cx="200880" cy="1683360"/>
            </a:xfrm>
            <a:prstGeom prst="bentConnector3">
              <a:avLst>
                <a:gd name="adj1" fmla="val 570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3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4291200" y="3832200"/>
              <a:ext cx="200880" cy="2160"/>
            </a:xfrm>
            <a:prstGeom prst="bentConnector3">
              <a:avLst>
                <a:gd name="adj1" fmla="val 570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4"/>
            <p:cNvCxnSpPr>
              <a:stCxn id="130" idx="0"/>
              <a:endCxn id="126" idx="2"/>
            </p:cNvCxnSpPr>
            <p:nvPr/>
          </p:nvCxnSpPr>
          <p:spPr>
            <a:xfrm flipH="1" flipV="1" rot="5400000">
              <a:off x="3450600" y="2993400"/>
              <a:ext cx="200880" cy="1680480"/>
            </a:xfrm>
            <a:prstGeom prst="bentConnector3">
              <a:avLst>
                <a:gd name="adj1" fmla="val 570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2055"/>
            <p:cNvSpPr/>
            <p:nvPr/>
          </p:nvSpPr>
          <p:spPr>
            <a:xfrm>
              <a:off x="3522600" y="3247920"/>
              <a:ext cx="173664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Нижняя полк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_s2056"/>
            <p:cNvSpPr/>
            <p:nvPr/>
          </p:nvSpPr>
          <p:spPr>
            <a:xfrm>
              <a:off x="1984320" y="3933720"/>
              <a:ext cx="145260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Ед.ч., Д.п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57"/>
            <p:cNvSpPr/>
            <p:nvPr/>
          </p:nvSpPr>
          <p:spPr>
            <a:xfrm>
              <a:off x="3665520" y="3933720"/>
              <a:ext cx="145224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Мн.ч., П.п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2058"/>
            <p:cNvSpPr/>
            <p:nvPr/>
          </p:nvSpPr>
          <p:spPr>
            <a:xfrm>
              <a:off x="5346360" y="3933720"/>
              <a:ext cx="145260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Ед.ч., Т.п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1:42:12Z</dcterms:created>
  <dc:creator>Алена</dc:creator>
  <dc:description/>
  <dc:language>en-US</dc:language>
  <cp:lastModifiedBy>Алёна</cp:lastModifiedBy>
  <dcterms:modified xsi:type="dcterms:W3CDTF">2013-02-21T16:43:40Z</dcterms:modified>
  <cp:revision>7</cp:revision>
  <dc:subject/>
  <dc:title>Русский  язык</dc:title>
</cp:coreProperties>
</file>