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775F-5962-48A2-AF5B-BC664B425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B1A0-BF5A-4606-B534-E26CCDA3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4C80-CEDE-4428-BA43-3DE20D722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E630-4B0F-4ADB-A178-BDD924D85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8C45-A19A-49D4-95B4-F68544F38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6F2D-C8E2-4B88-810E-0A5D8AF4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6D73-E58E-43A2-8DEB-4F1EE074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528C-03BC-44C9-88DC-A93576F5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8519-82DB-4DC0-B472-4A7433AA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F28A-19C0-4E77-A909-4BDD7274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56C8-2BB3-428E-BBA5-0A768E08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1604-8973-4BD3-8107-6DDFF3BD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C167-7F68-4E72-8BD8-ED1BBF9F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019B-D3E1-419A-9352-9A2507D2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F413-FB76-47AA-916A-E37AD34C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0C62-B129-410F-A6F1-31B4A1298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A1AC-7C03-44A7-A6F3-53E7BE055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33F0-6258-413C-B72E-5E24E006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BEAB-48EA-40C0-9E97-892B0689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5B6F-E26F-47B4-941C-2749C8C4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1F7B-21B1-49AC-A29C-AE9AF8A5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5FFF-0CB3-4014-A29F-879B2492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D599-D3ED-4A62-A915-C07A3F0A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6678-A10A-4D49-BF01-FB447274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A686-B5F6-466B-9E47-30F3919D7B2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0FD0-BCD9-4637-B9EB-6624E46D5478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МБОУ Гимназия «Аврора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0" y="1928520"/>
            <a:ext cx="9468000" cy="32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ОЧЕВНАЯ ЕЛЕНА АЛЕКСАНДРОВ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грамма 21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УССКИЙ  ЯЗЫ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МА: Имя прилагательно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общающий ур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Цели уро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99680" y="2349360"/>
            <a:ext cx="8358120" cy="38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Развитие умений писать слова с изученной орфограммой, графически объяснять выбор напис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Работать над обогащением словарного запаса учащихс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-532080"/>
            <a:ext cx="7503840" cy="165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Что мы знаем об имени прилагательном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то обозначают имена прилагательные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 связаны между собой в речи имена существительные и имена прилагательные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 ты думаешь, почему сначала изучается имя существительное, а потом имя прилагательное, а не наоборот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ими членами предложения являются прилагательные -главными или второстепенными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чему ты так думаешь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Словоизменение имен прилагательных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мена прилагательные изменяются по ….и склоняются, то есть …. . Приведи пример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мя прилагательное всегда стоит в том же …., …. и …., что и существительное, к которому оно относится. Приведи пример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 ты думаешь, то, что прилагательные согласуются с существительным в роде, числе и падеже, - это закон языка или правило письма? Объясни почему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рактическая работ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веди эксперимент. Возьми любое словосочетание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рил. + сущ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оставь существительное в разные падежные формы. Понаблюдай, что при этом произойдет с прилагательны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делай вывод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равописание безударных падежных окончаний имен прилагательных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скажи, как нужно действовать, чтобы правильно написать гласную в безударном окончании прилагательного. Сколько «шагов» будет в алгоритме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им правилом нужно пользоваться при написании безударных падежных окончаний прилагательных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жно ли сказать, что безударные гласные в окончаниях существительных и прилагательных проверяются одинаково? Объясн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рактическая работ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пиши словосочетания в указанных формах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3376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4" name="Organization Chart 6"/>
          <p:cNvGrpSpPr/>
          <p:nvPr/>
        </p:nvGrpSpPr>
        <p:grpSpPr>
          <a:xfrm>
            <a:off x="1903320" y="4016160"/>
            <a:ext cx="5022360" cy="1193760"/>
            <a:chOff x="1903320" y="4016160"/>
            <a:chExt cx="5022360" cy="1193760"/>
          </a:xfrm>
        </p:grpSpPr>
        <p:cxnSp>
          <p:nvCxnSpPr>
            <p:cNvPr id="115" name="_s1028"/>
            <p:cNvCxnSpPr>
              <a:stCxn id="116" idx="0"/>
              <a:endCxn id="117" idx="2"/>
            </p:cNvCxnSpPr>
            <p:nvPr/>
          </p:nvCxnSpPr>
          <p:spPr>
            <a:xfrm flipV="1" rot="16200000">
              <a:off x="5187960" y="3778200"/>
              <a:ext cx="200520" cy="1748160"/>
            </a:xfrm>
            <a:prstGeom prst="bentConnector3">
              <a:avLst>
                <a:gd name="adj1" fmla="val 570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1029"/>
            <p:cNvCxnSpPr>
              <a:stCxn id="119" idx="0"/>
              <a:endCxn id="117" idx="2"/>
            </p:cNvCxnSpPr>
            <p:nvPr/>
          </p:nvCxnSpPr>
          <p:spPr>
            <a:xfrm flipV="1">
              <a:off x="4414680" y="4552200"/>
              <a:ext cx="2160" cy="200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1030"/>
            <p:cNvCxnSpPr>
              <a:stCxn id="121" idx="0"/>
              <a:endCxn id="117" idx="2"/>
            </p:cNvCxnSpPr>
            <p:nvPr/>
          </p:nvCxnSpPr>
          <p:spPr>
            <a:xfrm flipH="1" flipV="1" rot="5400000">
              <a:off x="3441240" y="3779280"/>
              <a:ext cx="200520" cy="1746360"/>
            </a:xfrm>
            <a:prstGeom prst="bentConnector3">
              <a:avLst>
                <a:gd name="adj1" fmla="val 570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1031"/>
            <p:cNvSpPr/>
            <p:nvPr/>
          </p:nvSpPr>
          <p:spPr>
            <a:xfrm>
              <a:off x="3384360" y="4016160"/>
              <a:ext cx="2061000" cy="507960"/>
            </a:xfrm>
            <a:prstGeom prst="rect">
              <a:avLst/>
            </a:prstGeom>
            <a:solidFill>
              <a:srgbClr val="00e4a8">
                <a:alpha val="50000"/>
              </a:srgbClr>
            </a:solidFill>
            <a:ln w="572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Русская сказка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_s1032"/>
            <p:cNvSpPr/>
            <p:nvPr/>
          </p:nvSpPr>
          <p:spPr>
            <a:xfrm>
              <a:off x="1903320" y="4752720"/>
              <a:ext cx="1528200" cy="457200"/>
            </a:xfrm>
            <a:prstGeom prst="rect">
              <a:avLst/>
            </a:prstGeom>
            <a:solidFill>
              <a:srgbClr val="ffcf01">
                <a:alpha val="50000"/>
              </a:srgbClr>
            </a:solidFill>
            <a:ln w="572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Ед.ч., Р.п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_s1033"/>
            <p:cNvSpPr/>
            <p:nvPr/>
          </p:nvSpPr>
          <p:spPr>
            <a:xfrm>
              <a:off x="3650760" y="4752720"/>
              <a:ext cx="1527840" cy="457200"/>
            </a:xfrm>
            <a:prstGeom prst="rect">
              <a:avLst/>
            </a:prstGeom>
            <a:solidFill>
              <a:srgbClr val="ffcf01">
                <a:alpha val="50000"/>
              </a:srgbClr>
            </a:solidFill>
            <a:ln w="572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Ед.ч., П.п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_s1034"/>
            <p:cNvSpPr/>
            <p:nvPr/>
          </p:nvSpPr>
          <p:spPr>
            <a:xfrm>
              <a:off x="5397840" y="4752720"/>
              <a:ext cx="1527840" cy="457200"/>
            </a:xfrm>
            <a:prstGeom prst="rect">
              <a:avLst/>
            </a:prstGeom>
            <a:solidFill>
              <a:srgbClr val="ffcf01">
                <a:alpha val="50000"/>
              </a:srgbClr>
            </a:solidFill>
            <a:ln w="572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Мн.ч., Т.п.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рактическая работ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23" name="Organization Chart 6"/>
          <p:cNvGrpSpPr/>
          <p:nvPr/>
        </p:nvGrpSpPr>
        <p:grpSpPr>
          <a:xfrm>
            <a:off x="1984320" y="3247920"/>
            <a:ext cx="4814640" cy="1143000"/>
            <a:chOff x="1984320" y="3247920"/>
            <a:chExt cx="4814640" cy="1143000"/>
          </a:xfrm>
        </p:grpSpPr>
        <p:cxnSp>
          <p:nvCxnSpPr>
            <p:cNvPr id="124" name="_s2052"/>
            <p:cNvCxnSpPr>
              <a:stCxn id="125" idx="0"/>
              <a:endCxn id="126" idx="2"/>
            </p:cNvCxnSpPr>
            <p:nvPr/>
          </p:nvCxnSpPr>
          <p:spPr>
            <a:xfrm flipV="1" rot="16200000">
              <a:off x="5131800" y="2991600"/>
              <a:ext cx="200880" cy="1683360"/>
            </a:xfrm>
            <a:prstGeom prst="bentConnector3">
              <a:avLst>
                <a:gd name="adj1" fmla="val 570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2053"/>
            <p:cNvCxnSpPr>
              <a:stCxn id="128" idx="0"/>
              <a:endCxn id="126" idx="2"/>
            </p:cNvCxnSpPr>
            <p:nvPr/>
          </p:nvCxnSpPr>
          <p:spPr>
            <a:xfrm flipV="1" rot="16200000">
              <a:off x="4291200" y="3832200"/>
              <a:ext cx="200880" cy="2160"/>
            </a:xfrm>
            <a:prstGeom prst="bentConnector3">
              <a:avLst>
                <a:gd name="adj1" fmla="val 570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2054"/>
            <p:cNvCxnSpPr>
              <a:stCxn id="130" idx="0"/>
              <a:endCxn id="126" idx="2"/>
            </p:cNvCxnSpPr>
            <p:nvPr/>
          </p:nvCxnSpPr>
          <p:spPr>
            <a:xfrm flipH="1" flipV="1" rot="5400000">
              <a:off x="3450600" y="2993400"/>
              <a:ext cx="200880" cy="1680480"/>
            </a:xfrm>
            <a:prstGeom prst="bentConnector3">
              <a:avLst>
                <a:gd name="adj1" fmla="val 570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6" name="_s2055"/>
            <p:cNvSpPr/>
            <p:nvPr/>
          </p:nvSpPr>
          <p:spPr>
            <a:xfrm>
              <a:off x="3522600" y="3247920"/>
              <a:ext cx="1736640" cy="457200"/>
            </a:xfrm>
            <a:prstGeom prst="rect">
              <a:avLst/>
            </a:prstGeom>
            <a:solidFill>
              <a:srgbClr val="00e4a8">
                <a:alpha val="50000"/>
              </a:srgbClr>
            </a:solidFill>
            <a:ln w="572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Нижняя полка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_s2056"/>
            <p:cNvSpPr/>
            <p:nvPr/>
          </p:nvSpPr>
          <p:spPr>
            <a:xfrm>
              <a:off x="1984320" y="3933720"/>
              <a:ext cx="1452600" cy="457200"/>
            </a:xfrm>
            <a:prstGeom prst="rect">
              <a:avLst/>
            </a:prstGeom>
            <a:solidFill>
              <a:srgbClr val="ffcf01">
                <a:alpha val="50000"/>
              </a:srgbClr>
            </a:solidFill>
            <a:ln w="572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Ед.ч., Д.п.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_s2057"/>
            <p:cNvSpPr/>
            <p:nvPr/>
          </p:nvSpPr>
          <p:spPr>
            <a:xfrm>
              <a:off x="3665520" y="3933720"/>
              <a:ext cx="1452240" cy="457200"/>
            </a:xfrm>
            <a:prstGeom prst="rect">
              <a:avLst/>
            </a:prstGeom>
            <a:solidFill>
              <a:srgbClr val="ffcf01">
                <a:alpha val="50000"/>
              </a:srgbClr>
            </a:solidFill>
            <a:ln w="572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Мн.ч., П.п.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_s2058"/>
            <p:cNvSpPr/>
            <p:nvPr/>
          </p:nvSpPr>
          <p:spPr>
            <a:xfrm>
              <a:off x="5346360" y="3933720"/>
              <a:ext cx="1452600" cy="457200"/>
            </a:xfrm>
            <a:prstGeom prst="rect">
              <a:avLst/>
            </a:prstGeom>
            <a:solidFill>
              <a:srgbClr val="ffcf01">
                <a:alpha val="50000"/>
              </a:srgbClr>
            </a:solidFill>
            <a:ln w="572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Ед.ч., Т.п.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11:42:12Z</dcterms:created>
  <dc:creator>Алена</dc:creator>
  <dc:description/>
  <dc:language>en-US</dc:language>
  <cp:lastModifiedBy>Алёна</cp:lastModifiedBy>
  <dcterms:modified xsi:type="dcterms:W3CDTF">2013-02-21T16:43:40Z</dcterms:modified>
  <cp:revision>7</cp:revision>
  <dc:subject/>
  <dc:title>Русский  язык</dc:title>
</cp:coreProperties>
</file>