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B81-0EF5-485E-A436-7F6AE21C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416-9B3B-4940-8753-52EBB76C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47C-3FD3-4209-A597-7540FDC2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6ED-6BA8-4894-B485-56387AD4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8CAD-BAC0-405B-8DF3-D746C66F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4ED3-C53E-4186-AFE0-640CEB6B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ABE6-CDC9-4F3F-89A0-D02830C4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1777-DBAC-474F-B152-97B0121D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0D1A-A6D3-4C61-A4F3-DFDB6002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B0E9-DDBF-4E59-9C0D-283AA301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8CF3-C1E1-49DF-B134-60C28069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C1A-E298-43FF-8670-5D2687F3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DE1A-BD7A-4BF2-BDB8-D82E4E60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9675-F871-499E-A3C6-C141F564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D24E-5345-4BA0-8834-6FD4FFB7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EC47-F419-4B12-A514-BF77DE70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D5E6-7FF6-46C6-A4DA-BBEF70BE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108-E678-4232-8ACF-3C11BFBE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A96-1C8C-4D27-8F01-F90C9DFB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A0B-1289-4D6C-888C-61FF59EA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7FF-EF7E-455E-96DF-B0432592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781-8682-4D31-867F-D49F2278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AA6-E629-4FF7-A5D1-0E4AF34E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670-3C5C-4C4D-87F2-F142B154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0944-455D-4F62-AE89-5FDCC3AA21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8588-F979-46D6-987F-300E6ACEA1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 rot="986400">
            <a:off x="2050560" y="981000"/>
            <a:ext cx="4969080" cy="418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Showcard Gothic"/>
              </a:rPr>
              <a:t>Сочинение-рассужд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Showcard Gothic"/>
              </a:rPr>
              <a:t>на лингвистическую те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Showcard Gothic"/>
              <a:ea typeface="Showcard Gothic"/>
            </a:endParaRPr>
          </a:p>
        </p:txBody>
      </p:sp>
      <p:sp>
        <p:nvSpPr>
          <p:cNvPr id="90" name=""/>
          <p:cNvSpPr txBox="1"/>
          <p:nvPr/>
        </p:nvSpPr>
        <p:spPr>
          <a:xfrm rot="5400000">
            <a:off x="-2331720" y="3347280"/>
            <a:ext cx="5977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дготовка   к  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948360" y="4724280"/>
            <a:ext cx="1893960" cy="1893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48360" y="4991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3137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Функции знаков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пинани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836640"/>
          <a:ext cx="8577360" cy="5644800"/>
        </p:xfrm>
        <a:graphic>
          <a:graphicData uri="http://schemas.openxmlformats.org/drawingml/2006/table">
            <a:tbl>
              <a:tblPr/>
              <a:tblGrid>
                <a:gridCol w="1171800"/>
                <a:gridCol w="7405560"/>
              </a:tblGrid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ят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Членение текста на значимые в грамматическом и смысловом отношении част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ение в предложении особо значимых ча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ка с запя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ленение текста на значимые в грамматическом и смысловом отношении ча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. Означает пропуск связки в сказуемом (подлежащее и сказуемое выражены существительным, числительным, инфинитивом, словосочетанием с существительным в и.п.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. Означает пропуск членов предложени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 Передача значений условия, времени, сравнения, следствия, сопоставления в БСП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. Отделяет однородные члены от обобщающего слов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. Означает композиционную, интонационную, смысловую неожиданность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. Выделение в предложении особо значимых частей (обособление, выделение слов и сочетаний, грамматически не связанных с членами предлож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5229360"/>
            <a:ext cx="1403280" cy="14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Функции знаков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пинани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907920"/>
          <a:ext cx="8432640" cy="5113080"/>
        </p:xfrm>
        <a:graphic>
          <a:graphicData uri="http://schemas.openxmlformats.org/drawingml/2006/table">
            <a:tbl>
              <a:tblPr/>
              <a:tblGrid>
                <a:gridCol w="1917720"/>
                <a:gridCol w="6514920"/>
              </a:tblGrid>
              <a:tr h="16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оеточ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ъяснительно-пояснительная (отделяет однородные члены от обобщающего слова, слова автора от прямой речи, части БСП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коб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ение в предложении особо значимых частей (обособление, выделение слов и сочетаний, грамматически не связанных с членами предложения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выч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ение цитат, «чужой реч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4869000"/>
            <a:ext cx="1403280" cy="14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Функции знаков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репинания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зделительные знаки препин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всегда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одиночны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знаки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Lucida Calligraphy"/>
              </a:rPr>
              <a:t>т</a:t>
            </a:r>
            <a:r>
              <a:rPr b="1" i="1" lang="en-US" sz="2800" spc="-1" strike="noStrike">
                <a:solidFill>
                  <a:srgbClr val="000000"/>
                </a:solidFill>
                <a:latin typeface="Lucida Calligraphy"/>
              </a:rPr>
              <a:t>очка, вопросительный и восклицательный знаки, запятая, точка с запятой, многоточие, двоеточие, тир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служат для отделения одних отрезков речи от други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Выделительные знаки препинания –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парные зна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 </a:t>
            </a:r>
            <a:r>
              <a:rPr b="1" i="1" lang="en-US" sz="2800" spc="-1" strike="noStrike">
                <a:solidFill>
                  <a:srgbClr val="000000"/>
                </a:solidFill>
                <a:latin typeface="Lucida Calligraphy"/>
              </a:rPr>
              <a:t>скобки, кавычки, двойное тире, двойные запяты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деляют различные отрезки ре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920" y="301320"/>
            <a:ext cx="764064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ТРУКТУРА  СОЧИНЕНИЯ-  РАССУЖДЕНИЯ  НА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ЛИНГВИСТИЧЕСКУЮ  ТЕМУ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6741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Задание С2.1 – это сочинение-рассуждение на лингвистическую тему. Его </a:t>
            </a: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цель – раскрыть важность того лингвистического материала, о котором идет речь  в задани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Сочинение-рассуждение  должно быть композиционно оформлено, т.е. содержать </a:t>
            </a: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тезис, аргументы и вывод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0000"/>
                </a:solidFill>
                <a:uFillTx/>
                <a:latin typeface="Verdana"/>
              </a:rPr>
              <a:t>Вступлени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Прямая актуализация проблемы: формулировка основного тезиса по указанной проблеме («Знаки препинания в русском языке играют важную роль»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0000"/>
                </a:solidFill>
                <a:uFillTx/>
                <a:latin typeface="Verdana"/>
              </a:rPr>
              <a:t>Основная част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Формулирование тезиса, который предстоит доказывать. («Я считаю, что….»), его обоснование с помощью примеров из исходного текс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0000"/>
                </a:solidFill>
                <a:uFillTx/>
                <a:latin typeface="Verdana"/>
              </a:rPr>
              <a:t>Заключение.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Вывод о справедливости высказывания о сущности данного языкового явления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Типичные ошибки в сочинении данного типа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сутствие тезиса;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сутствие логики в расположении частей сочинения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сутствие переходов от общих положений к приведению примеров из текста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умение употреблять в сочинении средства связи между предложениям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умение выстраивать доказательную часть сочинени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умение использовать текст как способ аргумент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Тезис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927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ТЕЗИС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это кратко сформулированная мысль, истинность которой требуется доказать и в которой последовательно раскрывается его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тема и основная мысл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Тезис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формулируется как простое двусоставное предложение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Подлежащее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– это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тем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текст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Сказуемое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– то главное, важное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(основная мысль)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что будет говориться по данной тем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Тезис – эт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ЕМА  +   ОСНОВНАЯ  МЫСЛЬ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Примеры тезисов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783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         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      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Многоточие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Lucida Calligraphy"/>
              </a:rPr>
              <a:t>ставится для обозначения незаконченности высказывания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Фразеологизмы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Lucida Calligraphy"/>
              </a:rPr>
              <a:t>делают нашу речь более яркой и выразительной и поэтому широко используются в литературном языке.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Запятые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Lucida Calligraphy"/>
              </a:rPr>
              <a:t>не только расставляют эмоциональные акценты, но и помогают передать смысл предлож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данных тезисах подлежащие называю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тему 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многоточие, фразеологизмы, запятые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Затем следует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основная мысл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которая  поясняет содержание темы, выделяет самое главное в н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актика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15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На примере самостоятельно выбранного текста докажите следующие положени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    пунктуация создаёт экспрессивность текс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    знаки препинания являются помощниками писателя в создании художественной выразительности текс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    знаки препинания способны скрыть глубину смыс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Ознакомьтесь с информацией и выполните задание.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примере данного текста убедитесь, что знаки препинания служат средством выражения мыслей и чувств в письменном тексте. 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ноготочие передает эмоциональное состояние авто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бки выделяют коммуникативно важные сл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клицательный знак передает взволнованность, недосказанность репл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просительный знак приглашает читателя к разговор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ре привлекает и акцентирует внимание читател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308720" y="-387360"/>
            <a:ext cx="1619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РЕДСТВА СВЯЗИ ПРЕДЛОЖЕНИЙ В ТЕКСТЕ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. Слова одной тематической группы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. Однокоренные сл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. Синонимы, антонимы ( в том числе контекстные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. Лексический повтор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. Союз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. Местоим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7. Вводные сл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8. Синтаксический параллелизм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. Вопросительные или неполные предложения и т.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Практик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125360"/>
            <a:ext cx="7313400" cy="48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Выпишите слова и предложения в следующем порядке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а) слова и предложения, связывающие тезис и доказательства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б) средства связи доказательства и вывод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. Приведем доказательства этого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Б. Это можно доказать таким образом: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. Почему? А вот почему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Г.Обобщим сказанное: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Д. Итак; таким образом,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Е. Это можно объяснить так: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Ж. Следовательно,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  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инципы пунктуации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0920" y="981000"/>
          <a:ext cx="8569080" cy="4953240"/>
        </p:xfrm>
        <a:graphic>
          <a:graphicData uri="http://schemas.openxmlformats.org/drawingml/2006/table">
            <a:tbl>
              <a:tblPr/>
              <a:tblGrid>
                <a:gridCol w="2221560"/>
                <a:gridCol w="216000"/>
                <a:gridCol w="613152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уктурный (синтаксическ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дущий принцип с точки зрения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 пунктуации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 нём строятся правила расстановки знаков препинания в простом и в сложном предложении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большая часть правил опирается именно на нег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ысло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едущий принцип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 точки зрения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начения пунктуаци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цель любого высказывания есть выражение смысл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нные принцип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дин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смысл заключается в определенную синтаксическую форму, или грамматическая структура передает заданный смыс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Рассказчик замолчал  и,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чтобы успокоиться</a:t>
                      </a:r>
                      <a:r>
                        <a:rPr b="1" i="1" lang="en-US" sz="16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, быстро вышел на веранду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ена придаточная часть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труктурный принцип)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вместе с тем с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ки зрения смысла акцентируется обозначение цел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сопутствующей названному действию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онацио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путствует семантико-структурном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 точка в предложени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меет не только структурну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конец предложения) 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ыслову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конец мысли,  высказывания) значимость: он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новременно указывает на понижение то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Примерный вариант сочинения- рассуждения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«Зачем нужна пунктуация?»</a:t>
            </a:r>
            <a:br>
              <a:rPr sz="2400"/>
            </a:b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1439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письме без знания пунктуационных правил невозможно обойтись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необходимы и автору текста, чтобы выразить определенный смысл, и читателю, чтобы правильно воспринять этот смысл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Для этог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 используются определенные знаки препинания, подходящие по своей функции в том или ином высказывании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Как правило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выделяют разделительные и выделительные знаки препинания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встречаются почти в каждом тексте, в том числе и в предложенном на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   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Разделительные знаки препинани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точка, вопросительный и восклицательный знаки, запятая, точка с запятой, многоточие, двоеточие, тире) служат для отделения одних отрезков речи от других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Так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с этой целью они используются в предложениях № 3, 5,7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Выделительные знаки препинани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 скобки, кавычки, двойное тире, двойные запятые) - парные знаки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деляют различные отрезки речи,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как, например, в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редложениях № 23, 3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      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Как видим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ри помощи знаков препинания происходит смысловое членение речи, что, несомненно, помогает  нам понять текс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451640" y="5502240"/>
            <a:ext cx="16923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Практик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35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кройте смысл приведенного ниже высказыва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чь- удивительно сильное средство, но нужно иметь много ума, чтобы  пользоваться им (Гегель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-первых,_____________________________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-вторых,_____________________________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-третьих,______________________________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ледовательно,_________________________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65964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Памятка для работы над сочинением на лингвистическую тему.</a:t>
            </a:r>
            <a:br>
              <a:rPr sz="2000"/>
            </a:b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288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ка для работы над сочинением на лингвистическую тем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Внимательно прочитайте утверждение лингвистического полож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Сформулируйте тезис и подберите в тексте примеры, доказывающие справедливость вашего утвержд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Приводя примеры, цитируйте текст или указывайте в скобках номера предложений, на которые делаются ссылки в ходе аргумент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бы не было логических ошибок, можно использовать следующие речевые клиш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Чтобы доказать сказанное, обратимся к … предложению текст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Пример использования ….. можно найти в предложении …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В подтверждение собственных выводов можно привести пример из … предложения текст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Рассмотрим … предложение (слово). В нем использован (-а, -о) …, который (-ая, -ое)… . Это подтверждает вывод о том, что …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Назначение пунктуации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а) служить средством расчленения письменной реч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б) указывать на расчленение смысловое, структурное и интонационное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Нынче совсем ничего не мог писать утром - заснул (Л. Т.)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ире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 только отделяет сказуемое </a:t>
            </a:r>
            <a:r>
              <a:rPr b="0" i="1" lang="en-US" sz="1700" spc="-1" strike="noStrike">
                <a:solidFill>
                  <a:srgbClr val="ff0000"/>
                </a:solidFill>
                <a:latin typeface="Verdana"/>
              </a:rPr>
              <a:t>заснул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помогая передать причинное обоснование действия, обозначенного в сказуемом </a:t>
            </a:r>
            <a:r>
              <a:rPr b="0" i="1" lang="en-US" sz="1700" spc="-1" strike="noStrike">
                <a:solidFill>
                  <a:srgbClr val="ff0000"/>
                </a:solidFill>
                <a:latin typeface="Verdana"/>
              </a:rPr>
              <a:t>не мог писат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но и указывает, что временной определитель </a:t>
            </a:r>
            <a:r>
              <a:rPr b="0" i="1" lang="en-US" sz="1700" spc="-1" strike="noStrike">
                <a:solidFill>
                  <a:srgbClr val="ff0000"/>
                </a:solidFill>
                <a:latin typeface="Verdana"/>
              </a:rPr>
              <a:t>утром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характеризует первое действие, а не второе </a:t>
            </a:r>
            <a:r>
              <a:rPr b="0" lang="en-US" sz="1700" spc="-1" strike="noStrike">
                <a:solidFill>
                  <a:srgbClr val="0000cc"/>
                </a:solidFill>
                <a:latin typeface="Verdana"/>
              </a:rPr>
              <a:t>(ср.: Нынче совсем ничего не мог писать - утром заснул)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фиксирует  наличие паузы и, следовательно, соответствующее интонационное оформление, передающее смысловое соотношение данных слов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Расчленение текста при помощи знаков препинания помогает донести до читающего смысл написанного таким, каким он представляется пишущему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Знаки препинания – «ноты при чтении» (А.П.Чехов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32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могают в восприятии текст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могают понять авторскую мысл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не только подчеркнуть значение, выраженное словами словами, но и резко изменить его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разорвать смысловые и грамматические связи сл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301680"/>
            <a:ext cx="828828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Московский летописный свод конца 15-го век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827360"/>
            <a:ext cx="8072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имеры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15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То что есть есть того чего нет нет это не то это то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. Стивене. «Математика, измерение и психофизика») </a:t>
            </a: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То, что есть, есть; того, чего нет, нет. Это не то? Это то.</a:t>
            </a:r>
            <a:br>
              <a:rPr sz="1800"/>
            </a:b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Этот человек не раз говорил брату Антон никогда не был учителем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(1. «Этот человек, — не раз говорил брату Антон, — никогда не был учителем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2. Этот человек не раз говорил брату: «Антон никогда не был учителем»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И шла она легко, назад Изгибы длинные чадры Откинув.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    </a:t>
            </a: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( И шла она легко назад, изгибы длинные чадры откину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Я занимался с братом, который был болен английским языком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Хватит жевать давайте чита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Хватит! Жевать давайте, читать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Хватит. Жевать? Давайте! Чит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Хватит жевать – давайте чита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о тропинке к дому шли дедушка Иван Петрович девочка Маша дядя Андрей тетя Анна Ильинична бабушка Даш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оставлю статую золотую пику держащу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Пример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620640"/>
            <a:ext cx="7313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 зале находились Антон три его приятеля Степан Андрей Михаил Ирина сестра Антона и Мария Петров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Очень-очень странный вид: речка за окном гори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Чей-то дом хвостом виляет, пёсик из ружья стреляе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Мальчик чуть не слопал мышку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Кот в очках читает книжку, старый дед влетел в окн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Воробей схватил зерн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Да как крикнет, улетая: «Вот что значит запятая!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ежать нельзя стоять на ме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Лететь невозможно жд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Шибанов молчал. Их пронзённой ног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Кровь алым струилася током… (А.Толсто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готовьтесь боксеры гимнасты борцы на выхо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Verdana"/>
              </a:rPr>
              <a:t> 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А всего лишь одна запятая….)))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Уважаемые сотрудники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В разосланном от имени Генерального директора новогоднем поздравлении допущена опечатка.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Фразу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"С Новым Годом, Свиньи!"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следует читать без запятой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Отдел кадр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93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Функции знаков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репинания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8560" y="5872320"/>
            <a:ext cx="1112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125360"/>
          <a:ext cx="8359560" cy="5214960"/>
        </p:xfrm>
        <a:graphic>
          <a:graphicData uri="http://schemas.openxmlformats.org/drawingml/2006/table">
            <a:tbl>
              <a:tblPr/>
              <a:tblGrid>
                <a:gridCol w="2303280"/>
                <a:gridCol w="6056280"/>
              </a:tblGrid>
              <a:tr h="116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ленение текста на значимые в грамматическом и смысловом отношении част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склицательный 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A. Передают соответствующую интонацию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B. Указывают на целевое назначение предложения или его эмоциональную окраск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просительный 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ноготоч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. Отделительная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. Знак эмоционального напряжения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 Подчеркивает многозначность передаваемого содержания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. Сигнал преднамеренного пропуска часте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4869000"/>
            <a:ext cx="1403280" cy="141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01:09Z</dcterms:created>
  <dc:creator>Евгения</dc:creator>
  <dc:description/>
  <dc:language>en-US</dc:language>
  <cp:lastModifiedBy>Пользователь</cp:lastModifiedBy>
  <dcterms:modified xsi:type="dcterms:W3CDTF">2010-10-18T02:42:56Z</dcterms:modified>
  <cp:revision>33</cp:revision>
  <dc:subject/>
  <dc:title>Слайд 1</dc:title>
</cp:coreProperties>
</file>