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073-4CE8-4409-A1AA-96A31B3E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8535-170F-491B-9408-A836DD07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F66-97E4-4678-91A9-F5B8C5A9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BA19-C3E4-4CF7-87B8-8D28DCE8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9F1A-DA2D-4447-92E9-B064DA6C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EEC6-ABB2-49B6-B2DF-9FF1BA88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8229-89A1-4BFB-A2CA-4746A69F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CC9F-91B1-4517-B932-3F561437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5B87-2683-40B4-80E7-4BD88050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8945-0B8A-44AE-A740-7E1CF0B6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DF3B-DB1E-41F4-B81B-43FB926F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D124-A923-4097-B717-E9A439A8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A673-E3FC-40F0-8D44-9D6EFF97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C71C-19FC-4E40-BFF7-E3CF7C0A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E359-4D13-4280-B91D-35B484B4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69C9-930F-4C4D-9FC3-BA75AC4B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484C-1499-4D35-9435-9E3834C6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D9A9-3703-4243-99E8-3AE95CAD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442-499D-4F29-86E6-223782C4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9DCA-09D1-48F4-AC53-296A0254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963B-078B-4EFA-852E-A31F6D1E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4ABF-DC55-48CB-8BB6-3337E92E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1438-386A-4140-92D4-89FC23BA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C3E6-B587-40A4-809C-FA3C0818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04E8-373D-4C54-95AF-219DA11D6C92}" type="slidenum">
              <a:rPr b="0" lang="en-US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CADA-9323-4079-B5D8-8AE77E123667}" type="slidenum">
              <a:rPr b="0" lang="en-US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7" name="Picture 5" descr="02"/>
          <p:cNvPicPr/>
          <p:nvPr/>
        </p:nvPicPr>
        <p:blipFill>
          <a:blip r:embed="rId3"/>
          <a:stretch/>
        </p:blipFill>
        <p:spPr>
          <a:xfrm>
            <a:off x="468360" y="2637000"/>
            <a:ext cx="3240000" cy="23414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684360" y="5734080"/>
            <a:ext cx="81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95280" y="5589720"/>
            <a:ext cx="8280360" cy="1630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baseline="6000">
                <a:solidFill>
                  <a:srgbClr val="ccffcc"/>
                </a:solidFill>
                <a:latin typeface="Arial"/>
              </a:rPr>
              <a:t>Ларина Асия Уразов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baseline="6000">
                <a:solidFill>
                  <a:srgbClr val="ccffcc"/>
                </a:solidFill>
                <a:latin typeface="Arial"/>
              </a:rPr>
              <a:t>Казань, 20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2d050"/>
                </a:solidFill>
                <a:latin typeface="Constantia"/>
              </a:rPr>
              <a:t>Совет 16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Использование гиперссылки во время показа презентации на уроке бывает просто необходимым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2d050"/>
                </a:solidFill>
                <a:latin typeface="Constantia"/>
              </a:rPr>
              <a:t>Совет 17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Создание гиперссылок в презентации только после окончательной расстановки слайдов и сохранения презентац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57120" y="1500120"/>
            <a:ext cx="8229600" cy="18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ffcc"/>
                </a:solidFill>
                <a:uFillTx/>
                <a:latin typeface="Calibri"/>
              </a:rPr>
              <a:t>Первый титульный</a:t>
            </a:r>
            <a:r>
              <a:rPr b="0" lang="en-US" sz="4000" spc="-1" strike="noStrike">
                <a:solidFill>
                  <a:srgbClr val="ccffcc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слайд содержит название учебного заведения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название проекта, автора проекта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(с указанием класса), город и год</a:t>
            </a: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1" name="Прямоугольник 3" descr=""/>
          <p:cNvPicPr/>
          <p:nvPr/>
        </p:nvPicPr>
        <p:blipFill>
          <a:blip r:embed="rId2"/>
          <a:stretch/>
        </p:blipFill>
        <p:spPr>
          <a:xfrm>
            <a:off x="298440" y="749160"/>
            <a:ext cx="213984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50920" y="45086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ccffcc"/>
                </a:solidFill>
                <a:uFillTx/>
                <a:latin typeface="Calibri"/>
              </a:rPr>
              <a:t>Оглавление</a:t>
            </a: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pic>
        <p:nvPicPr>
          <p:cNvPr id="103" name="Прямоугольник 5" descr=""/>
          <p:cNvPicPr/>
          <p:nvPr/>
        </p:nvPicPr>
        <p:blipFill>
          <a:blip r:embed="rId3"/>
          <a:stretch/>
        </p:blipFill>
        <p:spPr>
          <a:xfrm>
            <a:off x="371520" y="3822840"/>
            <a:ext cx="2195640" cy="7617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179280" y="5229360"/>
            <a:ext cx="8686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8200" indent="-268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лайд-оглавление — содержание презентации с использованием гиперссыл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35000"/>
              </a:lnSpc>
              <a:spcBef>
                <a:spcPts val="700"/>
              </a:spcBef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На каждом слайде необходимо предусмотреть переходы на слайды (настройка действий)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35000"/>
              </a:lnSpc>
              <a:spcBef>
                <a:spcPts val="700"/>
              </a:spcBef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предыдущий и следующий слайды;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35000"/>
              </a:lnSpc>
              <a:spcBef>
                <a:spcPts val="700"/>
              </a:spcBef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слайд-оглавление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35000"/>
              </a:lnSpc>
              <a:spcBef>
                <a:spcPts val="700"/>
              </a:spcBef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возврат на слайд, откуда был вызван подчиненный слайд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6" name="Прямоугольник 3" descr=""/>
          <p:cNvPicPr/>
          <p:nvPr/>
        </p:nvPicPr>
        <p:blipFill>
          <a:blip r:embed="rId2"/>
          <a:stretch/>
        </p:blipFill>
        <p:spPr>
          <a:xfrm>
            <a:off x="371520" y="749160"/>
            <a:ext cx="21826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8584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Презентация на уроке является лишь учебным средством, поэтому она должна быть использована строго по необходимости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Не стоит заполнять один слайд слишком большим объемом информац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225360" y="1109520"/>
            <a:ext cx="2212920" cy="75564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4" descr=""/>
          <p:cNvPicPr/>
          <p:nvPr/>
        </p:nvPicPr>
        <p:blipFill>
          <a:blip r:embed="rId3"/>
          <a:stretch/>
        </p:blipFill>
        <p:spPr>
          <a:xfrm>
            <a:off x="225360" y="3395520"/>
            <a:ext cx="218916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bbb59"/>
                </a:solidFill>
                <a:latin typeface="Constantia"/>
              </a:rPr>
              <a:t>Совет 6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Необходимо обратить внимание на качество изображения, если оно не является высоким, то лучше от него отказаться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bbb59"/>
                </a:solidFill>
                <a:latin typeface="Constantia"/>
              </a:rPr>
              <a:t>Совет 7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Видеофайлы лучше использовать в формате </a:t>
            </a: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MPEG </a:t>
            </a: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или </a:t>
            </a: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AVI</a:t>
            </a: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, длительностью не более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4— 5 минут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0040" indent="3344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bb59"/>
                </a:solidFill>
                <a:latin typeface="Constantia"/>
              </a:rPr>
              <a:t>Совет 8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На однотонном фоне информация воспринимается легч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10040" indent="3344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bb59"/>
                </a:solidFill>
                <a:latin typeface="Constantia"/>
              </a:rPr>
              <a:t>Совет 9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ДЛЯ фона и текста постарайтесь использовать контрастные цвет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10040" indent="3344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bb59"/>
                </a:solidFill>
                <a:latin typeface="Constantia"/>
              </a:rPr>
              <a:t>Совет 10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Всего в презентации психологи рекомендуют использовать не более трех цветов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10040" indent="3344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один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—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для фона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10040" indent="3344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другой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—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для заголовка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10040" indent="3344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третий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—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для текст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10040" indent="3344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bb59"/>
                </a:solidFill>
                <a:latin typeface="Constantia"/>
              </a:rPr>
              <a:t>Совет 11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Для заголовков лучше использовать шрифт не менее 24, для информации — не менее 18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bb59"/>
                </a:solidFill>
                <a:latin typeface="Constantia"/>
              </a:rPr>
              <a:t>Совет 12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Постарайтесь не смешивать разные типы шрифтов в одной презентац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6120">
              <a:spcBef>
                <a:spcPts val="8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2d050"/>
                </a:solidFill>
                <a:latin typeface="Constantia"/>
              </a:rPr>
              <a:t> </a:t>
            </a:r>
            <a:r>
              <a:rPr b="1" lang="en-US" sz="3300" spc="-1" strike="noStrike">
                <a:solidFill>
                  <a:srgbClr val="92d050"/>
                </a:solidFill>
                <a:latin typeface="Constantia"/>
              </a:rPr>
              <a:t>Совет 13 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6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На протяжении всей презентации целесообразнее использовать не более трех видов эффекта анимации: для текста, для построения рисунка и для перемещения объекта в указанном направлен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612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5280" y="1125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68120" indent="-72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2d050"/>
                </a:solidFill>
                <a:latin typeface="Constantia"/>
              </a:rPr>
              <a:t>Совет 14 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168120" indent="-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Самым удачным эффектом при   появлении   нового   текста   является «выцветание» с использованием большо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168120" indent="-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скорост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168120" indent="-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168120" indent="-72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2d050"/>
                </a:solidFill>
                <a:latin typeface="Constantia"/>
              </a:rPr>
              <a:t>Совет 15 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168120" indent="-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Лучше не использовать звуковые эффекты для привлечения внимания к новой информац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9:54:37Z</dcterms:created>
  <dc:creator>Admin</dc:creator>
  <dc:description/>
  <dc:language>en-US</dc:language>
  <cp:lastModifiedBy>IRO RT</cp:lastModifiedBy>
  <dcterms:modified xsi:type="dcterms:W3CDTF">2013-02-25T11:30:26Z</dcterms:modified>
  <cp:revision>16</cp:revision>
  <dc:subject/>
  <dc:title>Советы по созданию презентации</dc:title>
</cp:coreProperties>
</file>