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520-84C1-4B50-B498-DBECD47E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AD5-6E90-4BF3-9D88-FB6A4A3D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EEB-87DE-4788-A91E-2E6AA7D6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1EB-1ED4-4E38-A691-CA9364D7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4957-4F0C-4850-BF2F-8FA3B7D0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7BA6-67A0-471E-9AD6-E86AACB8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3249-8E0D-4F3D-A996-445E1B2E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5170-1433-4C81-ABB0-5D7EE168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04A1-B61A-4979-84D6-BC300A6B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F4DA-2683-4576-8478-38DE729B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A31B-8077-403A-BD2C-7C8C8BBF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F01-0998-4B99-B245-B3D1EB90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7E1B-1BF5-45B3-AA34-2F880112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3AF6-2657-41E7-AE82-44990953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8AFF-1AAE-46EA-A9FE-6E3A01E8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ABE8-2FE1-4D7E-9B2B-8A523F2E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70BE-1F47-4316-9B2B-796E075C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4F4-E1AE-464B-9390-2DF30CFF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69D-2AA5-4D3A-BD64-D9683C34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D57-39B4-4625-A734-D41AE756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B94-FF17-4752-ACD7-6583C9E3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C38-FD94-49BE-8755-96E9474C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A7C-CDA4-4E74-ABCE-63BEADFA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97F-9C37-444B-9D35-DB87EBDF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FF96-E582-425F-A32C-A03DFC4E6DE4}" type="slidenum"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D5B0-FDFD-4CAC-9BB9-B592A45476C3}" type="slidenum"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Picture 5" descr="02"/>
          <p:cNvPicPr/>
          <p:nvPr/>
        </p:nvPicPr>
        <p:blipFill>
          <a:blip r:embed="rId3"/>
          <a:stretch/>
        </p:blipFill>
        <p:spPr>
          <a:xfrm>
            <a:off x="468360" y="2637000"/>
            <a:ext cx="3240000" cy="2341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84360" y="5734080"/>
            <a:ext cx="81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95280" y="5589720"/>
            <a:ext cx="8280360" cy="1630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baseline="6000">
                <a:solidFill>
                  <a:srgbClr val="ccffcc"/>
                </a:solidFill>
                <a:latin typeface="Arial"/>
              </a:rPr>
              <a:t>Ларина Асия Ураз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baseline="6000">
                <a:solidFill>
                  <a:srgbClr val="ccffcc"/>
                </a:solidFill>
                <a:latin typeface="Arial"/>
              </a:rPr>
              <a:t>Казань, 20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Совет 16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Использование гиперссылки во время показа презентации на уроке бывает просто необходимы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Совет 17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Создание гиперссылок в презентации только после окончательной расстановки слайдов и сохранения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cc"/>
                </a:solidFill>
                <a:uFillTx/>
                <a:latin typeface="Calibri"/>
              </a:rPr>
              <a:t>Первый титульный</a:t>
            </a:r>
            <a:r>
              <a:rPr b="0" lang="en-US" sz="4000" spc="-1" strike="noStrike">
                <a:solidFill>
                  <a:srgbClr val="ccff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слайд содержит название учебного заведения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название проекта, автора проекта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(с указанием класса), город и год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298440" y="749160"/>
            <a:ext cx="213984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50920" y="45086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ccffcc"/>
                </a:solidFill>
                <a:uFillTx/>
                <a:latin typeface="Calibri"/>
              </a:rPr>
              <a:t>Оглавление</a:t>
            </a:r>
            <a:endParaRPr b="0" lang="en-US" sz="4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03" name="Прямоугольник 5" descr=""/>
          <p:cNvPicPr/>
          <p:nvPr/>
        </p:nvPicPr>
        <p:blipFill>
          <a:blip r:embed="rId3"/>
          <a:stretch/>
        </p:blipFill>
        <p:spPr>
          <a:xfrm>
            <a:off x="371520" y="3822840"/>
            <a:ext cx="2195640" cy="761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179280" y="5229360"/>
            <a:ext cx="8686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лайд-оглавление — содержание презентации с использованием гиперссыл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5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На каждом слайде необходимо предусмотреть переходы на слайды (настройка действий)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предыдущий и следующий слайды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слайд-оглавление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возврат на слайд, откуда был вызван подчиненный слайд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6" name="Прямоугольник 3" descr=""/>
          <p:cNvPicPr/>
          <p:nvPr/>
        </p:nvPicPr>
        <p:blipFill>
          <a:blip r:embed="rId2"/>
          <a:stretch/>
        </p:blipFill>
        <p:spPr>
          <a:xfrm>
            <a:off x="371520" y="749160"/>
            <a:ext cx="2182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8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Презентация на уроке является лишь учебным средством, поэтому она должна быть использована строго по необходимости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Не стоит заполнять один слайд слишком большим объемом информ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225360" y="1109520"/>
            <a:ext cx="221292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4" descr=""/>
          <p:cNvPicPr/>
          <p:nvPr/>
        </p:nvPicPr>
        <p:blipFill>
          <a:blip r:embed="rId3"/>
          <a:stretch/>
        </p:blipFill>
        <p:spPr>
          <a:xfrm>
            <a:off x="225360" y="3395520"/>
            <a:ext cx="21891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bb59"/>
                </a:solidFill>
                <a:latin typeface="Constantia"/>
              </a:rPr>
              <a:t>Совет 6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обходимо обратить внимание на качество изображения, если оно не является высоким, то лучше от него отказатьс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bb59"/>
                </a:solidFill>
                <a:latin typeface="Constantia"/>
              </a:rPr>
              <a:t>Совет 7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Видеофайлы лучше использовать в формате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MPEG 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или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AVI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, длительностью не более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4— 5 мину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Constantia"/>
              </a:rPr>
              <a:t>Совет 8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На однотонном фоне информация воспринимается легч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Constantia"/>
              </a:rPr>
              <a:t>Совет 9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ДЛЯ фона и текста постарайтесь использовать контрастные цвет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Constantia"/>
              </a:rPr>
              <a:t>Совет 10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Всего в презентации психологи рекомендуют использовать не более трех цветов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один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для фон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другой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для заголовк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третий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для текст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0040" indent="33444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Constantia"/>
              </a:rPr>
              <a:t>Совет 11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Для заголовков лучше использовать шрифт не менее 24, для информации — не менее 18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Constantia"/>
              </a:rPr>
              <a:t>Совет 12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Постарайтесь не смешивать разные типы шрифтов в одной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6120">
              <a:spcBef>
                <a:spcPts val="8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 </a:t>
            </a: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Совет 13 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6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На протяжении всей презентации целесообразнее использовать не более трех видов эффекта анимации: для текста, для построения рисунка и для перемещения объекта в указанном направл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612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125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8120" indent="-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Совет 14 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168120" indent="-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Самым удачным эффектом при   появлении   нового   текста   является «выцветание» с использованием большо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68120" indent="-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скорост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68120" indent="-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68120" indent="-72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2d050"/>
                </a:solidFill>
                <a:latin typeface="Constantia"/>
              </a:rPr>
              <a:t>Совет 15 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168120" indent="-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Лучше не использовать звуковые эффекты для привлечения внимания к новой информ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9:54:37Z</dcterms:created>
  <dc:creator>Admin</dc:creator>
  <dc:description/>
  <dc:language>en-US</dc:language>
  <cp:lastModifiedBy>IRO RT</cp:lastModifiedBy>
  <dcterms:modified xsi:type="dcterms:W3CDTF">2013-02-25T11:30:26Z</dcterms:modified>
  <cp:revision>16</cp:revision>
  <dc:subject/>
  <dc:title>Советы по созданию презентации</dc:title>
</cp:coreProperties>
</file>