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A948-F64D-4327-9652-5B147ADD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A8D0-98F7-452A-B7E0-8E814CC0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825E-8E09-4C2C-BB58-7C8F7AAC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3FD5-8FD2-4AB6-B103-B0AFF26F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83F2-A185-4B66-9F42-EF2E9944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5025-BB04-444F-BB3A-41BE6A46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7A80-AD7D-43D6-AADF-26FB5F9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FBF0-462E-4F1C-8C09-AD90B213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8DCF-C538-428E-B477-A87E567E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31D9-7035-46FD-942B-AD0109C2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371A-066F-454E-B9A7-856E677C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0BFA-685B-46D8-ADA8-E7EB632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B537-83E7-4C74-AEBA-68F78424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F770-B7CD-4C29-AFD9-31DB809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08D0-BCF9-481D-8E0A-A343932B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E8AC-0471-4ED1-894E-2E89A565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0439-D62D-48D1-B02A-2DF69950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8001-DEB3-4E3B-B16C-E9CBBFCE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9D93-D11F-4039-BC55-EFD2177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6CC6-A765-4AD0-91C2-BF2E9BD8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2BF9-2C65-4CC6-BAEC-480A93D8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1DF5-DEAA-4D21-8BBC-FF7B4282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426F-06C4-4AD3-93DB-9F49B75B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685C-BB92-4B17-A5FE-3AC0F98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FA32-8936-4931-B5CE-F5320F565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483E-3BD3-431A-B093-216812262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 «Частное прав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Предпринимательские правоотноше-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Юридические лица как субъекты гражданских право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Трудовое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Семейное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Юридические лица как субъекты гражданских правоотно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пишите схему в рабочую тетрадь и опишите виды и формы коммерческих организаций с помощью учебника, охарактеризуйте способы распределения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тр. 34-3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Юридические лица как субъекты гражданских правоотношени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2349360"/>
            <a:ext cx="2160360" cy="6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Юрид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836640"/>
            <a:ext cx="1924200" cy="1368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сударств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уницип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нитар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дприят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981000"/>
            <a:ext cx="20872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зводств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о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500280"/>
            <a:ext cx="163512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3573360"/>
            <a:ext cx="18507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зяй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вари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581360"/>
            <a:ext cx="201780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еств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гранич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653000"/>
            <a:ext cx="180036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ционе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421000"/>
            <a:ext cx="2232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ер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3640" y="2276640"/>
            <a:ext cx="2303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ммер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6165720"/>
            <a:ext cx="16556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3280" y="6165720"/>
            <a:ext cx="158256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ы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907920"/>
            <a:ext cx="23032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ите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о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3573360"/>
            <a:ext cx="180036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е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3080" y="3573360"/>
            <a:ext cx="158256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лигио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87280" y="263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96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867280" y="2924280"/>
            <a:ext cx="1657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2924280"/>
            <a:ext cx="360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476000" y="2205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050920" y="1773000"/>
            <a:ext cx="136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42560" y="292428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2924280"/>
            <a:ext cx="1441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10920" y="422100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221000"/>
            <a:ext cx="2305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258560" y="5373720"/>
            <a:ext cx="23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537372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.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. Стр. 32-3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Предпринимательские правоот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10" name="_s719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7192"/>
            <p:cNvCxnSpPr>
              <a:stCxn id="114" idx="0"/>
              <a:endCxn id="112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7191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718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дприн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а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718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ндивидуаль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718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артнер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719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орпоратив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57320" y="1524240"/>
            <a:ext cx="8471520" cy="4704840"/>
            <a:chOff x="157320" y="1524240"/>
            <a:chExt cx="8471520" cy="4704840"/>
          </a:xfrm>
        </p:grpSpPr>
        <p:sp>
          <p:nvSpPr>
            <p:cNvPr id="120" name=""/>
            <p:cNvSpPr/>
            <p:nvPr/>
          </p:nvSpPr>
          <p:spPr>
            <a:xfrm>
              <a:off x="157320" y="3093120"/>
              <a:ext cx="2196000" cy="10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ъекты гражданск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а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35040" y="1524240"/>
              <a:ext cx="4236480" cy="141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353320" y="2465640"/>
              <a:ext cx="1881360" cy="10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35040" y="1524240"/>
              <a:ext cx="4393800" cy="2039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Физические лица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юд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есто жи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авоспособ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ееспособ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35040" y="4347000"/>
              <a:ext cx="4392360" cy="17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53320" y="3563280"/>
              <a:ext cx="1881360" cy="156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35040" y="4347000"/>
              <a:ext cx="4392360" cy="188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Юридические л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особленное имущ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именование, адре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чёт в бан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трук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способн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пособность лица иметь права и обязанности. У физического лица возникает с момента рождения. У юридического – одновременно с возникновением дееспособности, т.е. с момента реги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.18 ГК РФ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меть имущество на праве соб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следовать по завещ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Заниматься предпринимательством и любой др. деятель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Совершать любые не противоречащие закону сде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Избирать место жи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Иметь авторские и иные имущественные и неимущественные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ееспособност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о способность гражданина своими действиями приобретать и осуществлять гражданские права., создавать гражданские обязанности и  осуществлять их. (ст. 21 ГК РФ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лная дее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Б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раст 1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споряжаться своим заработком, дох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быть автором произведения науки, литературы и искус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носить вклады в кредитные учрежд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оряжаться 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ет самостоятельно устраиваться на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1267920"/>
            <a:ext cx="230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27280" y="1557360"/>
            <a:ext cx="432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 26 ГК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14 до 1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делки, направленные на безвозмездное получение выгоды, если это не требует  нотариального заверения либо государственной регистра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елки по распоряжению средствами, предоставленными законными  представителями для свободного распоря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ряжаться своими заработками, стипенд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Правоспособность и дееспособнос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гут ли малолетние д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до 14 лет) выступать субъектами правоотноше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6:12:13Z</dcterms:created>
  <dc:creator>Костромина МГ</dc:creator>
  <dc:description/>
  <dc:language>en-US</dc:language>
  <cp:lastModifiedBy>Костромина МГ</cp:lastModifiedBy>
  <dcterms:modified xsi:type="dcterms:W3CDTF">2010-10-13T04:32:48Z</dcterms:modified>
  <cp:revision>9</cp:revision>
  <dc:subject/>
  <dc:title>Тема: «Частное право».</dc:title>
</cp:coreProperties>
</file>