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C50B1-B581-4B29-A863-B43D5A28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2D086-D736-433A-988E-F045A734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C3249-223D-4F7D-9169-5CB820A1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835FE-722F-4EA1-97A3-A3C2B91F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C08F-21FF-4687-AC7C-A9125E35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C36A-7DF1-4E73-B502-221BEA9E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CAB8-1984-43CF-952D-F9C34E9E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DAA3-37A9-4875-8319-79B9F04D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A3CC-D8DA-476E-BB0C-34A313FB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B51F-9109-43FF-952E-5CF3C823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416F-8932-4526-96BF-BC1A2250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C610-B8D1-43D4-AC32-4770E02E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9787-C82D-4EFD-BF92-4B812901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7211-BA0E-4F16-9973-6219C239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AD97-52F8-4E68-A07A-6FBE9F6B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6BFD-436B-455E-8B90-04A50B30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F343-34BC-4318-8B34-7FD69644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914E7-6091-41F9-B204-E3BB4A41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146C4-8516-44CA-B8C6-1C4262AD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DED73-4456-4E8A-BC5B-6A37B1E5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CCE6F-94F7-47C4-9C5F-FC7ECEE7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3E53B-B1E7-4F0D-B839-D4300BEC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D5CE4-6E77-47CF-A466-029A73D3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AAB0A-4418-4BCA-A2C5-901F1B4E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84A0-81D4-4C20-826B-88D41B03DE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5463-397F-4F01-BED0-13DB72C537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: «Частное право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Предпринимательские правоотноше-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Правоспособность и дееспособ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Юридические лица как субъекты гражданских правоотно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Трудовое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 Семейное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Юридические лица как субъекты гражданских правоотно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апишите схему в рабочую тетрадь и опишите виды и формы коммерческих организаций с помощью учебника, охарактеризуйте способы распределения собств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тр. 34-3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Юридические лица как субъекты гражданских правоотношени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80000" y="2349360"/>
            <a:ext cx="2160360" cy="6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Юрид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836640"/>
            <a:ext cx="1924200" cy="1368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сударствен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униципа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нитар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дприят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981000"/>
            <a:ext cx="208728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изводствен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опера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3500280"/>
            <a:ext cx="163512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е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56000" y="3573360"/>
            <a:ext cx="185076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зяйств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вари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4581360"/>
            <a:ext cx="2017800" cy="93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щества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гранич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тствен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4653000"/>
            <a:ext cx="180036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кционер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421000"/>
            <a:ext cx="2232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ер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3640" y="2276640"/>
            <a:ext cx="2303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коммер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6165720"/>
            <a:ext cx="16556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ры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3280" y="6165720"/>
            <a:ext cx="158256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ры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72360" y="907920"/>
            <a:ext cx="230328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требитель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опера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03640" y="3573360"/>
            <a:ext cx="180036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ществ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93080" y="3573360"/>
            <a:ext cx="158256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лигиоз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ъ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40360" y="263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987280" y="2637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596360" y="1699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867280" y="2924280"/>
            <a:ext cx="1657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24720" y="2924280"/>
            <a:ext cx="360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476000" y="220500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050920" y="1773000"/>
            <a:ext cx="136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042560" y="292428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35280" y="2924280"/>
            <a:ext cx="1441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10920" y="422100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4221000"/>
            <a:ext cx="2305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258560" y="5373720"/>
            <a:ext cx="237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64000" y="5373720"/>
            <a:ext cx="21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.З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. Стр. 32-3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Предпринимательские правоотно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110" name="_s7193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7192"/>
            <p:cNvCxnSpPr>
              <a:stCxn id="114" idx="0"/>
              <a:endCxn id="112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7191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2" name="_s7187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Формы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редприни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матель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7188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Индивидуаль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7189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артнерск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7190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орпоратив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равоспособность и дееспособност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57320" y="1524240"/>
            <a:ext cx="8471520" cy="4704840"/>
            <a:chOff x="157320" y="1524240"/>
            <a:chExt cx="8471520" cy="4704840"/>
          </a:xfrm>
        </p:grpSpPr>
        <p:sp>
          <p:nvSpPr>
            <p:cNvPr id="120" name=""/>
            <p:cNvSpPr/>
            <p:nvPr/>
          </p:nvSpPr>
          <p:spPr>
            <a:xfrm>
              <a:off x="157320" y="3093120"/>
              <a:ext cx="2196000" cy="10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убъекты гражданск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а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35040" y="1524240"/>
              <a:ext cx="4236480" cy="141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353320" y="2465640"/>
              <a:ext cx="1881360" cy="109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35040" y="1524240"/>
              <a:ext cx="4393800" cy="2039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Физические лица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Люд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м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Место житель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авоспособ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Дееспособ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35040" y="4347000"/>
              <a:ext cx="4392360" cy="17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53320" y="3563280"/>
              <a:ext cx="1881360" cy="156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35040" y="4347000"/>
              <a:ext cx="4392360" cy="188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Юридические лиц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рган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бособленное имуще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Наименование, адре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чёт в банк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трукту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равоспособность и дееспособност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оспособност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способность лица иметь права и обязанности. У физического лица возникает с момента рождения. У юридического – одновременно с возникновением дееспособности, т.е. с момента регист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.18 ГК РФ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Иметь имущество на праве собств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Наследовать по завещ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Заниматься предпринимательством и любой др. деятель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Совершать любые не противоречащие закону сде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Избирать место житель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Иметь авторские и иные имущественные и неимущественные пр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Правоспособность и дееспособност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ееспособность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то способность гражданина своими действиями приобретать и осуществлять гражданские права., создавать гражданские обязанности и  осуществлять их. (ст. 21 ГК РФ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равоспособность и дееспособност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лная дееспособ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БР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раст 18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распоряжаться своим заработком, доход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быть автором произведения науки, литературы и искус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вносить вклады в кредитные учрежд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оряжаться 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овершать мелкие бытовые сдел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ожет самостоятельно устраиваться на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572000" y="1267920"/>
            <a:ext cx="2305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627280" y="1557360"/>
            <a:ext cx="432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авоспособность и дееспособно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 26 ГК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14 до 18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овершать мелкие бытовые сдел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делки, направленные на безвозмездное получение выгоды, если это не требует  нотариального заверения либо государственной регистраци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делки по распоряжению средствами, предоставленными законными  представителями для свободного распоря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оряжаться своими заработками, стипенд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Правоспособность и дееспособность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гут ли малолетние д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до 14 лет) выступать субъектами правоотношени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6:12:13Z</dcterms:created>
  <dc:creator>Костромина МГ</dc:creator>
  <dc:description/>
  <dc:language>en-US</dc:language>
  <cp:lastModifiedBy>Костромина МГ</cp:lastModifiedBy>
  <dcterms:modified xsi:type="dcterms:W3CDTF">2010-10-13T04:32:48Z</dcterms:modified>
  <cp:revision>9</cp:revision>
  <dc:subject/>
  <dc:title>Тема: «Частное право».</dc:title>
</cp:coreProperties>
</file>