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4F2-42F8-4EF8-A163-B1449786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B62-1CA3-4F4C-8487-E13ADCB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459-A2AC-4811-B917-AD4CE6BC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E9E-8617-4D1E-9CFF-11E0A24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95D-422B-46A9-9394-62896AEA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60A-41D4-4073-BDCC-155BC23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C3D-A0CB-44E8-9C9E-6849C378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6AB-7D7D-4A3A-B550-AF854F58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DE5-AB5C-41C4-B333-A6A9D180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A92-E5E8-4B00-AB24-6C73551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3A9-046D-4BEE-85D0-ED04E5B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41A-C06D-45B1-B9D6-76F5D7A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41D-57CC-4E46-B4CD-E0E0B474D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Расширение ареала цивилиз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ть причины слабости древних деспотий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Дать характеристику Древним государствам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Выявить отличия новых религий от прежних вер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Продолжить формирование умений учащихся систематизировть исторический материал в виде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files-kr\Задача 37\Confucius.jpg"/>
          <p:cNvPicPr/>
          <p:nvPr/>
        </p:nvPicPr>
        <p:blipFill>
          <a:blip r:embed="rId1"/>
          <a:stretch/>
        </p:blipFill>
        <p:spPr>
          <a:xfrm>
            <a:off x="250920" y="1557360"/>
            <a:ext cx="2790720" cy="3816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0" name="Rectangle 5"/>
          <p:cNvSpPr/>
          <p:nvPr/>
        </p:nvSpPr>
        <p:spPr>
          <a:xfrm>
            <a:off x="1045440" y="558972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фу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995640" y="1700280"/>
            <a:ext cx="456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Власть у родственников Вана. Затем- 200 госуд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поха Восточного Чж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(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770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- 256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 –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гг. до н. э.)</a:t>
            </a: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 – столица – Лои. Войны и заговоры. Число царств –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Тягловый скот. Ирригация. Население на ра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Конфуцианство. Даосизм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Конфуций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(551- 479 гг. до н. э.)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c422f"/>
                </a:solidFill>
                <a:latin typeface="Arial"/>
              </a:rPr>
              <a:t>– Власть – мудрецам. «Золотой век» в прошлом. Книги. Старики. Государст-во – се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1\Desktop\u91_0101_huandi.jpg"/>
          <p:cNvPicPr/>
          <p:nvPr/>
        </p:nvPicPr>
        <p:blipFill>
          <a:blip r:embed="rId1"/>
          <a:stretch/>
        </p:blipFill>
        <p:spPr>
          <a:xfrm>
            <a:off x="468360" y="1341360"/>
            <a:ext cx="3382920" cy="3888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4" name="Rectangle 5"/>
          <p:cNvSpPr/>
          <p:nvPr/>
        </p:nvSpPr>
        <p:spPr>
          <a:xfrm>
            <a:off x="1187280" y="56610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ин Шиху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995640" y="134136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мперия Ц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(221 – 226 гг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Ин Чжен (Цин Шихуанди) объединил Кит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Реформы – система мер ве-сов денег, упрощена письме-нность, единые законы, лик-видация книг Конфуция, ос-лабление знати – центра-лизованное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мперия 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(202 – г. до н. э. – 220 г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Лю Бан (Гао-цзу) – начало династии. Смягчение зако-нод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C:\Users\1\Desktop\1153290639_mutianyu.jpg"/>
          <p:cNvPicPr/>
          <p:nvPr/>
        </p:nvPicPr>
        <p:blipFill>
          <a:blip r:embed="rId1"/>
          <a:stretch/>
        </p:blipFill>
        <p:spPr>
          <a:xfrm>
            <a:off x="395280" y="476280"/>
            <a:ext cx="3605400" cy="5040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77" name="Rectangle 5"/>
          <p:cNvSpPr/>
          <p:nvPr/>
        </p:nvSpPr>
        <p:spPr>
          <a:xfrm>
            <a:off x="473760" y="58053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еликая китайская с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284720" y="476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-ди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140 - 87 гг. до н. э.)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 конфуцианство – государст-венная религия. Экзамены для чиновников (люб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Великий шелковый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В нач. н. э. – войны с кочевниками. Торговля (Рим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184 г.</a:t>
            </a:r>
            <a:r>
              <a:rPr b="1" lang="ru-RU" sz="2400" spc="-1" strike="noStrike" u="sng">
                <a:solidFill>
                  <a:srgbClr val="6c422f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восстание «желтых повяз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настия Хань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расцвет культуры (китайская античность). Бумага, компас. Философско – этические 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ки слабости деспотий древ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Военные деспотии Древнего ми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Новый этап духов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ebe6"/>
          </a:solidFill>
          <a:ln w="28440">
            <a:solidFill>
              <a:srgbClr val="b55b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0920" y="1700280"/>
          <a:ext cx="8893080" cy="4100400"/>
        </p:xfrm>
        <a:graphic>
          <a:graphicData uri="http://schemas.openxmlformats.org/drawingml/2006/table">
            <a:tbl>
              <a:tblPr/>
              <a:tblGrid>
                <a:gridCol w="3209760"/>
                <a:gridCol w="1830600"/>
                <a:gridCol w="1927080"/>
                <a:gridCol w="19256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ер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9d3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ронологические ра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ри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снов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бществен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8f5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уховная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0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ерсидская держава Ахмен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files-kr\задача 29\картаr.bmp"/>
          <p:cNvPicPr/>
          <p:nvPr/>
        </p:nvPicPr>
        <p:blipFill>
          <a:blip r:embed="rId1"/>
          <a:srcRect l="23801" t="0" r="0" b="0"/>
          <a:stretch/>
        </p:blipFill>
        <p:spPr>
          <a:xfrm>
            <a:off x="324000" y="1700280"/>
            <a:ext cx="4032000" cy="4537080"/>
          </a:xfrm>
          <a:prstGeom prst="rect">
            <a:avLst/>
          </a:prstGeom>
          <a:ln w="57240">
            <a:solidFill>
              <a:srgbClr val="19194d"/>
            </a:solidFill>
            <a:miter/>
          </a:ln>
        </p:spPr>
      </p:pic>
      <p:sp>
        <p:nvSpPr>
          <p:cNvPr id="49" name="Rectangle 5"/>
          <p:cNvSpPr/>
          <p:nvPr/>
        </p:nvSpPr>
        <p:spPr>
          <a:xfrm>
            <a:off x="4427640" y="1773360"/>
            <a:ext cx="43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идийск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Столица – Эк-батаны. Земли Малой и Ср. Азии. Конные луч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550 г. до н.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– Кир </a:t>
            </a:r>
            <a:r>
              <a:rPr b="1" lang="en-US" sz="2000" spc="-1" strike="noStrike">
                <a:solidFill>
                  <a:srgbClr val="6c422f"/>
                </a:solidFill>
                <a:latin typeface="Arial"/>
              </a:rPr>
              <a:t>II –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Ахменид. + запад М. Азии + Египет. Восточная деспотия. Столица Сузы – Персеполь. Персы – правящий народ. Обу чение – Верховая езда, стрельба из лука, правди-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Зороастризм. Мир – борьба Хаоса и Света. «Аве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ерсидская держава Ахмен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files-kr\Задача 57\Альбрехт Альтдорфер. Битва Александра Македонского с Дарием. 1529. Старая пинакотека. Мюнхен.jpg"/>
          <p:cNvPicPr/>
          <p:nvPr/>
        </p:nvPicPr>
        <p:blipFill>
          <a:blip r:embed="rId1"/>
          <a:stretch/>
        </p:blipFill>
        <p:spPr>
          <a:xfrm>
            <a:off x="250920" y="1341360"/>
            <a:ext cx="3504960" cy="5112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3924360" y="141300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арий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6c422f"/>
                </a:solidFill>
                <a:latin typeface="Arial"/>
              </a:rPr>
              <a:t>–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(522 – 486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гг. до н. э.).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20 округов – Сатрапы (суд, налоги, дороги, каналы и т. д). Армия – военачальник. Единая монета – золотой д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Канцелярии (центр, на местах). Тайные осведомители. Верховный контроль – Ха-зарап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V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войны с гре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330 г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пала под ударом Александра Македо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ревняя 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files-kr\Задача 31\HAR-3.jpg"/>
          <p:cNvPicPr/>
          <p:nvPr/>
        </p:nvPicPr>
        <p:blipFill>
          <a:blip r:embed="rId1"/>
          <a:stretch/>
        </p:blipFill>
        <p:spPr>
          <a:xfrm>
            <a:off x="468360" y="1341360"/>
            <a:ext cx="3529080" cy="44640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5" name="Rectangle 5"/>
          <p:cNvSpPr/>
          <p:nvPr/>
        </p:nvSpPr>
        <p:spPr>
          <a:xfrm>
            <a:off x="395280" y="5950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Хара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временная реко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284720" y="1197000"/>
            <a:ext cx="4174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Хараппская циви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XIV – XV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-  бассейн Инда. Махенджо- Даро и Хараппа. Городская планировка. Канализация. Бронза. Хлопок. Письменность. Торговля с Передней Аз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до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II – 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тыс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6c422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Исто-рия в Ведах. Оседлость (рис, железные орудия. Государ-ства Магадха и Кошала – войны. «Махабхарата» и «Рамая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files-kr\Задача 32\ashoka.jpg"/>
          <p:cNvPicPr/>
          <p:nvPr/>
        </p:nvPicPr>
        <p:blipFill>
          <a:blip r:embed="rId1"/>
          <a:stretch/>
        </p:blipFill>
        <p:spPr>
          <a:xfrm>
            <a:off x="324000" y="260280"/>
            <a:ext cx="3743280" cy="547380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58" name="TextBox 4"/>
          <p:cNvSpPr/>
          <p:nvPr/>
        </p:nvSpPr>
        <p:spPr>
          <a:xfrm>
            <a:off x="179280" y="5805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ш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ржава Маур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IV – II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в. до н. э.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 династия Нандов – объединила ст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317 – 180 гг. до н. э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– Динас-тия Маурьев. Столица – Паталипу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Ашока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(268-231 гг до н. э.)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 –расцвет. Эдикты. Ограниче-ние власти царя (совет). Поддержка будд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арн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Брахманы, воины, вайшья, шудры. Ка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Основа экономики – труд общинников. Рабы. Батр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Древняя И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files-kr\Задача 34\BUDDST4..gif"/>
          <p:cNvPicPr/>
          <p:nvPr/>
        </p:nvPicPr>
        <p:blipFill>
          <a:blip r:embed="rId1"/>
          <a:stretch/>
        </p:blipFill>
        <p:spPr>
          <a:xfrm>
            <a:off x="250920" y="1700280"/>
            <a:ext cx="3384360" cy="3357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334160" y="544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уд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564000" y="1268280"/>
            <a:ext cx="529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едически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Индра (царь богов. Агни (бог огня). Сурья (бог солнца). Брахма-н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Индуиз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Шива (круговорот жизни и смерти). Вишну – хранитель мирового равновесия. Ка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Буддиз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Сиддхартхи Гаутама. Жизнь – страдание. Освобождение – нир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ушанская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Н.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тыс.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6c422f"/>
                </a:solidFill>
                <a:latin typeface="Arial"/>
              </a:rPr>
              <a:t>Династия гуптов – Сев. Индия. Взлет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Древний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1\Desktop\1236327252b703.jpg"/>
          <p:cNvPicPr/>
          <p:nvPr/>
        </p:nvPicPr>
        <p:blipFill>
          <a:blip r:embed="rId1"/>
          <a:srcRect l="1863" t="6000" r="38604" b="12000"/>
          <a:stretch/>
        </p:blipFill>
        <p:spPr>
          <a:xfrm>
            <a:off x="324000" y="1268280"/>
            <a:ext cx="3960720" cy="4032360"/>
          </a:xfrm>
          <a:prstGeom prst="rect">
            <a:avLst/>
          </a:prstGeom>
          <a:ln w="57240">
            <a:solidFill>
              <a:srgbClr val="161645"/>
            </a:solidFill>
            <a:miter/>
          </a:ln>
        </p:spPr>
      </p:pic>
      <p:sp>
        <p:nvSpPr>
          <p:cNvPr id="66" name="Rectangle 5"/>
          <p:cNvSpPr/>
          <p:nvPr/>
        </p:nvSpPr>
        <p:spPr>
          <a:xfrm>
            <a:off x="831600" y="573408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тай во времена Чж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0" y="1341360"/>
            <a:ext cx="424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III –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итай во времена Чжоу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 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тыс. до н. э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– зарож-дение государ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Эпоха Ш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VII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XI –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Среднее течение Хуанхэ. Власть у Ван. Столица – Шан. Бронза. Шелк. Иероглифы. Жертвоприно-шения в усыпальн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Эпоха Западного Чж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(XI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VII –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вв. до н. э.)</a:t>
            </a:r>
            <a:r>
              <a:rPr b="1" lang="ru-RU" sz="2000" spc="-1" strike="noStrike">
                <a:solidFill>
                  <a:srgbClr val="6c422f"/>
                </a:solidFill>
                <a:latin typeface="Arial"/>
              </a:rPr>
              <a:t> – племена Чжоу. Ассимили-ровались в культуру Шан. Правитель Сын Неба, вла-дыка Поднебесн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25:07Z</dcterms:created>
  <dc:creator>Костромина МГ</dc:creator>
  <dc:description/>
  <dc:language>en-US</dc:language>
  <cp:lastModifiedBy>Admin</cp:lastModifiedBy>
  <dcterms:modified xsi:type="dcterms:W3CDTF">2010-10-13T14:43:45Z</dcterms:modified>
  <cp:revision>6</cp:revision>
  <dc:subject/>
  <dc:title>Тема: Расширение ареала цивилизации.</dc:title>
</cp:coreProperties>
</file>