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2.gif" ContentType="image/gif"/>
  <Override PartName="/ppt/media/image9.jpeg" ContentType="image/jpeg"/>
  <Override PartName="/ppt/media/image1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4.png" ContentType="image/png"/>
  <Override PartName="/ppt/media/image5.gif" ContentType="image/gif"/>
  <Override PartName="/ppt/media/image16.jpeg" ContentType="image/jpeg"/>
  <Override PartName="/ppt/media/image15.jpeg" ContentType="image/jpeg"/>
  <Override PartName="/ppt/media/image7.jpeg" ContentType="image/jpeg"/>
  <Override PartName="/ppt/media/image12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AFD0-58E8-46A5-916A-F5B22B1D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4666-743F-46F8-951B-4AE2456D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24B0-7E18-405D-878E-E54DF9A8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AFA1-EFC7-471E-8D97-30FDF8E24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9C95-AA2C-471E-942F-837693E7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E1A6-9BE4-40F0-B22E-CD0AFBDB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3499-C1C2-403F-9D16-F3C6A220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268E-538A-41BB-B3B5-75CF8F4D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DD31-703E-43C6-A9F2-BF5EC6F5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084E-1D00-4195-A18A-63155E10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CCE4-9ED5-4730-B9B8-33D3DE2A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BC16-0364-4E4D-BBB0-74A941E2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1529-D3F6-416D-832B-1C0F125ACE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http://www.solnet.ee/sol/001/s_341.html" TargetMode="External"/><Relationship Id="rId4" Type="http://schemas.openxmlformats.org/officeDocument/2006/relationships/hyperlink" Target="http://www.lenagold.ru/" TargetMode="External"/><Relationship Id="rId5" Type="http://schemas.openxmlformats.org/officeDocument/2006/relationships/hyperlink" Target="http://www.kalyamalya.ru/modules/myarticles/article.php?storyid=106" TargetMode="External"/><Relationship Id="rId6" Type="http://schemas.openxmlformats.org/officeDocument/2006/relationships/image" Target="../media/image2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65"/>
          <p:cNvPicPr/>
          <p:nvPr/>
        </p:nvPicPr>
        <p:blipFill>
          <a:blip r:embed="rId1"/>
          <a:stretch/>
        </p:blipFill>
        <p:spPr>
          <a:xfrm>
            <a:off x="0" y="4962600"/>
            <a:ext cx="2743200" cy="1895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borb26"/>
          <p:cNvPicPr/>
          <p:nvPr/>
        </p:nvPicPr>
        <p:blipFill>
          <a:blip r:embed="rId2"/>
          <a:stretch/>
        </p:blipFill>
        <p:spPr>
          <a:xfrm>
            <a:off x="7391520" y="4724280"/>
            <a:ext cx="1358640" cy="1419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28316"/>
          <p:cNvPicPr/>
          <p:nvPr/>
        </p:nvPicPr>
        <p:blipFill>
          <a:blip r:embed="rId3"/>
          <a:stretch/>
        </p:blipFill>
        <p:spPr>
          <a:xfrm>
            <a:off x="2819520" y="5105520"/>
            <a:ext cx="4800600" cy="1752480"/>
          </a:xfrm>
          <a:prstGeom prst="rect">
            <a:avLst/>
          </a:prstGeom>
          <a:ln w="0">
            <a:noFill/>
          </a:ln>
        </p:spPr>
      </p:pic>
      <p:sp>
        <p:nvSpPr>
          <p:cNvPr id="44" name="WordArt 12"/>
          <p:cNvSpPr txBox="1"/>
          <p:nvPr/>
        </p:nvSpPr>
        <p:spPr>
          <a:xfrm>
            <a:off x="1143000" y="1066680"/>
            <a:ext cx="723888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59268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"/>
              </a:rPr>
              <a:t> </a:t>
            </a:r>
            <a:r>
              <a:rPr b="0" i="1" lang="en-US" sz="4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Урок рисования в 1 классе </a:t>
            </a:r>
            <a:endParaRPr b="0" i="1" lang="en-US" sz="4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45" name="WordArt 13"/>
          <p:cNvSpPr txBox="1"/>
          <p:nvPr/>
        </p:nvSpPr>
        <p:spPr>
          <a:xfrm>
            <a:off x="0" y="1676520"/>
            <a:ext cx="9144000" cy="18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Georgia"/>
              </a:rPr>
              <a:t> </a:t>
            </a: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Georgia"/>
              </a:rPr>
              <a:t>Тема: 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Georgia"/>
              <a:ea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latin typeface="Georgia"/>
              </a:rPr>
              <a:t>Красоту надо замечать. 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stretch/>
              </a:blipFill>
              <a:latin typeface="Georgia"/>
              <a:ea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latin typeface="Georgia"/>
              </a:rPr>
              <a:t>Узоры на крыльях.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stretch/>
              </a:blipFill>
              <a:latin typeface="Georgia"/>
              <a:ea typeface="Georgia"/>
            </a:endParaRPr>
          </a:p>
        </p:txBody>
      </p:sp>
      <p:sp>
        <p:nvSpPr>
          <p:cNvPr id="46" name="Rectangle 15"/>
          <p:cNvSpPr/>
          <p:nvPr/>
        </p:nvSpPr>
        <p:spPr>
          <a:xfrm>
            <a:off x="915840" y="177840"/>
            <a:ext cx="74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ОУ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ршовская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Ш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ни Героя Советского Союза Васил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я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бричн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2286000" y="3809880"/>
            <a:ext cx="457200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: Кириллова Н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. Ершово – 2012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9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238880" cy="5508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оение бабо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3124080" cy="2862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5105520" y="228600"/>
            <a:ext cx="3429000" cy="2895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3124080" cy="3200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4"/>
          <a:stretch/>
        </p:blipFill>
        <p:spPr>
          <a:xfrm>
            <a:off x="5105520" y="3352680"/>
            <a:ext cx="342900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Этапы работы:</a:t>
            </a: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. Смочить лист, согнуть его пополам(определить ось симметрии)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 Нарисовать половинку бабочки, сложить лист, отпечатать вторую половинку, раскрыть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 Дополнить узорами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. Вырезать. Приклеить на общий фо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3"/>
          <p:cNvSpPr txBox="1"/>
          <p:nvPr/>
        </p:nvSpPr>
        <p:spPr>
          <a:xfrm>
            <a:off x="457200" y="1676520"/>
            <a:ext cx="8229600" cy="1562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пасибо за внимание!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72" name="Picture 5" descr="blest40"/>
          <p:cNvPicPr/>
          <p:nvPr/>
        </p:nvPicPr>
        <p:blipFill>
          <a:blip r:embed="rId1"/>
          <a:stretch/>
        </p:blipFill>
        <p:spPr>
          <a:xfrm>
            <a:off x="5410080" y="2209680"/>
            <a:ext cx="2352960" cy="2105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5"/>
          <p:cNvSpPr txBox="1"/>
          <p:nvPr/>
        </p:nvSpPr>
        <p:spPr>
          <a:xfrm>
            <a:off x="2362320" y="380880"/>
            <a:ext cx="4495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Источники: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066680" y="2133720"/>
            <a:ext cx="7543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olnet.ee/sol/001/s_341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lenagold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kalyamalya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Arial"/>
              </a:rPr>
              <a:t>images.yandex.ru›</a:t>
            </a:r>
            <a:r>
              <a:rPr b="1" lang="ru-RU" sz="2800" spc="-1" strike="noStrike" u="sng">
                <a:solidFill>
                  <a:srgbClr val="00b0f0"/>
                </a:solidFill>
                <a:uFillTx/>
                <a:latin typeface="Arial"/>
              </a:rPr>
              <a:t>баб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165"/>
          <p:cNvPicPr/>
          <p:nvPr/>
        </p:nvPicPr>
        <p:blipFill>
          <a:blip r:embed="rId6"/>
          <a:stretch/>
        </p:blipFill>
        <p:spPr>
          <a:xfrm>
            <a:off x="0" y="4962600"/>
            <a:ext cx="2743200" cy="1895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borb26"/>
          <p:cNvPicPr/>
          <p:nvPr/>
        </p:nvPicPr>
        <p:blipFill>
          <a:blip r:embed="rId7"/>
          <a:stretch/>
        </p:blipFill>
        <p:spPr>
          <a:xfrm>
            <a:off x="7238880" y="5438880"/>
            <a:ext cx="1359000" cy="1419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96080" cy="6157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1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153280" cy="6114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1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влиний гл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6"/>
          <p:cNvSpPr/>
          <p:nvPr/>
        </p:nvSpPr>
        <p:spPr>
          <a:xfrm>
            <a:off x="1523880" y="54100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43828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ха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315200" cy="49881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мон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5435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усеница (личинка бабочк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495680" cy="5257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уколка бабо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391520" cy="52322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або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ия</cp:lastModifiedBy>
  <dcterms:modified xsi:type="dcterms:W3CDTF">2012-04-25T09:28:02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