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401A-5620-435A-904D-9B222CAE45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54CE-BF8E-4DA8-B00D-C42F3C91F0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ED88-CA21-434B-A78F-776D7BF1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48B-803B-473C-8E1C-66203F57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A37-F9F0-4924-A335-1E7B944D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850-F576-4402-B788-6EE8C934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5490-16FD-49C3-9639-19BCBFD5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7A56-C003-4236-B233-5B1EA808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A5F7-A81B-4802-8EE4-53CFFD0F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EEE9-26DF-4938-958C-85BB8EF2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AA69-8F34-4B63-A716-509C5EF3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EE91-C6CD-4F50-9973-74E42231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B970-46A0-4E86-8F85-FC8042B5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5A3-3778-42B0-B452-10143E52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6197-1CB2-41E5-B054-7B61120F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FA7E-0598-4EC5-A291-B9B96C89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92C1-2355-4093-85C5-43AF1262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A168-C5F1-4301-A8F6-AC49C343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4482-5AEF-401C-9F76-74AB0D9F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2E9C7-A524-446D-9562-14A09BC4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10193-920E-4794-9AFE-24C1E24A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78A6C-1288-4515-A26C-FE6C1702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A4397-8203-4D37-B451-ADA2E333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F78D8-6CD1-43C3-A7CF-9B9BA8A9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1F99-7DDE-4CEB-9366-1BB99C8E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26828-FB4B-43E9-A1CD-FB531B35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B9188-5E1E-4382-8A29-32C7B386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39DA5-EA00-4A41-9A6E-3E0FD81D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E68A2-3233-42BD-838D-F2B15AA5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0DA20-3FB4-47D5-9B11-679662BE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1CBC3-206E-4488-8CB1-EAA7C7E4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C193B-1A4B-44AD-8175-8BE75DBC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1EC28-F498-40BF-845E-29AF6CEE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97E20-BD67-4B1C-BD0B-1D45F09D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518DD-5D7A-464E-86F9-CEFC983B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79E4-B6ED-4F58-8334-5C028964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F1298-C2B3-4148-8B65-172D23BB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64BF7-C6A7-4B93-97C3-BBCBDB58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77E5F-16FB-492B-8E4C-D6762EBF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E06C7-505E-4EE0-9878-8266F723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EDFE9-FA79-469C-8332-DBD3E2F2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3C261-8377-4281-BB79-9A9007FB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4798E-4F0A-491A-BEA3-DA0D2D53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4476F-50DA-448A-BBDE-0A0A7505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C8737-CB5A-4748-BB18-85210ADA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21A-BE1F-4BFF-8B28-02D1BC63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3A58-1AF5-4D2A-9E71-CE6ACBE2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C6C-F3FB-4214-93F7-243E049C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D74-8CCD-43F0-9C6B-698B58AE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5CC8-036E-41A0-9A68-40F95A5D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5B27-9D9C-47F2-83AF-B60C163EFA8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F925-321C-48F8-B009-80018F1D144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51C6-2F74-48F0-A54B-A6F5314229A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68EA-96B1-4765-B8C7-E44C1D68ECB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536400" y="262080"/>
            <a:ext cx="7851960" cy="1530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3160" y="2707920"/>
            <a:ext cx="785484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CC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779400" y="1628640"/>
            <a:ext cx="7583400" cy="1368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1601640" y="6093000"/>
            <a:ext cx="5940720" cy="288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4"/>
          <a:stretch/>
        </p:blipFill>
        <p:spPr>
          <a:xfrm>
            <a:off x="1763640" y="2565360"/>
            <a:ext cx="54007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Бороться с детской агрессивностью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нужно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886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пени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 самая большая добродетель, какая только может быть у родител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ъяснени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бъясняйте ребёнку, почему его поведение, неправильно, но будьте предельно кратки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лечение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арайтесь предложить вашему ребёнку что-нибудь более привлекательное, чем то, что он пытается делат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торопливостью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пешите наказывать ребёнка – сделайте это только если поступок повторяетс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градам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Если вы похвалили ребёнка за хорошее поведение – это пробудет в нём желание ещё раз услышать ваши добрые слов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Оптимизмом</a:t>
            </a:r>
            <a:r>
              <a:rPr b="0" lang="ru-RU" sz="2000" spc="-1" strike="noStrike">
                <a:solidFill>
                  <a:srgbClr val="c00000"/>
                </a:solidFill>
                <a:latin typeface="Constanti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оспитывайте уверенность в ребёнке, поддерживайте его в неудачах – он будет чувствовать  себя личность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Monotype Corsiva"/>
              </a:rPr>
              <a:t>Правила родительского поведения, способствующего снижению детской агрессивност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йте ребёнку осваивать конструктивные способы преодоления препятствий, разрешения проблем. Покажите , что есть более эффективные и безопасные  способы, чем физическое нападе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и собственные агрессивные реакции на какие-то события не переносите на ребён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йте ему лучше узнать себя и других людей. Не исключено, что ребёнок ведёт себя агрессивно потому, что не видит другого способа самоутвердиться или воспринимает мир как враждебны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нижайте и не оскорбляйте ребёнка, особенно при посторонних, обеспечьте ему чувство защищённост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е причины собственных агрессивных поступков в детском возрасте. Возможно, вы сможете лучше понять своего ребёнка и помочь ем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внимательны к чувствам и желаниям своего ребён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 оценивайте возможности ребён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йте идти на компромисс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ребёнка просто за то, что он у вас есть, без каких-либо услов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Как научить ребёнка  «разряжаться»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ему возможность использовать переполняющую его энергию « в мирных целях». Ребенку следует предложить социально приемлемые методы для выражения подавленного гнев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ься одному в комнате и высказать всё, что накопилось, в адрес того, кто его разозли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сложно сдержаться, можно бить ногами и руками подушку, рвать газету, комкать бумагу, пинать консервную банку или мяч, бегать вокруг дома, бить по кровати, написать все слова, которые хочется высказать в гнев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коиться помогают глубокие вдохи или счет до десяти, перед тем, как что-то сказать или сделать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ть чувство гнева. Агрессия часто находит выражение в творчестве или играх ребенк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важаемые родители!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528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Constantia"/>
              </a:rPr>
              <a:t>Начните с себя: положите конец собственной агрессии, это непременно поможет вашим детя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ьте более оптимистичны с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едите за выражением своего лиц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ще улыбайтес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беждайте ребенка, что все будет хорош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3492360" y="4581360"/>
            <a:ext cx="31845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Методическое обеспеч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.Коннор «Детская агрессия и антисоциальное поведение детей и подростков»,изд .ОЛМА Медиа Групп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Е.Лютова, Г.Монина «Шпаргалка для родителей», изд. Реч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http://go.mail.ru/search_images?q=детские рисунки о семье&amp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go.mail.ru/search_images?rch=l&amp;type=all&amp;is=0&amp;q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knigi-psychologia.com/article_info.php?articles_id=68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psychologos.ru/articles/view/kakovy_prichiny_detskoy_agressivnost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babyblog.ru/user/Nadezhda/23441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Что такое агрессивность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«агрессия» произошло от латинског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ssio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означает «нападение», «приступ». В психологическом словаре приведено следующее определение данного термина: «Агрессия — это мотивированное деструктивное поведение, противоречащее нормам и правилам существования людей в обществе, наносящее вред объектам нападения (одушевленным и неодушевленным), приносящее физический и моральный ущерб людям или вызывающее у них психологический дискомфорт (отрицательные переживания, состояние напряженности, страха, подавленности и т.п.)»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гласно некоторым теориям, агрессия является неотъемлемой частью человеческой природ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Причины детской агрессивнос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то то или иное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аболевание центральной нерв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(это первая причина, о которой нужно подумать и исключить которую нужно в первую очередь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грессивность как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редство психологической защит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(эта причина детской агрессивности, пожалуй, самая распространенная среди детей: «Лучшее средство защиты - это нападение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личные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нарушения семейного воспитани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иболее распространенными нарушениями являются чрезмерно строгое, запугивающее воспитание, вседозволенность или разные стили воспитания у разных членов семьи, направленные на одного и того же ребенк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еспровоцированная детская агрессивность -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рушенная исследовательская активность реб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лучаи,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огда за агрессивность принимают что-то друго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(наиболее часто за агрессивность принимают детское упрямство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Портрет агрессивного ребёнк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ый ребенок часто ощущает себя отверженным, никому не нужным. Жестокость и безучастность родителей приводит к нарушению детско-родительских отношений и вселяет в душу ребенка уверенность, что его не любят. «Как стать любимым и нужным» — неразрешимая проблема, стоящая перед  ребёнком.  Вот он и ищет способы привлечения внимания взрослых и сверстников. К сожалению, эти поиски не всегда заканчиваются так, как хотелось бы нам и ребенку, но как сделать лучше — он не знае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ые дети очень часто подозрительны и настороженны, любят перекладывать вину за затеянную ими ссору на други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дети часто не могут сами оценить свою агрессивность. Они не замечают, что вселяют в окружающих страх и беспокойство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ый мир агрессивных детей недостаточно богат, в палитре их чувств преобладают мрачные тона, количество реакций даже на стандартные ситуации очень ограниченно. Чаще всего это защитные реакци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6156360" cy="244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Monotype Corsiva"/>
              </a:rPr>
              <a:t>Агрессия ребёнка </a:t>
            </a:r>
            <a:br>
              <a:rPr sz="3600"/>
            </a:br>
            <a:r>
              <a:rPr b="1" lang="ru-RU" sz="3600" spc="-1" strike="noStrike">
                <a:solidFill>
                  <a:srgbClr val="0b5395"/>
                </a:solidFill>
                <a:latin typeface="Monotype Corsiva"/>
              </a:rPr>
              <a:t>может быть направлена: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4360" y="2420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кружающих людей вне семьи (на учителя, воспитателя, сверстников, одноклассников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лизких люд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животных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бя (выдёргивание волос,  откусывание  ногтей, отказ от еды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нешние объекты (разрушение предметов, порча имущества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имволические и фантазийные объекты (рисунки, компьютерные игры агрессивного содержания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  <a:ea typeface="Times New Roman"/>
              </a:rPr>
              <a:t>Проявление агресси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55640" y="184428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ладших школь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аще всего агрессия проявляется в словесной форме (насмешки, ругательства) по отношению к более слабым, например, к одноклассникам. Не редки и драк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грессивное повед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рост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асто означает "быть взрослым и сильным". Зависимость подростков от мнения сверстников -- их особенность. В этом возрасте наблюдается самый большой процент детей с отклоняющимся поведение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Monotype Corsiva"/>
              </a:rPr>
              <a:t>            </a:t>
            </a:r>
            <a:r>
              <a:rPr b="1" lang="ru-RU" sz="3600" spc="-1" strike="noStrike">
                <a:solidFill>
                  <a:srgbClr val="0b5395"/>
                </a:solidFill>
                <a:latin typeface="Monotype Corsiva"/>
              </a:rPr>
              <a:t>Профилактика детской агресси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дите, чтобы агрессивное поведение ребёнка не поощрялось окружающими, чтобы он не получал видимой выгоды от агресс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йте бесконтрольного просмотра телепередач, видеофильмов, т.к. даже некоторые мультфильмы имеют высокий уровень агресс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йте чрезмерного увлечения играми на компьютере, компьютерной приставке, выбирайте видеоигры без элементов насилия, агресс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йте ребёнку, что есть множество способов решения любых конфликтов (рассказы прикрепляйте собственным поведением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давайте своему ребёнку нереальных обещан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авьте своему ребёнку каких бы то ни было услов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тактичны, применяя меры воздействия к ребёнк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казывайте своего ребёнка за то, что позволяете делать себ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яйте своих требований по отношению к ребёнку в угоду чему-либо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шантажируйте ребёнка своими отношениями друг к друг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йтесь поделиться с ребёнком своими чувствами и слабостям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авьте свои отношения с собственным ребёнком в зависимость от его учебных успех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  <a:ea typeface="Times New Roman"/>
              </a:rPr>
              <a:t>Критерии агрессивнос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бенок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теряет контроль над собо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спорит, ругается со взрослы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отказывается выполнять правила повед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специально раздражает люд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винит других в своих ошибка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сердится и отказывается сделать что-либ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завистлив, мстител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ителен, очень быстро реагирует на различные действия окружающих (детей и взрослых), которые нередко раздражают ег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704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Monotype Corsiva"/>
              </a:rPr>
              <a:t>                </a:t>
            </a:r>
            <a:r>
              <a:rPr b="1" lang="ru-RU" sz="3200" spc="-1" strike="noStrike">
                <a:solidFill>
                  <a:srgbClr val="0b5395"/>
                </a:solidFill>
                <a:latin typeface="Monotype Corsiva"/>
              </a:rPr>
              <a:t>Если ребёнок агрессивен…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10920" y="1268280"/>
            <a:ext cx="6264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и принимайте ребёнка таким, каков он есть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ребёнок всегда подражает тому, за кем привык наблюдать поэтому ни вы, ни другие родные и близкие ребёнка не должны проявлять агрессию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ъявляя ребёнку требования, учитывайте не свои желания, а его возможности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ите конфликт, направляя интерес ребёнка в другое русло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 ребёнка правильному общению со сверстниками и взрослыми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яйте кругозор ребёнка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йте ребёнка в самостоятельную деятельность, подчёркивая его значимость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рируйте лёгкие проявления агрессивности ребёнка, не фиксируйте на этом внимание окружающих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06:38:19Z</dcterms:created>
  <dc:creator>User</dc:creator>
  <dc:description/>
  <dc:language>en-US</dc:language>
  <cp:lastModifiedBy>User</cp:lastModifiedBy>
  <dcterms:modified xsi:type="dcterms:W3CDTF">2013-02-25T08:20:11Z</dcterms:modified>
  <cp:revision>38</cp:revision>
  <dc:subject/>
  <dc:title>В помощь родителям!</dc:title>
</cp:coreProperties>
</file>