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BF75-B63D-41BE-9FC4-37E59BAD32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2F65-32FF-4604-9808-5554E6ACBC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F98-EC0D-4621-96E3-5837CECF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B20-A126-4187-929F-AB57921B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DBE-57FB-406D-9CBE-14015EBA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27D-DC66-44B2-A09D-23BF5E65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61AD-F3ED-440D-ACB1-5CA56558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1770-D327-42DC-9ED3-5F4AABCF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3C92-7943-4E81-9E40-19554290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3E99-F56B-48F2-A3A8-88983376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94ED-4D0E-4E66-B874-F9C0CECF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229A-E5F7-4A00-82DF-F40717C3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8C53-72F6-498F-AE8A-2CC9BCFD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F66-86DD-4DC9-B487-C124185C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2B09-892E-4CC6-A1DF-1AB6CFA4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D8A1-03D3-4176-9CBD-2DBA4903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12B0-12C6-4E31-9CE6-8AA50812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BF99-7F4C-4E9A-810C-7909799E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480E-D379-4D1D-9F12-C70FFBEE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13EA5-AAB9-4BC7-9BAF-76D33628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9156-6E15-47A3-A4EF-42F8F5B8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61087-5349-401A-9B9E-BFA50210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F5DC-2EE3-41C2-84DF-885F466F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9A5FB-57BB-40BE-BCE7-DC3274E5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2CE-D626-43D1-9951-23AD8E13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FEB0A-63F2-45AE-874C-06ED3352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46A6D-2F2C-4D0C-8F59-22A76C64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A8580-DA64-482E-AF0D-6BEA575A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D7B6B-79F9-4616-A4BA-D3EA2857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3889-CDDE-4EFD-9247-A55C2E92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F4E6-1AEC-4F8B-B6D5-9B8D353C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21B66-68D9-441F-B25F-17113792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B11E6-CA72-443B-9E9A-57243018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4E527-AD73-4238-BC28-D3C3A266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D1FC3-75BF-4916-934C-48375159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342-4DFB-44BD-BC2A-4973E8AB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C6B03-2FA6-40D5-A9A3-32992DAF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3498A-AC5B-4626-972A-F9B2A7DA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CE029-2F20-4B92-B4F2-4C49B7D5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61525-C917-4021-874B-3EAB983E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43D37-2A3C-48F9-8007-A348BA5F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CE2C-C811-4F67-B259-6465E120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F90EE-5D20-41AF-927D-57BFA960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4D626-00FE-4219-8FE1-1BBFD843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F8D6E-0E57-4B9A-BEB9-C9A1EF8F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310-0BE0-4C6E-AADF-59E14BFF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577-C48E-4B62-9B68-26778FF0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695-0C0A-4030-89A4-F07BBEA3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B5C-90B8-46CC-98DB-192D8D80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574-D63F-428D-B5DF-9A53E73A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DA2B-427C-4E3F-A2A1-E7A109F07D1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F554-ADEC-4844-B326-24AAB9B966C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80B2-F611-4EE4-B1E2-0A5DAD34139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7277-6CEE-4444-A601-D9F338CB58A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536400" y="262080"/>
            <a:ext cx="7851960" cy="1530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2707920"/>
            <a:ext cx="785484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CC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779400" y="1628640"/>
            <a:ext cx="7583400" cy="1368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1601640" y="6093000"/>
            <a:ext cx="5940720" cy="288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4"/>
          <a:stretch/>
        </p:blipFill>
        <p:spPr>
          <a:xfrm>
            <a:off x="1763640" y="2565360"/>
            <a:ext cx="54007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Бороться с детской агрессивностью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нужно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пе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самая большая добродетель, какая только может быть у родител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ясне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ъясняйте ребёнку, почему его поведение, неправильно, но будьте предельно кратки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лечение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райтесь предложить вашему ребёнку что-нибудь более привлекательное, чем то, что он пытается делат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оропливостью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пешите наказывать ребёнка – сделайте это только если поступок повторяет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градам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Если вы похвалили ребёнка за хорошее поведение – это пробудет в нём желание ещё раз услышать ваши добрые сло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Оптимизмом</a:t>
            </a:r>
            <a:r>
              <a:rPr b="0" lang="ru-RU" sz="2000" spc="-1" strike="noStrike">
                <a:solidFill>
                  <a:srgbClr val="c00000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оспитывайте уверенность в ребёнке, поддерживайте его в неудачах – он будет чувствовать  себя личность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Monotype Corsiva"/>
              </a:rPr>
              <a:t>Правила родительского поведения, способствующего снижению детской агрессивност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йте ребёнку осваивать конструктивные способы преодоления препятствий, разрешения проблем. Покажите , что есть более эффективные и безопасные  способы, чем физическое напад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 собственные агрессивные реакции на какие-то события не переносите на ребё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йте ему лучше узнать себя и других людей. Не исключено, что ребёнок ведёт себя агрессивно потому, что не видит другого способа самоутвердиться или воспринимает мир как враждебны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нижайте и не оскорбляйте ребёнка, особенно при посторонних, обеспечьте ему чувство защищён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е причины собственных агрессивных поступков в детском возрасте. Возможно, вы сможете лучше понять своего ребёнка и помочь ем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нимательны к чувствам и желаниям своего ребё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оценивайте возможности ребё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те идти на компромисс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ребёнка просто за то, что он у вас есть, без каких-либо услов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Как научить ребёнка  «разряжаться»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ему возможность использовать переполняющую его энергию « в мирных целях». Ребенку следует предложить социально приемлемые методы для выражения подавленного гнев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ься одному в комнате и высказать всё, что накопилось, в адрес того, кто его разозли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сложно сдержаться, можно бить ногами и руками подушку, рвать газету, комкать бумагу, пинать консервную банку или мяч, бегать вокруг дома, бить по кровати, написать все слова, которые хочется высказать в гнев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коиться помогают глубокие вдохи или счет до десяти, перед тем, как что-то сказать или сделать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чувство гнева. Агрессия часто находит выражение в творчестве или играх ребенк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важаемые родители!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Начните с себя: положите конец собственной агрессии, это непременно поможет вашим детя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ьте более оптимистичны сам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едите за выражением своего лиц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ще улыбайтес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беждайте ребенка, что все будет хорош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31845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Методическое обеспеч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.Коннор «Детская агрессия и антисоциальное поведение детей и подростков»,изд .ОЛМА Медиа Групп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Е.Лютова, Г.Монина «Шпаргалка для родителей», изд. Реч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http://go.mail.ru/search_images?q=детские рисунки о семье&amp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go.mail.ru/search_images?rch=l&amp;type=all&amp;is=0&amp;q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knigi-psychologia.com/article_info.php?articles_id=68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psychologos.ru/articles/view/kakovy_prichiny_detskoy_agressivnost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babyblog.ru/user/Nadezhda/23441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Что такое агрессивность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агрессия» произошло от латинског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ssi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означает «нападение», «приступ». В психологическом словаре приведено следующее определение данного термина: «Агрессия — это мотивированное деструктивное поведение, противоречащее нормам и правилам существования людей в обществе, наносящее вред объектам нападения (одушевленным и неодушевленным), приносящее физический и моральный ущерб людям или вызывающее у них психологический дискомфорт (отрицательные переживания, состояние напряженности, страха, подавленности и т.п.)»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но некоторым теориям, агрессия является неотъемлемой частью человеческой природ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Причины детской агрессив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то то или иное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болевание центральной нерв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это первая причина, о которой нужно подумать и исключить которую нужно в первую очередь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грессивность как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редство психологической защит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эта причина детской агрессивности, пожалуй, самая распространенная среди детей: «Лучшее средство защиты - это нападение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личные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нарушения семейного воспита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иболее распространенными нарушениями являются чрезмерно строгое, запугивающее воспитание, вседозволенность или разные стили воспитания у разных членов семьи, направленные на одного и того же ребенк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спровоцированная детская агрессивность 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рушенная исследовательская активность реб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учаи,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гда за агрессивность принимают что-то друго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(наиболее часто за агрессивность принимают детское упрямство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</a:rPr>
              <a:t>Портрет агрессивного ребён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ый ребенок часто ощущает себя отверженным, никому не нужным. Жестокость и безучастность родителей приводит к нарушению детско-родительских отношений и вселяет в душу ребенка уверенность, что его не любят. «Как стать любимым и нужным» — неразрешимая проблема, стоящая перед  ребёнком.  Вот он и ищет способы привлечения внимания взрослых и сверстников. К сожалению, эти поиски не всегда заканчиваются так, как хотелось бы нам и ребенку, но как сделать лучше — он не зна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ые дети очень часто подозрительны и настороженны, любят перекладывать вину за затеянную ими ссору на други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дети часто не могут сами оценить свою агрессивность. Они не замечают, что вселяют в окружающих страх и беспокойство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мир агрессивных детей недостаточно богат, в палитре их чувств преобладают мрачные тона, количество реакций даже на стандартные ситуации очень ограниченно. Чаще всего это защитные реакц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6156360" cy="244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Агрессия ребёнка </a:t>
            </a:r>
            <a:br>
              <a:rPr sz="3600"/>
            </a:b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может быть направлена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4360" y="2420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кружающих людей вне семьи (на учителя, воспитателя, сверстников, одноклассников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лизких люд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животны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бя (выдёргивание волос,  откусывание  ногтей, отказ от еды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нешние объекты (разрушение предметов, порча имущества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имволические и фантазийные объекты (рисунки, компьютерные игры агрессивного содержани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  <a:ea typeface="Times New Roman"/>
              </a:rPr>
              <a:t>Проявление агресс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55640" y="184428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ладших школь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аще всего агрессия проявляется в словесной форме (насмешки, ругательства) по отношению к более слабым, например, к одноклассникам. Не редки и дра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грессивное повед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рост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асто означает "быть взрослым и сильным". Зависимость подростков от мнения сверстников -- их особенность. В этом возрасте наблюдается самый большой процент детей с отклоняющимся поведение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            </a:t>
            </a:r>
            <a:r>
              <a:rPr b="1" lang="ru-RU" sz="3600" spc="-1" strike="noStrike">
                <a:solidFill>
                  <a:srgbClr val="0b5395"/>
                </a:solidFill>
                <a:latin typeface="Monotype Corsiva"/>
              </a:rPr>
              <a:t>Профилактика детской агресс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дите, чтобы агрессивное поведение ребёнка не поощрялось окружающими, чтобы он не получал видимой выгоды от агресс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йте бесконтрольного просмотра телепередач, видеофильмов, т.к. даже некоторые мультфильмы имеют высокий уровень агресс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йте чрезмерного увлечения играми на компьютере, компьютерной приставке, выбирайте видеоигры без элементов насилия, агресс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йте ребёнку, что есть множество способов решения любых конфликтов (рассказы прикрепляйте собственным поведением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давайте своему ребёнку нереальных обеща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авьте своему ребёнку каких бы то ни было услов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тактичны, применяя меры воздействия к ребёнк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казывайте своего ребёнка за то, что позволяете делать себ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яйте своих требований по отношению к ребёнку в угоду чему-либ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шантажируйте ребёнка своими отношениями друг к друг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йтесь поделиться с ребёнком своими чувствами и слабостя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авьте свои отношения с собственным ребёнком в зависимость от его учебных успех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Monotype Corsiva"/>
                <a:ea typeface="Times New Roman"/>
              </a:rPr>
              <a:t>Критерии агрессив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бенок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теряет контроль над соб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порит, ругается со взрослы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отказывается выполнять правила 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пециально раздражает люд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винит других в своих ошибк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ердится и отказывается сделать что-либ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завистлив, мстителе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ителен, очень быстро реагирует на различные действия окружающих (детей и взрослых), которые нередко раздражают ег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704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Monotype Corsiva"/>
              </a:rPr>
              <a:t>                </a:t>
            </a:r>
            <a:r>
              <a:rPr b="1" lang="ru-RU" sz="3200" spc="-1" strike="noStrike">
                <a:solidFill>
                  <a:srgbClr val="0b5395"/>
                </a:solidFill>
                <a:latin typeface="Monotype Corsiva"/>
              </a:rPr>
              <a:t>Если ребёнок агрессивен…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0920" y="1268280"/>
            <a:ext cx="6264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и принимайте ребёнка таким, каков он есть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ребёнок всегда подражает тому, за кем привык наблюдать поэтому ни вы, ни другие родные и близкие ребёнка не должны проявлять агрессию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ъявляя ребёнку требования, учитывайте не свои желания, а его возможност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ите конфликт, направляя интерес ребёнка в другое русло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 ребёнка правильному общению со сверстниками и взрослым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йте кругозор ребёнка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йте ребёнка в самостоятельную деятельность, подчёркивая его значимость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рируйте лёгкие проявления агрессивности ребёнка, не фиксируйте на этом внимание окружающих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06:38:19Z</dcterms:created>
  <dc:creator>User</dc:creator>
  <dc:description/>
  <dc:language>en-US</dc:language>
  <cp:lastModifiedBy>User</cp:lastModifiedBy>
  <dcterms:modified xsi:type="dcterms:W3CDTF">2013-02-25T08:20:11Z</dcterms:modified>
  <cp:revision>38</cp:revision>
  <dc:subject/>
  <dc:title>В помощь родителям!</dc:title>
</cp:coreProperties>
</file>