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1EB49-05B5-4D00-8D59-087FB4A32BC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0FD48-AE61-4216-9614-7106F9404DD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E927-E6DC-492F-8B1F-2B40D1D04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9237-36E9-4DFD-A83A-CC4DB6092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F9E0-3085-442C-BD4C-D7250E947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EB03-B7A8-4B97-B94A-10AA62E96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F9593-736D-4052-847D-A577CCF4F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DE0A4-2D5B-47A6-BA1B-9E442CD06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68866-1E75-4498-8910-85BD96A27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BF397-ADFE-4A3E-9BE7-E7C46EA20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41F68-FB0D-4B2E-9EFC-03907A26B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292B5-3E88-4DA4-9C54-E6B2F7C95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B369E-774C-4347-BD2B-E74B3944E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ECDA-CD1F-487A-AA01-FFB9D14CB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FF7F2-E250-4DBD-A8C7-4FB821AB7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1815E-AB95-4CB5-990F-B0FB15BA7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58E85-EE95-4E66-B1F4-201FF55C0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368B1-618C-40F4-BC34-10EF4C096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6CF4E-A66D-47B0-825A-5F8DDDBC6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76272B-F74D-417C-BEFD-F7B777CF2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073534-86AC-4FC0-8EC6-92761B69B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5C99E9-850C-466F-A14C-C4E62020A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C6092C-69C1-45C6-9241-425EDA66A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C5A8A9-EFD0-4D51-B003-BE536DA4E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6EA6-34B2-4C28-B4EF-EF12AC59D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08CC6A-F9A5-4E0E-BD71-98F15A859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920C74-1592-415D-A21F-F41E6AF07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5A0142-4127-4F96-9A71-EFBFD8E7C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CB40F8-A012-4EE2-8A6A-D5B440EBB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C4FFAE-055E-4724-8EB2-1DA89C780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FC235C-7123-4FFF-A3E2-A4165C12E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58D2DF-7911-4271-8E85-7640D3E8B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6C3B1B-54BF-47A7-BB6E-11838288E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656F4F-0BF5-4089-B1E7-0CBFBF431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4B9FD0-66A8-4B35-9BB4-387A2EAB2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E180-95DB-44D1-B5FE-2A7CF76A9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99C395-BC5C-454F-8B2A-56E864142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CDC163-EEB4-4211-8FFB-7416CCC2C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BFE8FD-8F1D-4840-B3E8-9AD6100F7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B58838-0D02-4C1B-BAC8-599BD65F1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FFC27C-80B3-453B-A0CF-5A9D648AD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822F58-E11F-4CE3-B98F-0F6F7D79D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98E2AB-1298-45FF-B239-C80DD7AB8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57C2EE-9968-41D1-9452-911C4C5C4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12EC04-96C0-495E-86E6-BAF4D4D4F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D65B1F-AEA5-4F73-B402-D8CB55B98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CAA0-8A85-49BA-9366-D9EA60A97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ABF68A-C6B8-41F7-B5BD-3F9917B28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02A78F-81A3-46EE-97C1-581F9AEE6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8DEEFE-F2FB-4813-BF22-5205AE43C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019935-7E78-494A-BB35-39553832C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888011-6B72-4357-AB06-BB62A6158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429554-EF72-4725-8829-9B246BE97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43572C-62C9-4195-9C66-345637BBF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B41ECB-0AA1-4CFE-BFA5-B647B22D6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FA3E7F-ADE4-4B8A-8751-06C3382D6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D1B5CB-909C-4143-9E28-AEB4ECB61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4439-9716-4313-92ED-216261C2B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22977E-2384-43B2-8914-81B2138BA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173FEA-EE50-464A-B9B2-9454A8770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535ED9-E24A-449E-BAB6-D7C9DE771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1CA58E-6519-465A-A4D3-F80EC582C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ACD8A4-2431-43D8-AA37-BF58CFD1E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D99EE0-4905-4C63-8403-070900771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44E59D-FA55-43C1-AAA1-F74B3DDBD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5C85B7-7BB5-453F-914E-DBE0265AD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2D30B1-494F-419A-9927-6C4AAA30D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AB2A37-535C-4A63-A5BB-8A2EBA24B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3916-BC44-45C4-82BB-1FD938B32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5BEF9B-8346-498C-BA7E-AB1CA005C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354544-C370-4D64-9F16-6BD06CD52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4E1F3F-77D7-4DCB-B7C5-5C1404D9A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5C65-C0C2-493F-94D9-F3F62462B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0F35-AE13-4C3B-BA08-408E074E4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33C63-2BE6-45EF-8C68-EF3F12307B9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42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4C176-DA7F-4A57-9037-AEC9D1FC2817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86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0BD9B-EADF-49C2-9255-9873F96EC00F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3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10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1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2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8EFD3-E267-4F96-B2FB-4A6CA236BDA0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3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4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5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BEBD4-5A1D-4C54-B6CF-9F61D2F6CC56}" type="slidenum">
              <a:rPr b="0" lang="ru-RU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218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1195D-28C4-4889-917A-18D127A62A90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wind.wav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wind.wav" TargetMode="Externa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wind.wav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wind.wav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6.xml"/><Relationship Id="rId3" Type="http://schemas.openxmlformats.org/officeDocument/2006/relationships/slide" Target="slide7.xml"/><Relationship Id="rId4" Type="http://schemas.openxmlformats.org/officeDocument/2006/relationships/slide" Target="slide8.xml"/><Relationship Id="rId5" Type="http://schemas.openxmlformats.org/officeDocument/2006/relationships/slide" Target="slide8.xml"/><Relationship Id="rId6" Type="http://schemas.openxmlformats.org/officeDocument/2006/relationships/slide" Target="slide9.xml"/><Relationship Id="rId7" Type="http://schemas.openxmlformats.org/officeDocument/2006/relationships/slide" Target="slide10.xml"/><Relationship Id="rId8" Type="http://schemas.openxmlformats.org/officeDocument/2006/relationships/slide" Target="slide11.xml"/><Relationship Id="rId9" Type="http://schemas.openxmlformats.org/officeDocument/2006/relationships/slide" Target="slide13.xml"/><Relationship Id="rId10" Type="http://schemas.openxmlformats.org/officeDocument/2006/relationships/slide" Target="slide12.xml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wind.wav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wind.wav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wind.wav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wind.wav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wind.wav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Box 1"/>
          <p:cNvSpPr/>
          <p:nvPr/>
        </p:nvSpPr>
        <p:spPr>
          <a:xfrm>
            <a:off x="956880" y="1268280"/>
            <a:ext cx="5615280" cy="50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Закрепление материал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о тем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«Виды придаточных предложений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 9 класс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Учитель Куранова Н.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ГБОУ СОШ №35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Фрунзенского р-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г.Санкт-Петербур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extBox 1"/>
          <p:cNvSpPr/>
          <p:nvPr/>
        </p:nvSpPr>
        <p:spPr>
          <a:xfrm>
            <a:off x="142920" y="642960"/>
            <a:ext cx="8858160" cy="55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ОБСТОЯТЕЛЬСТВЕН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ПРИДАТОЧНЫЕ УСЛОВ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ВОПРОСЫ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ОЮЗЫ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СОЮЗНЫЕ </a:t>
            </a: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           </a:t>
            </a:r>
            <a:r>
              <a:rPr b="1" lang="ru-RU" sz="2000" spc="-1" strike="noStrike">
                <a:solidFill>
                  <a:srgbClr val="00b050"/>
                </a:solidFill>
                <a:latin typeface="Arial"/>
              </a:rPr>
              <a:t>УКАЗАТЕЛЬ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b05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СЛОВА</a:t>
            </a:r>
            <a:r>
              <a:rPr b="1" lang="ru-RU" sz="20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b050"/>
                </a:solidFill>
                <a:latin typeface="Arial"/>
              </a:rPr>
              <a:t>           СЛ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П Р И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   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ЕСЛИ,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          </a:t>
            </a:r>
            <a:r>
              <a:rPr b="1" i="1" lang="ru-RU" sz="2000" spc="-1" strike="noStrike">
                <a:solidFill>
                  <a:srgbClr val="00b050"/>
                </a:solidFill>
                <a:latin typeface="Arial"/>
              </a:rPr>
              <a:t>В ТОМ СЛУЧА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К А К О М 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   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КОГДА, 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          </a:t>
            </a:r>
            <a:r>
              <a:rPr b="1" i="1" lang="ru-RU" sz="2000" spc="-1" strike="noStrike">
                <a:solidFill>
                  <a:srgbClr val="00b050"/>
                </a:solidFill>
                <a:latin typeface="Arial"/>
              </a:rPr>
              <a:t>ТОГ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У С Л О В И И?   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КАБЫ,              </a:t>
            </a:r>
            <a:r>
              <a:rPr b="1" i="1" lang="ru-RU" sz="2000" spc="-1" strike="noStrike">
                <a:solidFill>
                  <a:srgbClr val="7030a0"/>
                </a:solidFill>
                <a:latin typeface="Arial"/>
              </a:rPr>
              <a:t>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ЕЖЕЛ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КОЛИ (КОЛЬ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КАК СКОР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54061"/>
                </a:solidFill>
                <a:latin typeface="Arial"/>
              </a:rPr>
              <a:t>2) Ох, лето красное! Любил бы я тебя,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когда</a:t>
            </a:r>
            <a:r>
              <a:rPr b="1" i="1" lang="ru-RU" sz="2400" spc="-1" strike="noStrike">
                <a:solidFill>
                  <a:srgbClr val="254061"/>
                </a:solidFill>
                <a:latin typeface="Arial"/>
              </a:rPr>
              <a:t> б не зной, на пыль, да комары, да мух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b05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b05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Управляющая кнопка: назад 2">
            <a:hlinkClick r:id="rId1"/>
          </p:cNvPr>
          <p:cNvSpPr/>
          <p:nvPr/>
        </p:nvSpPr>
        <p:spPr>
          <a:xfrm>
            <a:off x="8572680" y="6429240"/>
            <a:ext cx="357120" cy="214560"/>
          </a:xfrm>
          <a:custGeom>
            <a:avLst/>
            <a:gdLst>
              <a:gd name="textAreaLeft" fmla="*/ 13680 w 357120"/>
              <a:gd name="textAreaRight" fmla="*/ 343440 w 357120"/>
              <a:gd name="textAreaTop" fmla="*/ 13680 h 214560"/>
              <a:gd name="textAreaBottom" fmla="*/ 200880 h 214560"/>
            </a:gdLst>
            <a:ahLst/>
            <a:rect l="textAreaLeft" t="textAreaTop" r="textAreaRight" b="textAreaBottom"/>
            <a:pathLst>
              <a:path w="35928" h="21600">
                <a:moveTo>
                  <a:pt x="0" y="0"/>
                </a:moveTo>
                <a:lnTo>
                  <a:pt x="35928" y="0"/>
                </a:lnTo>
                <a:lnTo>
                  <a:pt x="35928" y="21600"/>
                </a:lnTo>
                <a:lnTo>
                  <a:pt x="0" y="21600"/>
                </a:lnTo>
                <a:close/>
              </a:path>
              <a:path fill="lightenLess" w="35928" h="21600">
                <a:moveTo>
                  <a:pt x="0" y="0"/>
                </a:moveTo>
                <a:lnTo>
                  <a:pt x="35928" y="0"/>
                </a:lnTo>
                <a:lnTo>
                  <a:pt x="34528" y="1400"/>
                </a:lnTo>
                <a:lnTo>
                  <a:pt x="1400" y="1400"/>
                </a:lnTo>
                <a:close/>
              </a:path>
              <a:path fill="darken" w="35928" h="21600">
                <a:moveTo>
                  <a:pt x="35928" y="0"/>
                </a:moveTo>
                <a:lnTo>
                  <a:pt x="35928" y="21600"/>
                </a:lnTo>
                <a:lnTo>
                  <a:pt x="34528" y="20200"/>
                </a:lnTo>
                <a:lnTo>
                  <a:pt x="34528" y="1400"/>
                </a:lnTo>
                <a:close/>
              </a:path>
              <a:path fill="darkenLess" w="35928" h="21600">
                <a:moveTo>
                  <a:pt x="359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28" y="20200"/>
                </a:lnTo>
                <a:close/>
              </a:path>
              <a:path fill="lighten" w="359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28" h="21600">
                <a:moveTo>
                  <a:pt x="10957" y="10800"/>
                </a:moveTo>
                <a:lnTo>
                  <a:pt x="24970" y="3794"/>
                </a:lnTo>
                <a:lnTo>
                  <a:pt x="24970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3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Box 1"/>
          <p:cNvSpPr/>
          <p:nvPr/>
        </p:nvSpPr>
        <p:spPr>
          <a:xfrm>
            <a:off x="0" y="0"/>
            <a:ext cx="8929800" cy="722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ОБСТОЯТЕЛЬСТВЕН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ПРИДАТОЧНЫЕ ПРИЧИ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ВОПРОСЫ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ОЮЗЫ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СОЮЗНЫЕ </a:t>
            </a: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b050"/>
                </a:solidFill>
                <a:latin typeface="Arial"/>
              </a:rPr>
              <a:t>УКАЗАТЕЛЬ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СЛОВА</a:t>
            </a:r>
            <a:r>
              <a:rPr b="1" lang="ru-RU" sz="20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b050"/>
                </a:solidFill>
                <a:latin typeface="Arial"/>
              </a:rPr>
              <a:t>СЛ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П О Ч Е М У?      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ПОТОМУ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00b050"/>
                </a:solidFill>
                <a:latin typeface="Arial"/>
              </a:rPr>
              <a:t>ПОТОМУ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О Т Ч Е Г О?       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ЧТО, 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00b050"/>
                </a:solidFill>
                <a:latin typeface="Arial"/>
              </a:rPr>
              <a:t>ОТТОГО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П О К А К О Й     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ОТТОГО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00b050"/>
                </a:solidFill>
                <a:latin typeface="Arial"/>
              </a:rPr>
              <a:t>ВВИДУ Т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П Р И Ч И Н Е?   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ЧТО, ИБО,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00b050"/>
                </a:solidFill>
                <a:latin typeface="Arial"/>
              </a:rPr>
              <a:t>ВСЛЕДСТВ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ТАК КАК,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00b050"/>
                </a:solidFill>
                <a:latin typeface="Arial"/>
              </a:rPr>
              <a:t>Т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ЗАТЕМ ЧТО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БЛАГОДАР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ТОМУ ЧТО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ВВИДУ Т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Ч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54061"/>
                </a:solidFill>
                <a:latin typeface="Arial"/>
              </a:rPr>
              <a:t>7) С тех пор изучение сих записок заняло меня исключительно,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ибо </a:t>
            </a:r>
            <a:r>
              <a:rPr b="1" i="1" lang="ru-RU" sz="2400" spc="-1" strike="noStrike">
                <a:solidFill>
                  <a:srgbClr val="254061"/>
                </a:solidFill>
                <a:latin typeface="Arial"/>
              </a:rPr>
              <a:t>увидел я возможность извлечь из них повествование стройное, любопытное и поучительно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Управляющая кнопка: назад 2">
            <a:hlinkClick r:id="rId1"/>
          </p:cNvPr>
          <p:cNvSpPr/>
          <p:nvPr/>
        </p:nvSpPr>
        <p:spPr>
          <a:xfrm>
            <a:off x="8429760" y="6357960"/>
            <a:ext cx="428400" cy="285840"/>
          </a:xfrm>
          <a:custGeom>
            <a:avLst/>
            <a:gdLst>
              <a:gd name="textAreaLeft" fmla="*/ 18360 w 428400"/>
              <a:gd name="textAreaRight" fmla="*/ 410040 w 42840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32359" h="21600">
                <a:moveTo>
                  <a:pt x="0" y="0"/>
                </a:moveTo>
                <a:lnTo>
                  <a:pt x="32359" y="0"/>
                </a:lnTo>
                <a:lnTo>
                  <a:pt x="32359" y="21600"/>
                </a:lnTo>
                <a:lnTo>
                  <a:pt x="0" y="21600"/>
                </a:lnTo>
                <a:close/>
              </a:path>
              <a:path fill="lightenLess" w="32359" h="21600">
                <a:moveTo>
                  <a:pt x="0" y="0"/>
                </a:moveTo>
                <a:lnTo>
                  <a:pt x="32359" y="0"/>
                </a:lnTo>
                <a:lnTo>
                  <a:pt x="30959" y="1400"/>
                </a:lnTo>
                <a:lnTo>
                  <a:pt x="1400" y="1400"/>
                </a:lnTo>
                <a:close/>
              </a:path>
              <a:path fill="darken" w="32359" h="21600">
                <a:moveTo>
                  <a:pt x="32359" y="0"/>
                </a:moveTo>
                <a:lnTo>
                  <a:pt x="32359" y="21600"/>
                </a:lnTo>
                <a:lnTo>
                  <a:pt x="30959" y="20200"/>
                </a:lnTo>
                <a:lnTo>
                  <a:pt x="30959" y="1400"/>
                </a:lnTo>
                <a:close/>
              </a:path>
              <a:path fill="darkenLess" w="32359" h="21600">
                <a:moveTo>
                  <a:pt x="323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59" y="20200"/>
                </a:lnTo>
                <a:close/>
              </a:path>
              <a:path fill="lighten" w="323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59" h="21600">
                <a:moveTo>
                  <a:pt x="9173" y="10800"/>
                </a:moveTo>
                <a:lnTo>
                  <a:pt x="23186" y="3794"/>
                </a:lnTo>
                <a:lnTo>
                  <a:pt x="23186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0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TextBox 1"/>
          <p:cNvSpPr/>
          <p:nvPr/>
        </p:nvSpPr>
        <p:spPr>
          <a:xfrm>
            <a:off x="214200" y="857160"/>
            <a:ext cx="8715600" cy="46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ОБСТОЯТЕЛЬСТВЕ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ПРИДАТОЧНЫЕ УСТУП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ВОПРОСЫ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ОЮЗЫ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СОЮЗНЫЕ</a:t>
            </a: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             </a:t>
            </a:r>
            <a:r>
              <a:rPr b="1" lang="ru-RU" sz="2000" spc="-1" strike="noStrike">
                <a:solidFill>
                  <a:srgbClr val="00b050"/>
                </a:solidFill>
                <a:latin typeface="Arial"/>
              </a:rPr>
              <a:t>УКАЗАТЕЛЬ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b050"/>
                </a:solidFill>
                <a:latin typeface="Arial"/>
              </a:rPr>
              <a:t>       </a:t>
            </a: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СЛОВА</a:t>
            </a: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b050"/>
                </a:solidFill>
                <a:latin typeface="Arial"/>
              </a:rPr>
              <a:t>СЛ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Н Е С М О Т Р Я    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ХОТ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Н А  Ч Т О?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     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НЕСМОТР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В О П Р Е К И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     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НА ТО ЧТО,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i="1" lang="ru-RU" sz="2000" spc="-1" strike="noStrike">
                <a:solidFill>
                  <a:srgbClr val="7030a0"/>
                </a:solidFill>
                <a:latin typeface="Arial"/>
              </a:rPr>
              <a:t>_______</a:t>
            </a:r>
            <a:r>
              <a:rPr b="1" i="1" lang="ru-RU" sz="20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00b050"/>
                </a:solidFill>
                <a:latin typeface="Arial"/>
              </a:rPr>
              <a:t>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Ч Е М У?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     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ПУСТ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ПУСКА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Несмотря на то что </a:t>
            </a:r>
            <a:r>
              <a:rPr b="1" i="1" lang="ru-RU" sz="2400" spc="-1" strike="noStrike">
                <a:solidFill>
                  <a:srgbClr val="254061"/>
                </a:solidFill>
                <a:latin typeface="Arial"/>
              </a:rPr>
              <a:t>ветер свободно носился над морем, тучи были неподвижн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Управляющая кнопка: назад 2">
            <a:hlinkClick r:id="rId1"/>
          </p:cNvPr>
          <p:cNvSpPr/>
          <p:nvPr/>
        </p:nvSpPr>
        <p:spPr>
          <a:xfrm>
            <a:off x="8429760" y="6357960"/>
            <a:ext cx="500040" cy="285840"/>
          </a:xfrm>
          <a:custGeom>
            <a:avLst/>
            <a:gdLst>
              <a:gd name="textAreaLeft" fmla="*/ 18360 w 500040"/>
              <a:gd name="textAreaRight" fmla="*/ 481680 w 5000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37766" h="21600">
                <a:moveTo>
                  <a:pt x="0" y="0"/>
                </a:moveTo>
                <a:lnTo>
                  <a:pt x="37766" y="0"/>
                </a:lnTo>
                <a:lnTo>
                  <a:pt x="37766" y="21600"/>
                </a:lnTo>
                <a:lnTo>
                  <a:pt x="0" y="21600"/>
                </a:lnTo>
                <a:close/>
              </a:path>
              <a:path fill="lightenLess" w="37766" h="21600">
                <a:moveTo>
                  <a:pt x="0" y="0"/>
                </a:moveTo>
                <a:lnTo>
                  <a:pt x="37766" y="0"/>
                </a:lnTo>
                <a:lnTo>
                  <a:pt x="36366" y="1400"/>
                </a:lnTo>
                <a:lnTo>
                  <a:pt x="1400" y="1400"/>
                </a:lnTo>
                <a:close/>
              </a:path>
              <a:path fill="darken" w="37766" h="21600">
                <a:moveTo>
                  <a:pt x="37766" y="0"/>
                </a:moveTo>
                <a:lnTo>
                  <a:pt x="37766" y="21600"/>
                </a:lnTo>
                <a:lnTo>
                  <a:pt x="36366" y="20200"/>
                </a:lnTo>
                <a:lnTo>
                  <a:pt x="36366" y="1400"/>
                </a:lnTo>
                <a:close/>
              </a:path>
              <a:path fill="darkenLess" w="37766" h="21600">
                <a:moveTo>
                  <a:pt x="37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66" y="20200"/>
                </a:lnTo>
                <a:close/>
              </a:path>
              <a:path fill="lighten" w="37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66" h="21600">
                <a:moveTo>
                  <a:pt x="11877" y="10800"/>
                </a:moveTo>
                <a:lnTo>
                  <a:pt x="25890" y="3794"/>
                </a:lnTo>
                <a:lnTo>
                  <a:pt x="25890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7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TextBox 1"/>
          <p:cNvSpPr/>
          <p:nvPr/>
        </p:nvSpPr>
        <p:spPr>
          <a:xfrm>
            <a:off x="214200" y="714240"/>
            <a:ext cx="8715600" cy="56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ОБСТОЯТЕЛЬСТВЕ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ПРИДАТОЧНЫЕ СЛЕДСТВ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ВОПРОСЫ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ОЮЗЫ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СОЮЗНЫЕ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b050"/>
                </a:solidFill>
                <a:latin typeface="Arial"/>
              </a:rPr>
              <a:t>УКАЗАТЕЛЬ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СЛОВА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b050"/>
                </a:solidFill>
                <a:latin typeface="Arial"/>
              </a:rPr>
              <a:t>СЛ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Arial"/>
              </a:rPr>
              <a:t>Ч Т О  И З</a:t>
            </a:r>
            <a:r>
              <a:rPr b="1" lang="ru-RU" sz="20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ТАК Ч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Arial"/>
              </a:rPr>
              <a:t>Э Т О Г О</a:t>
            </a:r>
            <a:r>
              <a:rPr b="1" lang="ru-RU" sz="20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_______</a:t>
            </a: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b050"/>
                </a:solidFill>
                <a:latin typeface="Arial"/>
              </a:rPr>
              <a:t>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Arial"/>
              </a:rPr>
              <a:t>С Л Е Д У Е Т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54061"/>
                </a:solidFill>
                <a:latin typeface="Arial"/>
              </a:rPr>
              <a:t>У заборов росли липы, бросавшие теперь при луне широкую тень,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так что </a:t>
            </a:r>
            <a:r>
              <a:rPr b="1" i="1" lang="ru-RU" sz="2400" spc="-1" strike="noStrike">
                <a:solidFill>
                  <a:srgbClr val="254061"/>
                </a:solidFill>
                <a:latin typeface="Arial"/>
              </a:rPr>
              <a:t>заборы и ворота на одной стороне совершенно утопали в потёмк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Управляющая кнопка: назад 2">
            <a:hlinkClick r:id="rId1"/>
          </p:cNvPr>
          <p:cNvSpPr/>
          <p:nvPr/>
        </p:nvSpPr>
        <p:spPr>
          <a:xfrm>
            <a:off x="8215200" y="6357960"/>
            <a:ext cx="357480" cy="35712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22" h="21600">
                <a:moveTo>
                  <a:pt x="0" y="0"/>
                </a:moveTo>
                <a:lnTo>
                  <a:pt x="21622" y="0"/>
                </a:lnTo>
                <a:lnTo>
                  <a:pt x="21622" y="21600"/>
                </a:lnTo>
                <a:lnTo>
                  <a:pt x="0" y="21600"/>
                </a:lnTo>
                <a:close/>
              </a:path>
              <a:path fill="lightenLess" w="21622" h="21600">
                <a:moveTo>
                  <a:pt x="0" y="0"/>
                </a:moveTo>
                <a:lnTo>
                  <a:pt x="21622" y="0"/>
                </a:lnTo>
                <a:lnTo>
                  <a:pt x="20222" y="1400"/>
                </a:lnTo>
                <a:lnTo>
                  <a:pt x="1400" y="1400"/>
                </a:lnTo>
                <a:close/>
              </a:path>
              <a:path fill="darken" w="21622" h="21600">
                <a:moveTo>
                  <a:pt x="21622" y="0"/>
                </a:moveTo>
                <a:lnTo>
                  <a:pt x="21622" y="21600"/>
                </a:lnTo>
                <a:lnTo>
                  <a:pt x="20222" y="20200"/>
                </a:lnTo>
                <a:lnTo>
                  <a:pt x="20222" y="1400"/>
                </a:lnTo>
                <a:close/>
              </a:path>
              <a:path fill="darkenLess" w="21622" h="21600">
                <a:moveTo>
                  <a:pt x="21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2" y="20200"/>
                </a:lnTo>
                <a:close/>
              </a:path>
              <a:path fill="lighten" w="21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2" h="21600">
                <a:moveTo>
                  <a:pt x="3804" y="10800"/>
                </a:moveTo>
                <a:lnTo>
                  <a:pt x="17817" y="3794"/>
                </a:lnTo>
                <a:lnTo>
                  <a:pt x="17817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4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Box 4"/>
          <p:cNvSpPr/>
          <p:nvPr/>
        </p:nvSpPr>
        <p:spPr>
          <a:xfrm>
            <a:off x="285840" y="500040"/>
            <a:ext cx="8572320" cy="35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висшие на ветвях пышные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омья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снега д..вили их (к)низу пр..давая им  чудес(?)ный  праз(?)ничный и холодный вид. По временам срывалась с в..ршины  тоненькая веточка, и чр..звы-чайно ясно слышал..сь как она падая с лёгким  треском зад..ва-ла за другие ветви. Снег розовел на солнце и с..нел в тени. Мной овл..дело тихое  оч..рование этого торжестве(н,нн)ого холодного безмолвия и мне казалось что я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чувствую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как время медле(н,нн)о и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бе..шумно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проходит мимо мен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(А.Куприн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Box 2"/>
          <p:cNvSpPr/>
          <p:nvPr/>
        </p:nvSpPr>
        <p:spPr>
          <a:xfrm>
            <a:off x="357120" y="428760"/>
            <a:ext cx="15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висшие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3"/>
          <p:cNvSpPr/>
          <p:nvPr/>
        </p:nvSpPr>
        <p:spPr>
          <a:xfrm>
            <a:off x="357120" y="2286000"/>
            <a:ext cx="15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дав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6"/>
          <p:cNvSpPr/>
          <p:nvPr/>
        </p:nvSpPr>
        <p:spPr>
          <a:xfrm>
            <a:off x="357120" y="3786120"/>
            <a:ext cx="12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ад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8"/>
          <p:cNvSpPr/>
          <p:nvPr/>
        </p:nvSpPr>
        <p:spPr>
          <a:xfrm>
            <a:off x="1857240" y="428760"/>
            <a:ext cx="7000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мья) - действительное причастие, прошедшего времени, совершенного вида, невозвратное; во множ. числе, в именит. падеже; в предложении выполняет роль опреде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9"/>
          <p:cNvSpPr/>
          <p:nvPr/>
        </p:nvSpPr>
        <p:spPr>
          <a:xfrm>
            <a:off x="1777680" y="2286000"/>
            <a:ext cx="733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еепричастие, образовано от гл.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придавать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совершенного вида, невозвратное; не изменяется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предложении выполняет роль обстоятель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11"/>
          <p:cNvSpPr/>
          <p:nvPr/>
        </p:nvSpPr>
        <p:spPr>
          <a:xfrm>
            <a:off x="1244160" y="3786120"/>
            <a:ext cx="7336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еепричастие, образовано от гл.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падать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совершенного вида, невозвратное; не изменяется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предложении выполняет роль обстоятель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TextBox 2"/>
          <p:cNvSpPr/>
          <p:nvPr/>
        </p:nvSpPr>
        <p:spPr>
          <a:xfrm>
            <a:off x="793080" y="785880"/>
            <a:ext cx="7459200" cy="82548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ЛОЖНОПОДЧИНЁННЫЕ ПРЕДЛОЖ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 ПРИДАТОЧНЫМИ ОБСТОЯТЕЛЬСТВЕННЫ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3"/>
          <p:cNvSpPr/>
          <p:nvPr/>
        </p:nvSpPr>
        <p:spPr>
          <a:xfrm>
            <a:off x="0" y="2357280"/>
            <a:ext cx="107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ме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4"/>
          <p:cNvSpPr/>
          <p:nvPr/>
        </p:nvSpPr>
        <p:spPr>
          <a:xfrm>
            <a:off x="151560" y="36432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време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5"/>
          <p:cNvSpPr/>
          <p:nvPr/>
        </p:nvSpPr>
        <p:spPr>
          <a:xfrm>
            <a:off x="1654560" y="321480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срав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6"/>
          <p:cNvSpPr/>
          <p:nvPr/>
        </p:nvSpPr>
        <p:spPr>
          <a:xfrm>
            <a:off x="2512080" y="4214880"/>
            <a:ext cx="256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4" action="ppaction://hlinksldjump"/>
              </a:rPr>
              <a:t>образа действ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5" action="ppaction://hlinksldjump"/>
              </a:rPr>
              <a:t>     и степе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7"/>
          <p:cNvSpPr/>
          <p:nvPr/>
        </p:nvSpPr>
        <p:spPr>
          <a:xfrm>
            <a:off x="4998600" y="2786040"/>
            <a:ext cx="87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6" action="ppaction://hlinksldjump"/>
              </a:rPr>
              <a:t>це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8"/>
          <p:cNvSpPr/>
          <p:nvPr/>
        </p:nvSpPr>
        <p:spPr>
          <a:xfrm>
            <a:off x="7436880" y="2071800"/>
            <a:ext cx="132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7" action="ppaction://hlinksldjump"/>
              </a:rPr>
              <a:t>услов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9"/>
          <p:cNvSpPr/>
          <p:nvPr/>
        </p:nvSpPr>
        <p:spPr>
          <a:xfrm>
            <a:off x="7151760" y="2928960"/>
            <a:ext cx="14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8" action="ppaction://hlinksldjump"/>
              </a:rPr>
              <a:t>причи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10"/>
          <p:cNvSpPr/>
          <p:nvPr/>
        </p:nvSpPr>
        <p:spPr>
          <a:xfrm>
            <a:off x="4219920" y="3643200"/>
            <a:ext cx="164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9" action="ppaction://hlinksldjump"/>
              </a:rPr>
              <a:t>следств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Box 12"/>
          <p:cNvSpPr/>
          <p:nvPr/>
        </p:nvSpPr>
        <p:spPr>
          <a:xfrm>
            <a:off x="7078680" y="421488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10" action="ppaction://hlinksldjump"/>
              </a:rPr>
              <a:t>уступ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6" name="Прямая со стрелкой 47"/>
          <p:cNvCxnSpPr>
            <a:endCxn id="277" idx="0"/>
          </p:cNvCxnSpPr>
          <p:nvPr/>
        </p:nvCxnSpPr>
        <p:spPr>
          <a:xfrm flipH="1">
            <a:off x="536040" y="1928880"/>
            <a:ext cx="1107360" cy="429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87" name="Прямая со стрелкой 49"/>
          <p:cNvCxnSpPr>
            <a:endCxn id="278" idx="0"/>
          </p:cNvCxnSpPr>
          <p:nvPr/>
        </p:nvCxnSpPr>
        <p:spPr>
          <a:xfrm flipH="1">
            <a:off x="850320" y="2000160"/>
            <a:ext cx="1221480" cy="1643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88" name="Прямая со стрелкой 51"/>
          <p:cNvCxnSpPr>
            <a:endCxn id="279" idx="0"/>
          </p:cNvCxnSpPr>
          <p:nvPr/>
        </p:nvCxnSpPr>
        <p:spPr>
          <a:xfrm flipH="1">
            <a:off x="2490840" y="2142720"/>
            <a:ext cx="295560" cy="1072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89" name="Прямая со стрелкой 59"/>
          <p:cNvCxnSpPr>
            <a:endCxn id="283" idx="0"/>
          </p:cNvCxnSpPr>
          <p:nvPr/>
        </p:nvCxnSpPr>
        <p:spPr>
          <a:xfrm>
            <a:off x="5572080" y="1856880"/>
            <a:ext cx="2280240" cy="1072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90" name="Прямая со стрелкой 61"/>
          <p:cNvCxnSpPr>
            <a:endCxn id="284" idx="0"/>
          </p:cNvCxnSpPr>
          <p:nvPr/>
        </p:nvCxnSpPr>
        <p:spPr>
          <a:xfrm>
            <a:off x="3643200" y="1928880"/>
            <a:ext cx="1402560" cy="17150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91" name="Прямая со стрелкой 63"/>
          <p:cNvCxnSpPr>
            <a:endCxn id="282" idx="0"/>
          </p:cNvCxnSpPr>
          <p:nvPr/>
        </p:nvCxnSpPr>
        <p:spPr>
          <a:xfrm>
            <a:off x="6715080" y="1714680"/>
            <a:ext cx="1388160" cy="357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92" name="Прямая со стрелкой 65"/>
          <p:cNvCxnSpPr>
            <a:endCxn id="285" idx="0"/>
          </p:cNvCxnSpPr>
          <p:nvPr/>
        </p:nvCxnSpPr>
        <p:spPr>
          <a:xfrm>
            <a:off x="4857840" y="2071440"/>
            <a:ext cx="2845440" cy="21438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93" name="Прямая со стрелкой 70"/>
          <p:cNvCxnSpPr>
            <a:endCxn id="280" idx="0"/>
          </p:cNvCxnSpPr>
          <p:nvPr/>
        </p:nvCxnSpPr>
        <p:spPr>
          <a:xfrm>
            <a:off x="3357720" y="1928880"/>
            <a:ext cx="437040" cy="2286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94" name="Прямая со стрелкой 72"/>
          <p:cNvCxnSpPr/>
          <p:nvPr/>
        </p:nvCxnSpPr>
        <p:spPr>
          <a:xfrm>
            <a:off x="4143240" y="1928880"/>
            <a:ext cx="929520" cy="929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500"/>
                            </p:stCondLst>
                            <p:childTnLst>
                              <p:par>
                                <p:cTn id="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500"/>
                            </p:stCondLst>
                            <p:childTnLst>
                              <p:par>
                                <p:cTn id="7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3000"/>
                            </p:stCondLst>
                            <p:childTnLst>
                              <p:par>
                                <p:cTn id="7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3500"/>
                            </p:stCondLst>
                            <p:childTnLst>
                              <p:par>
                                <p:cTn id="8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4000"/>
                            </p:stCondLst>
                            <p:childTnLst>
                              <p:par>
                                <p:cTn id="85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Box 1"/>
          <p:cNvSpPr/>
          <p:nvPr/>
        </p:nvSpPr>
        <p:spPr>
          <a:xfrm>
            <a:off x="391320" y="500040"/>
            <a:ext cx="8492760" cy="54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53735"/>
                </a:solidFill>
                <a:latin typeface="Arial"/>
              </a:rPr>
              <a:t>ОБСТОЯТЕЛЬСТВЕН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53735"/>
                </a:solidFill>
                <a:latin typeface="Arial"/>
              </a:rPr>
              <a:t>ПРИДАТОЧНЫЕ  МЕ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Вопросы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оюзы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СОЮЗНЫ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b050"/>
                </a:solidFill>
                <a:latin typeface="Arial"/>
              </a:rPr>
              <a:t>указатель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7030a0"/>
                </a:solidFill>
                <a:latin typeface="Arial"/>
              </a:rPr>
              <a:t>СЛОВА</a:t>
            </a:r>
            <a:r>
              <a:rPr b="1" lang="ru-RU" sz="18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b050"/>
                </a:solidFill>
                <a:latin typeface="Arial"/>
              </a:rPr>
              <a:t>сл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Г Д Е?                                 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ГДЕ,</a:t>
            </a:r>
            <a:r>
              <a:rPr b="1" i="1" lang="ru-RU" sz="24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b050"/>
                </a:solidFill>
                <a:latin typeface="Arial"/>
              </a:rPr>
              <a:t>ТАМ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К У Д А?</a:t>
            </a: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____</a:t>
            </a: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КУДА,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b050"/>
                </a:solidFill>
                <a:latin typeface="Arial"/>
              </a:rPr>
              <a:t>ТУД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О Т К У Д А?  </a:t>
            </a: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ОТКУДА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b050"/>
                </a:solidFill>
                <a:latin typeface="Arial"/>
              </a:rPr>
              <a:t>ОТТУД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b050"/>
                </a:solidFill>
                <a:latin typeface="Arial"/>
              </a:rPr>
              <a:t>ВЕЗД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b050"/>
                </a:solidFill>
                <a:latin typeface="Arial"/>
              </a:rPr>
              <a:t>ВСЮ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50"/>
                </a:solidFill>
                <a:latin typeface="Arial"/>
              </a:rPr>
              <a:t>Всюду</a:t>
            </a:r>
            <a:r>
              <a:rPr b="1" i="1" lang="ru-RU" sz="2400" spc="-1" strike="noStrike">
                <a:solidFill>
                  <a:srgbClr val="10253f"/>
                </a:solidFill>
                <a:latin typeface="Arial"/>
              </a:rPr>
              <a:t>, 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где</a:t>
            </a:r>
            <a:r>
              <a:rPr b="1" i="1" lang="ru-RU" sz="2400" spc="-1" strike="noStrike">
                <a:solidFill>
                  <a:srgbClr val="10253f"/>
                </a:solidFill>
                <a:latin typeface="Arial"/>
              </a:rPr>
              <a:t> только лес был пореже, лежали на земл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0253f"/>
                </a:solidFill>
                <a:latin typeface="Arial"/>
              </a:rPr>
              <a:t>белые холсты лунного све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Управляющая кнопка: назад 2">
            <a:hlinkClick r:id="rId1"/>
          </p:cNvPr>
          <p:cNvSpPr/>
          <p:nvPr/>
        </p:nvSpPr>
        <p:spPr>
          <a:xfrm>
            <a:off x="8072280" y="6286680"/>
            <a:ext cx="428760" cy="285480"/>
          </a:xfrm>
          <a:custGeom>
            <a:avLst/>
            <a:gdLst>
              <a:gd name="textAreaLeft" fmla="*/ 18360 w 428760"/>
              <a:gd name="textAreaRight" fmla="*/ 410400 w 428760"/>
              <a:gd name="textAreaTop" fmla="*/ 18360 h 285480"/>
              <a:gd name="textAreaBottom" fmla="*/ 267120 h 285480"/>
            </a:gdLst>
            <a:ahLst/>
            <a:rect l="textAreaLeft" t="textAreaTop" r="textAreaRight" b="textAreaBottom"/>
            <a:pathLst>
              <a:path w="32427" h="21600">
                <a:moveTo>
                  <a:pt x="0" y="0"/>
                </a:moveTo>
                <a:lnTo>
                  <a:pt x="32427" y="0"/>
                </a:lnTo>
                <a:lnTo>
                  <a:pt x="32427" y="21600"/>
                </a:lnTo>
                <a:lnTo>
                  <a:pt x="0" y="21600"/>
                </a:lnTo>
                <a:close/>
              </a:path>
              <a:path fill="lightenLess" w="32427" h="21600">
                <a:moveTo>
                  <a:pt x="0" y="0"/>
                </a:moveTo>
                <a:lnTo>
                  <a:pt x="32427" y="0"/>
                </a:lnTo>
                <a:lnTo>
                  <a:pt x="31027" y="1400"/>
                </a:lnTo>
                <a:lnTo>
                  <a:pt x="1400" y="1400"/>
                </a:lnTo>
                <a:close/>
              </a:path>
              <a:path fill="darken" w="32427" h="21600">
                <a:moveTo>
                  <a:pt x="32427" y="0"/>
                </a:moveTo>
                <a:lnTo>
                  <a:pt x="32427" y="21600"/>
                </a:lnTo>
                <a:lnTo>
                  <a:pt x="31027" y="20200"/>
                </a:lnTo>
                <a:lnTo>
                  <a:pt x="31027" y="1400"/>
                </a:lnTo>
                <a:close/>
              </a:path>
              <a:path fill="darkenLess" w="32427" h="21600">
                <a:moveTo>
                  <a:pt x="324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27" y="20200"/>
                </a:lnTo>
                <a:close/>
              </a:path>
              <a:path fill="lighten" w="324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27" h="21600">
                <a:moveTo>
                  <a:pt x="9207" y="10800"/>
                </a:moveTo>
                <a:lnTo>
                  <a:pt x="23220" y="3794"/>
                </a:lnTo>
                <a:lnTo>
                  <a:pt x="23220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Box 7"/>
          <p:cNvSpPr/>
          <p:nvPr/>
        </p:nvSpPr>
        <p:spPr>
          <a:xfrm>
            <a:off x="285840" y="214200"/>
            <a:ext cx="8643960" cy="71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ОБСТОЯТЕЛЬСТВЕ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ПРИДАТОЧНЫЕ ВРЕМЕ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ВОПРОСЫ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            СОЮЗЫ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ru-RU" sz="1800" spc="-1" strike="noStrike">
                <a:solidFill>
                  <a:srgbClr val="7030a0"/>
                </a:solidFill>
                <a:latin typeface="Arial"/>
              </a:rPr>
              <a:t>СОЮЗНЫЕ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1800" spc="-1" strike="noStrike">
                <a:solidFill>
                  <a:srgbClr val="00b050"/>
                </a:solidFill>
                <a:latin typeface="Arial"/>
              </a:rPr>
              <a:t>УКАЗАТЕЛЬ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ru-RU" sz="1800" spc="-1" strike="noStrike">
                <a:solidFill>
                  <a:srgbClr val="7030a0"/>
                </a:solidFill>
                <a:latin typeface="Arial"/>
              </a:rPr>
              <a:t>СЛОВА</a:t>
            </a:r>
            <a:r>
              <a:rPr b="1" lang="ru-RU" sz="18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b050"/>
                </a:solidFill>
                <a:latin typeface="Arial"/>
              </a:rPr>
              <a:t> СЛ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К О Г Д А?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КОГДА, ПОКА,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00b050"/>
                </a:solidFill>
                <a:latin typeface="Arial"/>
              </a:rPr>
              <a:t>ТОГ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К А К 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КАК ТОЛЬКО,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2000" spc="-1" strike="noStrike">
                <a:solidFill>
                  <a:srgbClr val="7030a0"/>
                </a:solidFill>
                <a:latin typeface="Arial"/>
              </a:rPr>
              <a:t>____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i="1" lang="ru-RU" sz="2000" spc="-1" strike="noStrike">
                <a:solidFill>
                  <a:srgbClr val="00b050"/>
                </a:solidFill>
                <a:latin typeface="Arial"/>
              </a:rPr>
              <a:t>ДО ТЕХ П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Д О Л Г О?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ЛИШЬ, ТОЛЬКО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С  К А К И Х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ЕДВА, ПОКАМЕС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П О Р?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В ТО ВРЕМЯ КАК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Д О  К А К И Х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ПРЕЖДЕ Ч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П О Р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Н А  С К О Л Ь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К О В Р Е М Е Н 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54061"/>
                </a:solidFill>
                <a:latin typeface="Arial"/>
              </a:rPr>
              <a:t>3) Но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лишь</a:t>
            </a:r>
            <a:r>
              <a:rPr b="1" i="1" lang="ru-RU" sz="2400" spc="-1" strike="noStrike">
                <a:solidFill>
                  <a:srgbClr val="254061"/>
                </a:solidFill>
                <a:latin typeface="Arial"/>
              </a:rPr>
              <a:t> божественный глагол до слуха чуткого коснётся, душа поэта встрепенётся, как пробудившийся орё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Управляющая кнопка: назад 8">
            <a:hlinkClick r:id="rId1"/>
          </p:cNvPr>
          <p:cNvSpPr/>
          <p:nvPr/>
        </p:nvSpPr>
        <p:spPr>
          <a:xfrm>
            <a:off x="8358120" y="6429240"/>
            <a:ext cx="500040" cy="214560"/>
          </a:xfrm>
          <a:custGeom>
            <a:avLst/>
            <a:gdLst>
              <a:gd name="textAreaLeft" fmla="*/ 13680 w 500040"/>
              <a:gd name="textAreaRight" fmla="*/ 486360 w 500040"/>
              <a:gd name="textAreaTop" fmla="*/ 13680 h 214560"/>
              <a:gd name="textAreaBottom" fmla="*/ 200880 h 214560"/>
            </a:gdLst>
            <a:ahLst/>
            <a:rect l="textAreaLeft" t="textAreaTop" r="textAreaRight" b="textAreaBottom"/>
            <a:pathLst>
              <a:path w="50291" h="21600">
                <a:moveTo>
                  <a:pt x="0" y="0"/>
                </a:moveTo>
                <a:lnTo>
                  <a:pt x="50291" y="0"/>
                </a:lnTo>
                <a:lnTo>
                  <a:pt x="50291" y="21600"/>
                </a:lnTo>
                <a:lnTo>
                  <a:pt x="0" y="21600"/>
                </a:lnTo>
                <a:close/>
              </a:path>
              <a:path fill="lightenLess" w="50291" h="21600">
                <a:moveTo>
                  <a:pt x="0" y="0"/>
                </a:moveTo>
                <a:lnTo>
                  <a:pt x="50291" y="0"/>
                </a:lnTo>
                <a:lnTo>
                  <a:pt x="48891" y="1400"/>
                </a:lnTo>
                <a:lnTo>
                  <a:pt x="1400" y="1400"/>
                </a:lnTo>
                <a:close/>
              </a:path>
              <a:path fill="darken" w="50291" h="21600">
                <a:moveTo>
                  <a:pt x="50291" y="0"/>
                </a:moveTo>
                <a:lnTo>
                  <a:pt x="50291" y="21600"/>
                </a:lnTo>
                <a:lnTo>
                  <a:pt x="48891" y="20200"/>
                </a:lnTo>
                <a:lnTo>
                  <a:pt x="48891" y="1400"/>
                </a:lnTo>
                <a:close/>
              </a:path>
              <a:path fill="darkenLess" w="50291" h="21600">
                <a:moveTo>
                  <a:pt x="502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891" y="20200"/>
                </a:lnTo>
                <a:close/>
              </a:path>
              <a:path fill="lighten" w="502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291" h="21600">
                <a:moveTo>
                  <a:pt x="18139" y="10800"/>
                </a:moveTo>
                <a:lnTo>
                  <a:pt x="32152" y="3794"/>
                </a:lnTo>
                <a:lnTo>
                  <a:pt x="32152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5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TextBox 1"/>
          <p:cNvSpPr/>
          <p:nvPr/>
        </p:nvSpPr>
        <p:spPr>
          <a:xfrm>
            <a:off x="285840" y="571680"/>
            <a:ext cx="8643960" cy="59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ОБСТОЯТЕЛЬСТВЕН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ПРИДАТОЧНЫЕ СРАВ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ВОПРОСЫ</a:t>
            </a: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ОЮЗЫ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lang="ru-RU" sz="1800" spc="-1" strike="noStrike">
                <a:solidFill>
                  <a:srgbClr val="7030a0"/>
                </a:solidFill>
                <a:latin typeface="Arial"/>
              </a:rPr>
              <a:t>СОЮЗНЫЕ            </a:t>
            </a:r>
            <a:r>
              <a:rPr b="1" lang="ru-RU" sz="1800" spc="-1" strike="noStrike">
                <a:solidFill>
                  <a:srgbClr val="00b050"/>
                </a:solidFill>
                <a:latin typeface="Arial"/>
              </a:rPr>
              <a:t>УКАЗАТЕЛЬ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7030a0"/>
                </a:solidFill>
                <a:latin typeface="Arial"/>
              </a:rPr>
              <a:t>СЛОВА                   </a:t>
            </a:r>
            <a:r>
              <a:rPr b="1" lang="ru-RU" sz="1800" spc="-1" strike="noStrike">
                <a:solidFill>
                  <a:srgbClr val="00b050"/>
                </a:solidFill>
                <a:latin typeface="Arial"/>
              </a:rPr>
              <a:t>СЛ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К А К?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     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КАК, БУДТО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Н А С К О Л Ь –    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КАК БУДТО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К О?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    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СЛОВНО,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i="1" lang="ru-RU" sz="2000" spc="-1" strike="noStrike">
                <a:solidFill>
                  <a:srgbClr val="7030a0"/>
                </a:solidFill>
                <a:latin typeface="Arial"/>
              </a:rPr>
              <a:t>_________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          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ТОЧНО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ПОДОБ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ТОМУ КАК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ЧЕМ – Т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54061"/>
                </a:solidFill>
                <a:latin typeface="Arial"/>
              </a:rPr>
              <a:t>Азовское море цветёт в начале августа,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как</a:t>
            </a:r>
            <a:r>
              <a:rPr b="1" i="1" lang="ru-RU" sz="2400" spc="-1" strike="noStrike">
                <a:solidFill>
                  <a:srgbClr val="254061"/>
                </a:solidFill>
                <a:latin typeface="Arial"/>
              </a:rPr>
              <a:t> цветут реки и пруд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Управляющая кнопка: назад 4">
            <a:hlinkClick r:id="rId1"/>
          </p:cNvPr>
          <p:cNvSpPr/>
          <p:nvPr/>
        </p:nvSpPr>
        <p:spPr>
          <a:xfrm>
            <a:off x="8286840" y="6357960"/>
            <a:ext cx="357120" cy="285840"/>
          </a:xfrm>
          <a:custGeom>
            <a:avLst/>
            <a:gdLst>
              <a:gd name="textAreaLeft" fmla="*/ 18360 w 357120"/>
              <a:gd name="textAreaRight" fmla="*/ 338760 w 35712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6980" h="21600">
                <a:moveTo>
                  <a:pt x="0" y="0"/>
                </a:moveTo>
                <a:lnTo>
                  <a:pt x="26980" y="0"/>
                </a:lnTo>
                <a:lnTo>
                  <a:pt x="26980" y="21600"/>
                </a:lnTo>
                <a:lnTo>
                  <a:pt x="0" y="21600"/>
                </a:lnTo>
                <a:close/>
              </a:path>
              <a:path fill="lightenLess" w="26980" h="21600">
                <a:moveTo>
                  <a:pt x="0" y="0"/>
                </a:moveTo>
                <a:lnTo>
                  <a:pt x="26980" y="0"/>
                </a:lnTo>
                <a:lnTo>
                  <a:pt x="25580" y="1400"/>
                </a:lnTo>
                <a:lnTo>
                  <a:pt x="1400" y="1400"/>
                </a:lnTo>
                <a:close/>
              </a:path>
              <a:path fill="darken" w="26980" h="21600">
                <a:moveTo>
                  <a:pt x="26980" y="0"/>
                </a:moveTo>
                <a:lnTo>
                  <a:pt x="26980" y="21600"/>
                </a:lnTo>
                <a:lnTo>
                  <a:pt x="25580" y="20200"/>
                </a:lnTo>
                <a:lnTo>
                  <a:pt x="25580" y="1400"/>
                </a:lnTo>
                <a:close/>
              </a:path>
              <a:path fill="darkenLess" w="26980" h="21600">
                <a:moveTo>
                  <a:pt x="269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0" y="20200"/>
                </a:lnTo>
                <a:close/>
              </a:path>
              <a:path fill="lighten" w="269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0" h="21600">
                <a:moveTo>
                  <a:pt x="6483" y="10800"/>
                </a:moveTo>
                <a:lnTo>
                  <a:pt x="20496" y="3794"/>
                </a:lnTo>
                <a:lnTo>
                  <a:pt x="20496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2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Box 1"/>
          <p:cNvSpPr/>
          <p:nvPr/>
        </p:nvSpPr>
        <p:spPr>
          <a:xfrm>
            <a:off x="142920" y="714240"/>
            <a:ext cx="8786880" cy="75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          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ОБСТОЯТЕЛЬСТВЕННЫЕ ПРИДАТОЧ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                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ОБРАЗА ДЕЙСТВИЯ И СТЕПЕ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ВОПРОСЫ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ОЮЗЫ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СОЮЗНЫЕ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            </a:t>
            </a:r>
            <a:r>
              <a:rPr b="1" lang="ru-RU" sz="2000" spc="-1" strike="noStrike">
                <a:solidFill>
                  <a:srgbClr val="00b050"/>
                </a:solidFill>
                <a:latin typeface="Arial"/>
              </a:rPr>
              <a:t>УКАЗАТЕЛЬ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СЛОВА</a:t>
            </a: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            </a:t>
            </a:r>
            <a:r>
              <a:rPr b="1" lang="ru-RU" sz="2000" spc="-1" strike="noStrike">
                <a:solidFill>
                  <a:srgbClr val="00b050"/>
                </a:solidFill>
                <a:latin typeface="Arial"/>
              </a:rPr>
              <a:t>СЛ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К А К?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     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ЧТО,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i="1" lang="ru-RU" sz="2000" spc="-1" strike="noStrike">
                <a:solidFill>
                  <a:srgbClr val="7030a0"/>
                </a:solidFill>
                <a:latin typeface="Arial"/>
              </a:rPr>
              <a:t>КАК,</a:t>
            </a:r>
            <a:r>
              <a:rPr b="1" i="1" lang="ru-RU" sz="20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7030a0"/>
                </a:solidFill>
                <a:latin typeface="Arial"/>
              </a:rPr>
              <a:t>            </a:t>
            </a:r>
            <a:r>
              <a:rPr b="1" i="1" lang="ru-RU" sz="2000" spc="-1" strike="noStrike">
                <a:solidFill>
                  <a:srgbClr val="00b050"/>
                </a:solidFill>
                <a:latin typeface="Arial"/>
              </a:rPr>
              <a:t>ТАК, ТАКО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К А К И М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     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ЧТОБЫ,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i="1" lang="ru-RU" sz="2000" spc="-1" strike="noStrike">
                <a:solidFill>
                  <a:srgbClr val="7030a0"/>
                </a:solidFill>
                <a:latin typeface="Arial"/>
              </a:rPr>
              <a:t>НАСКОЛЬКО           </a:t>
            </a:r>
            <a:r>
              <a:rPr b="1" i="1" lang="ru-RU" sz="2000" spc="-1" strike="noStrike">
                <a:solidFill>
                  <a:srgbClr val="00b050"/>
                </a:solidFill>
                <a:latin typeface="Arial"/>
              </a:rPr>
              <a:t>ТАКИМ ОБРАЗО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О Б Р А З О М?     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КАК,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            </a:t>
            </a:r>
            <a:r>
              <a:rPr b="1" i="1" lang="ru-RU" sz="2000" spc="-1" strike="noStrike">
                <a:solidFill>
                  <a:srgbClr val="00b050"/>
                </a:solidFill>
                <a:latin typeface="Arial"/>
              </a:rPr>
              <a:t>НАСТОЛЬ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В  К А К О Й           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КАК БУДТО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М Е Р Е?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      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СЛОВНО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Д О  К А К О Й       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ТОЧ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С Т Е П Е Н 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54061"/>
                </a:solidFill>
                <a:latin typeface="Arial"/>
              </a:rPr>
              <a:t>1)</a:t>
            </a:r>
            <a:r>
              <a:rPr b="1" i="1" lang="ru-RU" sz="24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254061"/>
                </a:solidFill>
                <a:latin typeface="Arial"/>
              </a:rPr>
              <a:t>Творческие мои попытки </a:t>
            </a:r>
            <a:r>
              <a:rPr b="1" i="1" lang="ru-RU" sz="2400" spc="-1" strike="noStrike">
                <a:solidFill>
                  <a:srgbClr val="00b050"/>
                </a:solidFill>
                <a:latin typeface="Arial"/>
              </a:rPr>
              <a:t>так</a:t>
            </a:r>
            <a:r>
              <a:rPr b="1" i="1" lang="ru-RU" sz="24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254061"/>
                </a:solidFill>
                <a:latin typeface="Arial"/>
              </a:rPr>
              <a:t>привязали меня к литературе,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что</a:t>
            </a:r>
            <a:r>
              <a:rPr b="1" i="1" lang="ru-RU" sz="24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254061"/>
                </a:solidFill>
                <a:latin typeface="Arial"/>
              </a:rPr>
              <a:t>уже не мог я расстаться с тетрадью и чернильницей.  5) Почтенный замок был построен, 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как</a:t>
            </a:r>
            <a:r>
              <a:rPr b="1" i="1" lang="ru-RU" sz="2400" spc="-1" strike="noStrike">
                <a:solidFill>
                  <a:srgbClr val="254061"/>
                </a:solidFill>
                <a:latin typeface="Arial"/>
              </a:rPr>
              <a:t> замки строиться долж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Управляющая кнопка: назад 2">
            <a:hlinkClick r:id="rId1"/>
          </p:cNvPr>
          <p:cNvSpPr/>
          <p:nvPr/>
        </p:nvSpPr>
        <p:spPr>
          <a:xfrm>
            <a:off x="8358120" y="6357960"/>
            <a:ext cx="357120" cy="285840"/>
          </a:xfrm>
          <a:custGeom>
            <a:avLst/>
            <a:gdLst>
              <a:gd name="textAreaLeft" fmla="*/ 18360 w 357120"/>
              <a:gd name="textAreaRight" fmla="*/ 338760 w 35712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6980" h="21600">
                <a:moveTo>
                  <a:pt x="0" y="0"/>
                </a:moveTo>
                <a:lnTo>
                  <a:pt x="26980" y="0"/>
                </a:lnTo>
                <a:lnTo>
                  <a:pt x="26980" y="21600"/>
                </a:lnTo>
                <a:lnTo>
                  <a:pt x="0" y="21600"/>
                </a:lnTo>
                <a:close/>
              </a:path>
              <a:path fill="lightenLess" w="26980" h="21600">
                <a:moveTo>
                  <a:pt x="0" y="0"/>
                </a:moveTo>
                <a:lnTo>
                  <a:pt x="26980" y="0"/>
                </a:lnTo>
                <a:lnTo>
                  <a:pt x="25580" y="1400"/>
                </a:lnTo>
                <a:lnTo>
                  <a:pt x="1400" y="1400"/>
                </a:lnTo>
                <a:close/>
              </a:path>
              <a:path fill="darken" w="26980" h="21600">
                <a:moveTo>
                  <a:pt x="26980" y="0"/>
                </a:moveTo>
                <a:lnTo>
                  <a:pt x="26980" y="21600"/>
                </a:lnTo>
                <a:lnTo>
                  <a:pt x="25580" y="20200"/>
                </a:lnTo>
                <a:lnTo>
                  <a:pt x="25580" y="1400"/>
                </a:lnTo>
                <a:close/>
              </a:path>
              <a:path fill="darkenLess" w="26980" h="21600">
                <a:moveTo>
                  <a:pt x="269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0" y="20200"/>
                </a:lnTo>
                <a:close/>
              </a:path>
              <a:path fill="lighten" w="269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0" h="21600">
                <a:moveTo>
                  <a:pt x="6483" y="10800"/>
                </a:moveTo>
                <a:lnTo>
                  <a:pt x="20496" y="3794"/>
                </a:lnTo>
                <a:lnTo>
                  <a:pt x="20496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9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TextBox 1"/>
          <p:cNvSpPr/>
          <p:nvPr/>
        </p:nvSpPr>
        <p:spPr>
          <a:xfrm>
            <a:off x="214200" y="785880"/>
            <a:ext cx="8715600" cy="50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ОБСТОЯТЕЛЬСТВЕ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ПРИДАТОЧНЫЕ ЦЕ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ВОПРОСЫ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ОЮЗЫ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             </a:t>
            </a: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СОЮЗНЫЕ          </a:t>
            </a:r>
            <a:r>
              <a:rPr b="1" lang="ru-RU" sz="2000" spc="-1" strike="noStrike">
                <a:solidFill>
                  <a:srgbClr val="00b050"/>
                </a:solidFill>
                <a:latin typeface="Arial"/>
              </a:rPr>
              <a:t>УКАЗАТЕЛЬ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СЛОВА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          </a:t>
            </a:r>
            <a:r>
              <a:rPr b="1" lang="ru-RU" sz="2000" spc="-1" strike="noStrike">
                <a:solidFill>
                  <a:srgbClr val="00b050"/>
                </a:solidFill>
                <a:latin typeface="Arial"/>
              </a:rPr>
              <a:t>СЛ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З А Ч Е М?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    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ЧТОБЫ,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i="1" lang="ru-RU" sz="2000" spc="-1" strike="noStrike">
                <a:solidFill>
                  <a:srgbClr val="00b050"/>
                </a:solidFill>
                <a:latin typeface="Arial"/>
              </a:rPr>
              <a:t>ДЛЯ ТОГО, 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С  К А К О Й 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    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ДЛЯ ТОГО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7030a0"/>
                </a:solidFill>
                <a:latin typeface="Arial"/>
              </a:rPr>
              <a:t> _______</a:t>
            </a:r>
            <a:r>
              <a:rPr b="1" i="1" lang="ru-RU" sz="20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7030a0"/>
                </a:solidFill>
                <a:latin typeface="Arial"/>
              </a:rPr>
              <a:t>         </a:t>
            </a:r>
            <a:r>
              <a:rPr b="1" i="1" lang="ru-RU" sz="2000" spc="-1" strike="noStrike">
                <a:solidFill>
                  <a:srgbClr val="00b050"/>
                </a:solidFill>
                <a:latin typeface="Arial"/>
              </a:rPr>
              <a:t>ЗАТЕМ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Ц Е Л Ь Ю?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    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ЧТОБЫ, 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i="1" lang="ru-RU" sz="2000" spc="-1" strike="noStrike">
                <a:solidFill>
                  <a:srgbClr val="00b050"/>
                </a:solidFill>
                <a:latin typeface="Arial"/>
              </a:rPr>
              <a:t>С Т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Д Л Я  Ч Е Г О?    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ДАБ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54061"/>
                </a:solidFill>
                <a:latin typeface="Arial"/>
              </a:rPr>
              <a:t>6) На другой день Алексей, твёрдый в своём намерении, рано утром поехал к Муромскому,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дабы</a:t>
            </a:r>
            <a:r>
              <a:rPr b="1" i="1" lang="ru-RU" sz="2400" spc="-1" strike="noStrike">
                <a:solidFill>
                  <a:srgbClr val="254061"/>
                </a:solidFill>
                <a:latin typeface="Arial"/>
              </a:rPr>
              <a:t> откровенно с ним объяснитьс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Управляющая кнопка: назад 2">
            <a:hlinkClick r:id="rId1"/>
          </p:cNvPr>
          <p:cNvSpPr/>
          <p:nvPr/>
        </p:nvSpPr>
        <p:spPr>
          <a:xfrm>
            <a:off x="8501040" y="6429240"/>
            <a:ext cx="357120" cy="285840"/>
          </a:xfrm>
          <a:custGeom>
            <a:avLst/>
            <a:gdLst>
              <a:gd name="textAreaLeft" fmla="*/ 18360 w 357120"/>
              <a:gd name="textAreaRight" fmla="*/ 338760 w 35712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6980" h="21600">
                <a:moveTo>
                  <a:pt x="0" y="0"/>
                </a:moveTo>
                <a:lnTo>
                  <a:pt x="26980" y="0"/>
                </a:lnTo>
                <a:lnTo>
                  <a:pt x="26980" y="21600"/>
                </a:lnTo>
                <a:lnTo>
                  <a:pt x="0" y="21600"/>
                </a:lnTo>
                <a:close/>
              </a:path>
              <a:path fill="lightenLess" w="26980" h="21600">
                <a:moveTo>
                  <a:pt x="0" y="0"/>
                </a:moveTo>
                <a:lnTo>
                  <a:pt x="26980" y="0"/>
                </a:lnTo>
                <a:lnTo>
                  <a:pt x="25580" y="1400"/>
                </a:lnTo>
                <a:lnTo>
                  <a:pt x="1400" y="1400"/>
                </a:lnTo>
                <a:close/>
              </a:path>
              <a:path fill="darken" w="26980" h="21600">
                <a:moveTo>
                  <a:pt x="26980" y="0"/>
                </a:moveTo>
                <a:lnTo>
                  <a:pt x="26980" y="21600"/>
                </a:lnTo>
                <a:lnTo>
                  <a:pt x="25580" y="20200"/>
                </a:lnTo>
                <a:lnTo>
                  <a:pt x="25580" y="1400"/>
                </a:lnTo>
                <a:close/>
              </a:path>
              <a:path fill="darkenLess" w="26980" h="21600">
                <a:moveTo>
                  <a:pt x="269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0" y="20200"/>
                </a:lnTo>
                <a:close/>
              </a:path>
              <a:path fill="lighten" w="269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0" h="21600">
                <a:moveTo>
                  <a:pt x="6483" y="10800"/>
                </a:moveTo>
                <a:lnTo>
                  <a:pt x="20496" y="3794"/>
                </a:lnTo>
                <a:lnTo>
                  <a:pt x="20496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6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13-02-24T21:57:44Z</dcterms:modified>
  <cp:revision>61</cp:revision>
  <dc:subject/>
  <dc:title>Слайд 1</dc:title>
</cp:coreProperties>
</file>