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F7E-F283-4B36-BC5A-A8DD23281D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E1DE-8030-41A6-8C5D-65E6C6A4D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E8A-103D-4057-9130-7F21B67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6B2-8707-4330-949F-B65D747E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0B1-9DC2-42DB-BDBC-0AE41670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FE1-7FD6-4A4C-8A71-6A115804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DE1-DC01-4F7C-9EDF-0D1E02CC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1EEC-6D5F-453B-80F4-5D72515D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4334-B1CA-4A65-9259-B79D6A7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63EC-7336-47B9-BDAD-BE40FA92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1782-FE34-4585-A46D-1E43546C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0F8-14CC-4599-9AD5-A23C3EE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91CD-3FC0-43C1-BB13-44E9363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308-27A8-4571-B8EE-2EADEF4C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1E8-339C-4C24-B8F2-C01D04BE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C8D-8368-41D9-A780-D79FA12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2E70-888F-4141-B39B-D00EB695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077-D74D-45B9-BEFE-259E3369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0841-8814-4E33-A329-7D06AEB1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42B0-8194-4E0B-BE56-FE56C454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E320-DF08-4F5F-B20C-0AFEE1A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F07B-7C4B-4975-B886-7C73902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3125-3CC9-42EB-80C7-756BADC2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B432-48D1-4080-B520-2D4A6F7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5F2-062F-43A8-A34F-0128ED3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4C44-EAD9-4475-A42F-758D423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8791-D533-4269-B726-2BAA461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D6A3-C471-4C43-A83B-ACD2716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DD2F-CB71-4248-BED1-C8D9562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A55E-9BBC-4555-9631-5F79D95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7BB0-6291-467A-BCF3-C89245C6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21E7-0B2F-4827-926A-16796892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A53A-876E-4861-A19E-CB02D126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9370-5C38-400F-82D2-BD13142F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11F5-1C08-403D-B823-E4ED904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B59-188D-41B1-AAD7-9D841CE3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E462-9006-472D-982D-47A3BD1E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3A3D-74A9-487F-BC4C-D0F950C5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A028-7C87-4F12-BA34-EDA2EDF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FCCF-AAC0-41A1-A3CC-5A711B0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F05E-6527-4CDD-8CAB-C988028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CBC6-B041-4988-B031-0C41E67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0EEE-086F-4EB2-B5B9-6DCC08A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D0BF8-B262-460C-A4F8-E43BA322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16B2-5F2D-444C-B0FD-BC18FEF5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FD9E-31D6-412D-B57B-1F8813B2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5BE-F742-4A9F-B52C-3F2F9110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78A9-4635-4044-B550-165B4870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B1CCE-9290-4D0C-A5B5-0E5DE14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690A-54AB-401B-8BED-9AF490C2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A2C1-B35F-4E48-86AA-4D2AC95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52E0-4D2F-4FC9-9A17-A4DBD965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2C7F3-8446-4F2C-B41E-81D35AE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0657-66E7-4ABB-8DA3-B4931F6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4659-3209-4183-B3A1-5D06555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568E-DD46-43F8-9123-8AF8C90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14BE-DF3C-4111-89F2-17093850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859-9F55-4408-B4A2-6014FC3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26A9-8281-4A4E-BF15-1DE8D1C7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3C6D-AC34-4927-AAB4-A12638C1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869E6-9CD2-443A-87C3-21E9EEED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37B1-91C3-44CD-9C8E-266280F8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2947-D68C-4321-B8CB-9C21ADA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1D90B-58D0-4864-A1E5-01A724AF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8E0D-0538-4233-AEDD-459B2B92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3DDA8-B272-4B66-86CE-D168F32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469C-D2B6-4EC2-9DC8-A0EADC99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1CE65-742A-423F-94A0-BC7E42D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919-970E-4036-A82C-B55ED7C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1F69-26CD-4E4C-A995-3B24133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529FA-F69E-4CC5-983B-48148936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03EE-E3EF-43EF-B977-EAB4337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230-5F99-4298-81BC-A954023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135-4601-4A13-8B43-EF553D5C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D9D-B06F-4102-AA0B-55538BDCD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83E-7728-45A9-AD6D-59AD6589621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76A-FD3A-46A7-A560-F5D5A967819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DC6-9B58-465F-B1ED-3CEAEE1DBAE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A1B5-5DA8-48E6-94C3-AFDF00EFD2D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8C5-6C8E-4984-A6A6-5F78BC25B0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956880" y="1268280"/>
            <a:ext cx="56152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репление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иды придаточных предлож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Кур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БОУ СОШ №3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рунзенского р-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142920" y="642960"/>
            <a:ext cx="88581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     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Р 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СЛИ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 ТОМ СЛУЧА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О М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ГДА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У С Л О В И И?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БЫ,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Ж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ЛИ (КОЛЬ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СКО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2) Ох, лето красное! Любил бы я тебя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гда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б не зной, на пыль, да комары, да му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правляющая кнопка: назад 2">
            <a:hlinkClick r:id="rId1"/>
          </p:cNvPr>
          <p:cNvSpPr/>
          <p:nvPr/>
        </p:nvSpPr>
        <p:spPr>
          <a:xfrm>
            <a:off x="8572680" y="642924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0957" y="10800"/>
                </a:moveTo>
                <a:lnTo>
                  <a:pt x="24970" y="3794"/>
                </a:lnTo>
                <a:lnTo>
                  <a:pt x="2497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0" y="0"/>
            <a:ext cx="8929800" cy="72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Ч Е М У?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ТОМУ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Т Ч Е Г О?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ОТ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К А К О Й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ТТОГО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ВИДУ 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Р И Ч И Н Е?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 ИБ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ВСЛЕД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АК КАК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ТЕМ Ч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БЛАГОД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МУ Ч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ВИДУ 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7) С тех пор изучение сих записок заняло меня исключительно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б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видел я возможность извлечь из них повествование стройное, любопытное и поучитель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Управляющая кнопка: назад 2">
            <a:hlinkClick r:id="rId1"/>
          </p:cNvPr>
          <p:cNvSpPr/>
          <p:nvPr/>
        </p:nvSpPr>
        <p:spPr>
          <a:xfrm>
            <a:off x="842976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10800"/>
                </a:moveTo>
                <a:lnTo>
                  <a:pt x="23186" y="3794"/>
                </a:lnTo>
                <a:lnTo>
                  <a:pt x="2318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214200" y="857160"/>
            <a:ext cx="87156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У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Е С М О Т Р Я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ХОТ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 Ч Т О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СМОТ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О П Р Е К 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 ТО ЧТ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 Е М У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У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УСК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смотря на то чт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ветер свободно носился над морем, тучи были неподви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назад 2">
            <a:hlinkClick r:id="rId1"/>
          </p:cNvPr>
          <p:cNvSpPr/>
          <p:nvPr/>
        </p:nvSpPr>
        <p:spPr>
          <a:xfrm>
            <a:off x="84297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214200" y="714240"/>
            <a:ext cx="87156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Ч Т О  И З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АК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Э Т О Г О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_______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 Л Е Д У Е 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 заборов росли липы, бросавшие теперь при луне широкую тень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ак что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заборы и ворота на одной стороне совершенно утопали в потём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назад 2">
            <a:hlinkClick r:id="rId1"/>
          </p:cNvPr>
          <p:cNvSpPr/>
          <p:nvPr/>
        </p:nvSpPr>
        <p:spPr>
          <a:xfrm>
            <a:off x="8215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4"/>
          <p:cNvSpPr/>
          <p:nvPr/>
        </p:nvSpPr>
        <p:spPr>
          <a:xfrm>
            <a:off x="285840" y="500040"/>
            <a:ext cx="8572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исшие на ветвях пыш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ь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нега д..вили их (к)низу пр..давая им  чудес(?)ный  праз(?)ничный и холодный вид. По временам срывалась с в..ршины  тоненькая веточка, и чр..звы-чайно ясно слышал..сь как она падая с лёгким  треском зад..ва-ла за другие ветви. Снег розовел на солнце и с..нел в тени. Мной овл..дело тихое  оч..рование этого торжестве(н,нн)ого холодного безмолвия и мне казалось что 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вств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время медле(н,нн)о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..шум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ходит мимо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А.Купри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357120" y="428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исш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57120" y="228600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357120" y="378612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д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1857240" y="42876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ья) - действительное причастие, прошедшего времени, совершенного вида, невозвратное; во множ. числе, в именит. падеже; в предложении выполняет роль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777680" y="2286000"/>
            <a:ext cx="73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епричастие, образовано от гл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да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ного вида, невозвратное; не изме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ложении выполняет роль обстоя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1244160" y="3786120"/>
            <a:ext cx="73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епричастие, образовано от гл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ад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ного вида, невозвратное; не изме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ложении выполняет роль обстоя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2"/>
          <p:cNvSpPr/>
          <p:nvPr/>
        </p:nvSpPr>
        <p:spPr>
          <a:xfrm>
            <a:off x="793080" y="785880"/>
            <a:ext cx="7459200" cy="825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ОПОДЧИНЁННЫЕ ПРЕД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РИДАТОЧНЫМИ ОБСТОЯТЕЛЬСТВ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0" y="23572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51560" y="3643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654560" y="321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2512080" y="4214880"/>
            <a:ext cx="25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   и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998600" y="2786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436880" y="20718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7151760" y="29289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4219920" y="3643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7078680" y="4214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у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47"/>
          <p:cNvCxnSpPr>
            <a:endCxn id="277" idx="0"/>
          </p:cNvCxnSpPr>
          <p:nvPr/>
        </p:nvCxnSpPr>
        <p:spPr>
          <a:xfrm flipH="1">
            <a:off x="536040" y="1928880"/>
            <a:ext cx="11073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7" name="Прямая со стрелкой 49"/>
          <p:cNvCxnSpPr>
            <a:endCxn id="278" idx="0"/>
          </p:cNvCxnSpPr>
          <p:nvPr/>
        </p:nvCxnSpPr>
        <p:spPr>
          <a:xfrm flipH="1">
            <a:off x="850320" y="2000160"/>
            <a:ext cx="12214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8" name="Прямая со стрелкой 51"/>
          <p:cNvCxnSpPr>
            <a:endCxn id="279" idx="0"/>
          </p:cNvCxnSpPr>
          <p:nvPr/>
        </p:nvCxnSpPr>
        <p:spPr>
          <a:xfrm flipH="1">
            <a:off x="2490840" y="2142720"/>
            <a:ext cx="2955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9" name="Прямая со стрелкой 59"/>
          <p:cNvCxnSpPr>
            <a:endCxn id="283" idx="0"/>
          </p:cNvCxnSpPr>
          <p:nvPr/>
        </p:nvCxnSpPr>
        <p:spPr>
          <a:xfrm>
            <a:off x="5572080" y="1856880"/>
            <a:ext cx="22802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0" name="Прямая со стрелкой 61"/>
          <p:cNvCxnSpPr>
            <a:endCxn id="284" idx="0"/>
          </p:cNvCxnSpPr>
          <p:nvPr/>
        </p:nvCxnSpPr>
        <p:spPr>
          <a:xfrm>
            <a:off x="3643200" y="1928880"/>
            <a:ext cx="1402560" cy="171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1" name="Прямая со стрелкой 63"/>
          <p:cNvCxnSpPr>
            <a:endCxn id="282" idx="0"/>
          </p:cNvCxnSpPr>
          <p:nvPr/>
        </p:nvCxnSpPr>
        <p:spPr>
          <a:xfrm>
            <a:off x="6715080" y="1714680"/>
            <a:ext cx="1388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2" name="Прямая со стрелкой 65"/>
          <p:cNvCxnSpPr>
            <a:endCxn id="285" idx="0"/>
          </p:cNvCxnSpPr>
          <p:nvPr/>
        </p:nvCxnSpPr>
        <p:spPr>
          <a:xfrm>
            <a:off x="4857840" y="2071440"/>
            <a:ext cx="284544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>
            <a:endCxn id="280" idx="0"/>
          </p:cNvCxnSpPr>
          <p:nvPr/>
        </p:nvCxnSpPr>
        <p:spPr>
          <a:xfrm>
            <a:off x="3357720" y="1928880"/>
            <a:ext cx="4370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4" name="Прямая со стрелкой 72"/>
          <p:cNvCxnSpPr/>
          <p:nvPr/>
        </p:nvCxnSpPr>
        <p:spPr>
          <a:xfrm>
            <a:off x="4143240" y="1928880"/>
            <a:ext cx="92952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391320" y="500040"/>
            <a:ext cx="84927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ПРИДАТОЧНЫЕ 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каз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 Д Е?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ДЕ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 У Д А?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УДА,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 Т К У Д А?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ОТКУД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ОТТ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ЕЗ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Ю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сюду</a:t>
            </a: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де</a:t>
            </a: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 только лес был пореже, лежали на зем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белые холсты лунного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назад 2">
            <a:hlinkClick r:id="rId1"/>
          </p:cNvPr>
          <p:cNvSpPr/>
          <p:nvPr/>
        </p:nvSpPr>
        <p:spPr>
          <a:xfrm>
            <a:off x="8072280" y="628668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10800"/>
                </a:moveTo>
                <a:lnTo>
                  <a:pt x="23220" y="3794"/>
                </a:lnTo>
                <a:lnTo>
                  <a:pt x="2322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7"/>
          <p:cNvSpPr/>
          <p:nvPr/>
        </p:nvSpPr>
        <p:spPr>
          <a:xfrm>
            <a:off x="285840" y="214200"/>
            <a:ext cx="8643960" cy="71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СОЮЗ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ОЮЗНЫЕ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 Г Д А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ГДА, ПОКА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ТОЛЬКО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ДО ТЕХ 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Л Г О?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ШЬ, ТОЛЬ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 К А К И 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ЕДВА, ПОКАМЕ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Р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ТО ВРЕМЯ К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 К А К И 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ЖДЕ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 О 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 С К О Л 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 В Р Е М Е Н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3) Н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шь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божественный глагол до слуха чуткого коснётся, душа поэта встрепенётся, как пробудившийся ор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назад 8">
            <a:hlinkClick r:id="rId1"/>
          </p:cNvPr>
          <p:cNvSpPr/>
          <p:nvPr/>
        </p:nvSpPr>
        <p:spPr>
          <a:xfrm>
            <a:off x="835812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10800"/>
                </a:moveTo>
                <a:lnTo>
                  <a:pt x="32152" y="3794"/>
                </a:lnTo>
                <a:lnTo>
                  <a:pt x="3215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285840" y="571680"/>
            <a:ext cx="8643960" cy="59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ОЮЗНЫЕ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,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 А С К О Л Ь –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О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ЛОВН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_________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Ч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О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МУ К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ЕМ –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Азовское море цветёт в начале августа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цветут реки и пру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правляющая кнопка: назад 4">
            <a:hlinkClick r:id="rId1"/>
          </p:cNvPr>
          <p:cNvSpPr/>
          <p:nvPr/>
        </p:nvSpPr>
        <p:spPr>
          <a:xfrm>
            <a:off x="828684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142920" y="714240"/>
            <a:ext cx="8786880" cy="75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 ПРИДАТО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А ДЕЙСТВИЯ И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КАК,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АК, ТА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 А К И М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СКОЛЬКО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ТАКИМ ОБРАЗ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Б Р А З О М?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НАС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 К А К О Й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 Е Р Е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ЛО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О  К А К О Й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О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Т Е П Е Н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1)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Творческие мои попытки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так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привязали меня к литературе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уже не мог я расстаться с тетрадью и чернильницей.  5) Почтенный замок был построен,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ак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замки строиться дол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Управляющая кнопка: назад 2">
            <a:hlinkClick r:id="rId1"/>
          </p:cNvPr>
          <p:cNvSpPr/>
          <p:nvPr/>
        </p:nvSpPr>
        <p:spPr>
          <a:xfrm>
            <a:off x="8358120" y="63579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214200" y="785880"/>
            <a:ext cx="87156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СТОЯТЕ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ДАТОЧНЫЕ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ПРОС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ЮЗЫ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ЮЗНЫЕ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КАЗ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 А Ч Е М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ДЛЯ ТОГО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  К А К О Й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ЛЯ ТОГО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_______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ЗАТ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 Е Л Ь Ю?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БЫ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С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 Л Я  Ч Е Г О?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6) На другой день Алексей, твёрдый в своём намерении, рано утром поехал к Муромско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абы</a:t>
            </a:r>
            <a:r>
              <a:rPr b="1" i="1" lang="ru-RU" sz="2400" spc="-1" strike="noStrike">
                <a:solidFill>
                  <a:srgbClr val="254061"/>
                </a:solidFill>
                <a:latin typeface="Arial"/>
              </a:rPr>
              <a:t> откровенно с ним объясн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Управляющая кнопка: назад 2">
            <a:hlinkClick r:id="rId1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2-24T21:57:44Z</dcterms:modified>
  <cp:revision>61</cp:revision>
  <dc:subject/>
  <dc:title>Слайд 1</dc:title>
</cp:coreProperties>
</file>