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80F-741B-4200-9B6F-87CD0EB9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6EE-401B-421C-92C8-C88D197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D12C3-D9D0-40AC-BD32-5761298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EA28B-8680-486B-B6FE-55EA00F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0580-1F86-4AB9-8B6F-7B3324B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7B08D-A181-4908-B68C-2929E10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B539-AE71-41FD-9532-62EA0B7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743B9-A786-456B-97E7-37C9117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AACF1-1A37-45A3-8E67-7F97C578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20B4F-8767-4C82-AA6E-C3841009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41C17-7DAC-4F0B-BDFC-5F99E407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631B6-EF0D-4690-99D3-3C3FC2E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0EA-6ACC-49C1-97FA-41DC61AA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A2BF3-80EB-4DA7-AA35-7A07DFD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DE10DD-5272-40AD-A8D4-C7A73AD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C2A2A-8927-4ED5-997C-47E5055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8C8AB-BFC5-4A1D-B067-3876481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B443C6-FD9B-4A1D-BEBD-C90E7C25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8B8C8A-3266-4D1C-9262-84D99CC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156B7-5AD8-4575-B73E-C8FEF76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092669-DBFA-458A-BA32-CAEC76E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7FEEE-4206-42BE-B2CE-AEE1A18E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28AD72-7F4E-4BE4-BA94-0A27C660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EDE-C56E-44AB-AFFE-C2C99DFB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8FECFD-3FB7-4EC1-87EA-39867E88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1CE-CE2C-489B-835C-BE1A52D0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3E6-109D-4B55-9D45-F1D842C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9DB-92C9-4BF8-8A97-EEC90E2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15D5-DED7-451F-86EE-0A34D91C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E55A-61BC-41D8-AA8D-B845D111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E9DD-9BAA-4E4D-9C32-F289DA6E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B97-B7F9-4CF1-9442-92DBC55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EB5-2A28-45D3-93FC-A8161530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A07F-11EC-4164-9745-679C9FC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3E48-642F-4265-A68D-33CAE047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7B9D-B4A9-4D22-A4D1-035D6DF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F6B6-C789-4E70-A099-B79AE3D8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4EA4-E3C1-48FE-8A26-1ED3F70A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0C7F-0A5B-4F87-AAAE-B34465E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BD01-A171-41A2-8FC0-FE6D732C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9D8F-906C-4E31-9690-164697F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00F2-0CBA-4706-BE8C-453AC6D1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5F79-57E3-47FE-BCBD-2211ABDD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B9B-A08E-4B50-85E2-C6DFF653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1CA2-0B9D-40C5-A47D-BE3789B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DCCD-6BAE-412C-AFF9-A1CE92E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082A-B188-4F95-9FA6-0EDB391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84E4-4B6B-4579-BD07-D93F83A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E502-5DAF-42F2-ACD2-E8E8ECC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7741-2438-4AFD-94C4-7A1F848D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A538-0213-43A6-9ACB-854A58D0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947F-72E7-4FFD-8E7F-AA160722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4267-7120-4A09-BA69-7BBAD802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537A-CECC-43E1-90EA-1B81194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721-EA66-4D56-A2A5-43699A01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B725-D4FD-4122-BBFD-4BCA82A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A30C-D463-4BC2-9068-9CB3CFF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30BB-C4CD-4898-AA49-5ACBD9BE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C545-2B2E-46CC-AEB1-31490B9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DBB7-375A-4A74-8795-45B23FF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92DB-E16B-4011-83E7-5A1F14C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EDD4-B46E-4EA6-8949-A14B773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ADADD-491F-49BF-BBBD-32B758EB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B118-2BB5-42B1-9C44-1A21989D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DDAC-F329-4F11-9406-93EEAF6C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54E-05D0-4709-9E41-B5F4F93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B045-0006-4FB4-BCAE-ECBF3A26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601F-5EDB-4AC1-8CAB-C5A4D86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BF98-8442-4FBF-9930-57B97AB1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7B52-C67C-431A-9601-4D2E385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2BBD-207F-4A6A-9A25-B561E8B5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CFA8-684C-448D-A534-CDF8A61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D64A-C871-471C-9B0E-AB0FC6F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ED6E-B861-4FDF-A0F8-815E3F8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9DBD-3499-42F8-8FAF-1358B596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14BE6-DDC1-4B27-A493-272622DA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B52-6FDF-4EEC-ADB7-499C31A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8298-EA89-4FBA-B85D-07789363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B697-DB21-4F36-86B0-AD6CA1BD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78DB-406A-4513-9E07-167ED06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78C8-97CA-4482-8202-1A6E8DC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4896-C069-46D4-8F83-A3C35EEA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795B-08F1-40FB-A199-4FF0725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1D27-EA72-411D-9E01-2AC6E520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37E1-344F-49B2-9C8F-9360256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6955-E5E8-4193-8F20-180E71A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41F1-CFBB-447E-A3B4-BE2D69E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597-4DC2-4AA1-B412-2B74EC6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220CE-7185-4C3E-9A9B-C931AAD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3B416-7CAB-4E1A-9EE8-F20AD20D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7208E-FA65-41ED-9FA9-188950BB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3F58-723C-4532-968F-3C940B57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2454-01BE-408C-AE64-D2DBD9B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1B10-27A5-47CB-901F-734BA7E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FF848-A7FF-4274-AF75-B02D5FF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C54D-8251-4F82-BF2D-63AFC9E8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545C-C242-40D8-89AA-B3F61486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81D4F-83C6-4923-9437-5958471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D0E-CD77-438E-8777-482B870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639C-07B7-46D5-8BA4-7A38247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A221-9ECA-467A-9102-EDF5DD3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D5956-A8C5-4F79-883F-09B4BDC1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95EA-78C4-4B03-B4B0-84FC7978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62C3-ED1C-4654-AF3A-9D22384A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D2B9-3C71-4246-8EC5-88E786F6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8337-17FB-47C7-BEF3-13141C5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97D1-E137-408C-8FDE-67610FA0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B99E-2351-4BE2-B97A-573FD2C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44BF-2FBB-4B3F-B1F7-AA126E6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42C-DBDD-4F3B-86E2-FF0F334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34D57-BE45-49BB-B80E-C9B1A04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5D23-D4BC-41C8-989F-449042A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F8D9-5005-4E57-962B-99ADF3B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6D51-A55D-4B11-86F0-C5AD92A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0FCA-7BCB-4712-9CAC-77B19ED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FDA83-EF02-4FB9-B9B9-BA6451DA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E3FD-8969-49E1-A27E-2A54A6A9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B1B71-A750-438B-9FEC-3C5911F1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BBFF9-6000-4AA1-AAF5-83A7D26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E228-260B-4D30-9AF8-64B0798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C6C3-3EB9-4D15-9A28-BDF7C9F1DD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AB8-0568-4614-AAD2-8E211D8B2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5BB-AAEB-40C4-8F38-9667101610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C5F-DD1C-4CAA-BCBC-A1153ED78D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09FE-A69E-47EF-BEBB-3EFFB6B692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7C0-CC77-4F30-BB3F-5AF62D76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D358-BF71-49AD-A964-CE87C7B07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67E-283B-4B35-88A5-7C3F18CA9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45A-B68B-47EF-9558-5BE212C48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5F86-8B5C-4CEC-86F0-B87FA7F40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66ffff"/>
                </a:solidFill>
                <a:latin typeface="Comic Sans MS"/>
              </a:rPr>
              <a:t>В</a:t>
            </a:r>
            <a:r>
              <a:rPr b="0" lang="en-US" sz="6000" spc="-1" strike="noStrike">
                <a:solidFill>
                  <a:srgbClr val="990000"/>
                </a:solidFill>
                <a:latin typeface="Comic Sans MS"/>
              </a:rPr>
              <a:t>р</a:t>
            </a:r>
            <a:r>
              <a:rPr b="0" lang="en-US" sz="6000" spc="-1" strike="noStrike">
                <a:solidFill>
                  <a:srgbClr val="33cc33"/>
                </a:solidFill>
                <a:latin typeface="Comic Sans MS"/>
              </a:rPr>
              <a:t>е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м</a:t>
            </a:r>
            <a:r>
              <a:rPr b="0" lang="en-US" sz="60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en-US" sz="6000" spc="-1" strike="noStrike">
                <a:solidFill>
                  <a:srgbClr val="0066cc"/>
                </a:solidFill>
                <a:latin typeface="Comic Sans MS"/>
              </a:rPr>
              <a:t>н</a:t>
            </a:r>
            <a:r>
              <a:rPr b="0" lang="en-US" sz="6000" spc="-1" strike="noStrike">
                <a:solidFill>
                  <a:srgbClr val="9900ff"/>
                </a:solidFill>
                <a:latin typeface="Comic Sans MS"/>
              </a:rPr>
              <a:t>а </a:t>
            </a:r>
            <a:r>
              <a:rPr b="0" lang="en-US" sz="6000" spc="-1" strike="noStrike">
                <a:solidFill>
                  <a:srgbClr val="ff66cc"/>
                </a:solidFill>
                <a:latin typeface="Comic Sans MS"/>
              </a:rPr>
              <a:t>г</a:t>
            </a:r>
            <a:r>
              <a:rPr b="0" lang="en-US" sz="6000" spc="-1" strike="noStrike">
                <a:solidFill>
                  <a:srgbClr val="3399ff"/>
                </a:solidFill>
                <a:latin typeface="Comic Sans MS"/>
              </a:rPr>
              <a:t>о</a:t>
            </a:r>
            <a:r>
              <a:rPr b="0" lang="en-US" sz="6000" spc="-1" strike="noStrike">
                <a:solidFill>
                  <a:srgbClr val="66ff33"/>
                </a:solidFill>
                <a:latin typeface="Comic Sans MS"/>
              </a:rPr>
              <a:t>д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Тургунбаевой Даяны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4  Б 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ffcc"/>
                </a:solidFill>
                <a:latin typeface="Tahoma"/>
              </a:rPr>
              <a:t>ЗиМа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896000" y="1699920"/>
            <a:ext cx="4248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Загорятся звёзды краш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Лёд прильнёт к в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На коньках начнём катать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Мы на звонком льд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Будет смех наш раздаваться.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0720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ff00"/>
                </a:solidFill>
                <a:latin typeface="Garamond"/>
              </a:rPr>
              <a:t>ВеСнА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2232000" cy="21099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Люблю грозу в начале м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Когда весенний, первый гр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Как бы резвяся и игр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Грохочет в небе голубом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Tahoma"/>
              </a:rPr>
              <a:t>ЛеТо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М  ОчЕнЬ ХоРошО  И ТеПло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А ЕщЁ ЛеТоМ у ДеТеЙ кАнИкУ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 оНи эТоМу ОчЕнЬ РаДы.ЛеТоМ ДеТи вМеСтЕ с РоДнЫ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еДуТ ОтДыХаТь.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6838920" y="260280"/>
            <a:ext cx="2305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c00"/>
                </a:solidFill>
                <a:latin typeface="Times New Roman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Осень. Пал туман на долы Луг во мгле сырой исчез. Ветер листья рвёт, и голый, Замерзая, стонет лес   </a:t>
            </a: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5254560" y="1700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3:59Z</dcterms:created>
  <dc:creator>User</dc:creator>
  <dc:description/>
  <dc:language>en-US</dc:language>
  <cp:lastModifiedBy>User</cp:lastModifiedBy>
  <dcterms:modified xsi:type="dcterms:W3CDTF">2012-11-14T10:01:36Z</dcterms:modified>
  <cp:revision>4</cp:revision>
  <dc:subject/>
  <dc:title> Времена года</dc:title>
</cp:coreProperties>
</file>