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EDD-D58F-41A7-A423-0BAF3DD1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970-B733-4321-B6A5-06A12E7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82A3B-808E-4704-82C7-5A4E5E5C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6B85C-237F-4309-B554-DD53869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6D40F-BB35-4C8F-998C-5BD87B2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23E91-B380-443B-BA51-DFF883E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3EF78-9FFC-40A0-9CB0-50F854E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9245F-E10D-4F42-A4E6-739EC5F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C37BD-2D97-4095-84F7-99410D3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F0C88-43E4-4982-BBE4-39EC495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98D42-A919-477C-8821-5365D742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2AAABF-1905-4D67-BB06-E2AF6A0B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A84-1AC2-4CB6-B77F-3DC2F626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736250-14AA-4C4C-9700-953EB50F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9EFFA2-257D-48CC-8FC2-03D805C8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A43420-12B8-4436-81A9-AD7E65C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06AEB0-718A-4FCB-9EC6-3E2FC7D8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23008B-7E40-41C9-92E6-7987A551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1061A9-5972-412D-B11C-7B56AC05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281379-B643-43FE-94EF-21A3B67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BE56CC-A925-47F5-B420-0EB98B74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3BF0D-14DE-45A1-A839-69F64FEF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08E133-A0C6-414C-8B6B-E9133D43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266-AF49-452B-B56A-4AB244C1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CDBF62-B155-4802-A9FA-7C86B902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6083-58AB-4D49-A413-9542A3A7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168B-9488-4CAE-A3BB-B1FDDDF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734-DC0A-4009-8793-F99D1E30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B156-3258-4453-885C-2D0C689F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2877-7C4D-4A8F-86A6-D1784146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1C55-1BA0-41BC-BDAF-BA8B8BD6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82A-83AD-4DE6-8733-630BD287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C89-2AA8-4914-8247-9686344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476-B184-4639-AC05-5B3B3B3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D36-8F25-4466-99A9-3C296B1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F617-5148-4911-A7C2-97C49897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305C-2447-47F0-916A-D41915D6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8B1-1F04-414A-ACF7-7F1585FB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1B0E-79CB-4DA6-94E1-82D632E3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D30B-41A4-4C61-964D-A48A547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EA43-514B-43C7-972E-16EC1238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6FB8-60B0-463B-82BD-F2907E60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7F6AB-3326-4AC6-B0E2-4076BB93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86D-638D-47EE-B3ED-B3232603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7681-4234-4D94-A3BF-74C6BC2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D989-B147-4513-B5CF-C62964B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618F-471F-4393-A52D-241A132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C85B-DD41-467A-93F1-0B3D401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9A5F-24F0-4213-8BD4-E4497542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08EF-4E53-410F-85F4-9507FB3D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373E-4BA3-484A-9840-B6074950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D70A-A943-4BBF-B398-0F2653D3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4EF0-61B3-4275-AF8B-B0B76D59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7FAF-7CCF-4623-8950-680BB624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826-91CD-4BEF-A726-89498ADC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5FCD-CF4C-4B52-AB4D-36E0D0E6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F615-6389-4A83-BF51-F2B6961F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82FB-BE98-4CAE-8668-DF6FA9A5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54EF-0FC7-4674-8F54-9699EFCC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8CABE-9B93-4339-860C-A8BBFE51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5A26C-7C35-4081-BEC7-B06F565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579A2-315E-4ABA-9BB5-6293DA1A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6E50-9E28-4A66-9629-36CB5122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90A3-2095-418D-828E-41E9700D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50DA2-4377-4554-9676-944F44B8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30E-DCE9-451B-AE7F-D8A078D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DC17F-366B-4140-8DAF-237FB9F9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0489-3DE1-4A67-8244-B345C39B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A158C-687C-4D65-B9FA-76572F8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82907-B8B5-40C9-8863-9385677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505C-D1D0-4079-8F9F-CA7D54C6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40AF-2943-43FB-9E86-E1E5507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2E01A-87FB-4331-9D16-2820F81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4F95F-549E-4B5A-AFBE-91F4E42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ABEF-08B6-4AF8-9ACE-E5764BA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5EF40-82E1-4CF8-BF3D-C953DA1B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081-4ADE-4D44-B8DF-804CBB27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3AD2B-A977-4ED2-9D6A-ECDFB6F5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EAE73-4D70-4FB0-AD69-80E2B9D2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CFBBE-FD84-436A-B0BB-6ECA438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7E30B-9170-44F9-BF98-39EE88C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3583-5A94-4BFE-9A9D-24E6AA3E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6F49-01DB-40AD-9F15-DC99649C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F671-342D-407D-A800-939091D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21E60-AA80-4FF5-99FD-66EAFE2F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A449E-68B8-46B1-B289-63C6A9C4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5125-3A38-49DB-A3BE-6B4E01C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96D-4D30-4555-A414-2C43DE4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7C9D5-ED99-40E6-9B15-CD4CF9D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01630-3CC0-4030-B0BD-412E5095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A852-B4C8-4E59-A959-5138A22D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67BC-E87D-492C-A469-ABDDF3A8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E535-A5C1-4B05-B8FD-CE274F16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8094A-0D16-413B-927E-1E3AEB00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B9CC-8C3F-4DAF-ADEA-B6799ADD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DA132-8CE4-4F57-830B-8A94464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DCE0-309C-4A41-B6D4-1DDE288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E94CD-6D88-4DC4-9DC4-A288BAB9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240-5709-41CF-95DF-A4652F7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D419-726E-4FA3-AF35-EF5B393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B018-496A-401B-A1E3-77BD335C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BD316-01DC-40AA-A50A-944CD760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A10E-C58B-4F6D-A3FA-76A7FE67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4ECDD-38B8-40ED-8146-9EB171CD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CBA70-1BD5-43E7-AE89-CEF1360F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2B5A-F845-480D-BD29-0AE5642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E87A0-72EF-4FB1-B4DB-384E85AD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6B5DA-75C9-4988-BB78-61394FED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60039-6029-4AF0-8FA7-8C851ABC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3A1-6248-482C-80E4-5EF6957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7774D-5A2D-45F7-BF6B-1CA34A4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6A469-2219-4BC0-ACF7-30AA0335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85356-8013-43BE-9D45-20C9792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BD1A2-ECEE-41C4-AD01-AC7A2B79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068EB-3C79-4BE0-AA48-6D927B9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684F9-DE1B-49CA-B338-1D67C362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690A-C13A-4668-9DCD-AC01E7E3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0B093-67EC-46B3-AD64-DB4D7D83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B5044-77EB-4DB2-BCF5-2981FCC1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838A6-76FF-4FB3-9929-5992AB8B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321E-AB31-4FB8-A5A1-7FA59FFAC0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4F7F-6446-4177-994F-17913BAC9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E837-FE85-41BD-9978-723B92DBF7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A768-2A97-4727-B080-4464CADD8B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9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513A-4BF6-4744-A9DC-1ACD25811DE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EA34-7F14-42AF-8032-8DFCDC9BA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8B4D-93CB-4F4E-8361-B39236DDA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E92-2B6B-4F31-A8B5-555BBA153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2A63-1819-4581-96FF-190290F2B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860-6194-409D-8CFE-DC23520C6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0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66ffff"/>
                </a:solidFill>
                <a:latin typeface="Comic Sans MS"/>
              </a:rPr>
              <a:t>В</a:t>
            </a:r>
            <a:r>
              <a:rPr b="0" lang="en-US" sz="6000" spc="-1" strike="noStrike">
                <a:solidFill>
                  <a:srgbClr val="990000"/>
                </a:solidFill>
                <a:latin typeface="Comic Sans MS"/>
              </a:rPr>
              <a:t>р</a:t>
            </a:r>
            <a:r>
              <a:rPr b="0" lang="en-US" sz="6000" spc="-1" strike="noStrike">
                <a:solidFill>
                  <a:srgbClr val="33cc33"/>
                </a:solidFill>
                <a:latin typeface="Comic Sans MS"/>
              </a:rPr>
              <a:t>е</a:t>
            </a: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м</a:t>
            </a:r>
            <a:r>
              <a:rPr b="0" lang="en-US" sz="60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en-US" sz="6000" spc="-1" strike="noStrike">
                <a:solidFill>
                  <a:srgbClr val="0066cc"/>
                </a:solidFill>
                <a:latin typeface="Comic Sans MS"/>
              </a:rPr>
              <a:t>н</a:t>
            </a:r>
            <a:r>
              <a:rPr b="0" lang="en-US" sz="6000" spc="-1" strike="noStrike">
                <a:solidFill>
                  <a:srgbClr val="9900ff"/>
                </a:solidFill>
                <a:latin typeface="Comic Sans MS"/>
              </a:rPr>
              <a:t>а </a:t>
            </a:r>
            <a:r>
              <a:rPr b="0" lang="en-US" sz="6000" spc="-1" strike="noStrike">
                <a:solidFill>
                  <a:srgbClr val="ff66cc"/>
                </a:solidFill>
                <a:latin typeface="Comic Sans MS"/>
              </a:rPr>
              <a:t>г</a:t>
            </a:r>
            <a:r>
              <a:rPr b="0" lang="en-US" sz="6000" spc="-1" strike="noStrike">
                <a:solidFill>
                  <a:srgbClr val="3399ff"/>
                </a:solidFill>
                <a:latin typeface="Comic Sans MS"/>
              </a:rPr>
              <a:t>о</a:t>
            </a:r>
            <a:r>
              <a:rPr b="0" lang="en-US" sz="6000" spc="-1" strike="noStrike">
                <a:solidFill>
                  <a:srgbClr val="66ff33"/>
                </a:solidFill>
                <a:latin typeface="Comic Sans MS"/>
              </a:rPr>
              <a:t>д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Тургунбаевой Даяны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4  Б 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ffcc"/>
                </a:solidFill>
                <a:latin typeface="Tahoma"/>
              </a:rPr>
              <a:t>ЗиМа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896000" y="1699920"/>
            <a:ext cx="4248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Загорятся звёзды краш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Лёд прильнёт к во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На коньках начнём катать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Мы на звонком льд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Будет смех наш раздаваться.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50720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ff00"/>
                </a:solidFill>
                <a:latin typeface="Garamond"/>
              </a:rPr>
              <a:t>ВеСнА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2232000" cy="210996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Люблю грозу в начале м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Когда весенний, первый гро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Как бы резвяся и игр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Грохочет в небе голубом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66"/>
                </a:solidFill>
                <a:latin typeface="Tahoma"/>
              </a:rPr>
              <a:t>ЛеТо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М  ОчЕнЬ ХоРошО  И ТеПло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А ЕщЁ ЛеТоМ у ДеТеЙ кАнИкУ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 оНи эТоМу ОчЕнЬ РаДы.ЛеТоМ ДеТи вМеСтЕ с РоДнЫ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еДуТ ОтДыХаТь.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6838920" y="260280"/>
            <a:ext cx="2305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c00"/>
                </a:solidFill>
                <a:latin typeface="Times New Roman"/>
              </a:rPr>
              <a:t>ОсЕнЬ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Осень. Пал туман на долы Луг во мгле сырой исчез. Ветер листья рвёт, и голый, Замерзая, стонет лес   </a:t>
            </a: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5254560" y="17002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3:59Z</dcterms:created>
  <dc:creator>User</dc:creator>
  <dc:description/>
  <dc:language>en-US</dc:language>
  <cp:lastModifiedBy>User</cp:lastModifiedBy>
  <dcterms:modified xsi:type="dcterms:W3CDTF">2012-11-14T10:01:36Z</dcterms:modified>
  <cp:revision>4</cp:revision>
  <dc:subject/>
  <dc:title> Времена года</dc:title>
</cp:coreProperties>
</file>