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060C-6936-4E70-B06F-259CEE6EC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8979-7910-41C7-85AE-4E7C4D68A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6827-C6BA-4287-B4A5-ABF6FE308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2315-EC48-41EF-A7A2-A1DD71825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CE06-6E59-46B2-8D4D-6859ECA58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4F3D-78F3-4D39-AAAA-B96912CD6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E4CE-A823-47A5-AB60-D9A3B90F2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A375-7706-46D5-82E4-CEAF4D09B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436B-AE80-4ED4-96EF-4A3E99A4F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5C33-CE27-4C25-8401-8E23C0343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40F6-758B-45E2-8252-21EF80036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9E70-D03D-4931-8267-31C7AE181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88920-B2D3-4DD8-B822-96A6B29479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верка зна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I</a:t>
            </a: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. Дем. 4,5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ие устройства стоят на стол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овы их назначени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общего между двигателем и генератором электрического ток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чем разница двигателя и генератора электрического тока в преобразовании видов энерги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верка зна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I</a:t>
            </a: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. Дем. 4,5.</a:t>
            </a: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м отличаются два генератора стоящих на стол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жно ли сгенерировать электрический ток сразу вращением ротор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верка зна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II</a:t>
            </a: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. Рассказать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§ 37 – Каким образом осуществляют генерирование электрической энергии?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верка зна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Дополнительные вопросы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. Каким преимуществом обладает переменный ток по сравнению с постоянны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. На каком принципе основана работа генераторов переменного ток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верка зна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III</a:t>
            </a: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пр.4(2) с. 109 – предложите решение данной задач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6000" spc="-1" strike="noStrike" u="sng">
              <a:solidFill>
                <a:srgbClr val="d6d100"/>
              </a:solidFill>
              <a:uFillTx/>
              <a:latin typeface="Copperplate Gothic Bold"/>
            </a:endParaRPr>
          </a:p>
        </p:txBody>
      </p:sp>
      <p:sp>
        <p:nvSpPr>
          <p:cNvPr id="52" name="WordArt 3"/>
          <p:cNvSpPr txBox="1"/>
          <p:nvPr/>
        </p:nvSpPr>
        <p:spPr>
          <a:xfrm>
            <a:off x="1403280" y="1341360"/>
            <a:ext cx="6120000" cy="163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Домашнее задание: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1835280" y="3716280"/>
            <a:ext cx="554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1042920" y="2924280"/>
            <a:ext cx="7632720" cy="187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§ 38; упр. 5 (3—7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cc00"/>
                </a:solidFill>
                <a:latin typeface="Arial"/>
              </a:rPr>
              <a:t>Подготовить сообщения на тем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cc00"/>
                </a:solidFill>
                <a:latin typeface="Arial"/>
              </a:rPr>
              <a:t>«Трансформатор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6" descr="2"/>
          <p:cNvPicPr/>
          <p:nvPr/>
        </p:nvPicPr>
        <p:blipFill>
          <a:blip r:embed="rId1"/>
          <a:stretch/>
        </p:blipFill>
        <p:spPr>
          <a:xfrm>
            <a:off x="6659640" y="476280"/>
            <a:ext cx="285840" cy="6858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2"/>
          <p:cNvPicPr/>
          <p:nvPr/>
        </p:nvPicPr>
        <p:blipFill>
          <a:blip r:embed="rId2"/>
          <a:stretch/>
        </p:blipFill>
        <p:spPr>
          <a:xfrm>
            <a:off x="2195640" y="476280"/>
            <a:ext cx="285480" cy="6858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2"/>
          <p:cNvPicPr/>
          <p:nvPr/>
        </p:nvPicPr>
        <p:blipFill>
          <a:blip r:embed="rId3"/>
          <a:stretch/>
        </p:blipFill>
        <p:spPr>
          <a:xfrm>
            <a:off x="1042920" y="1484280"/>
            <a:ext cx="285840" cy="1262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" descr="2"/>
          <p:cNvPicPr/>
          <p:nvPr/>
        </p:nvPicPr>
        <p:blipFill>
          <a:blip r:embed="rId4"/>
          <a:stretch/>
        </p:blipFill>
        <p:spPr>
          <a:xfrm>
            <a:off x="7596360" y="1484280"/>
            <a:ext cx="285480" cy="12621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0" descr="baby01"/>
          <p:cNvPicPr/>
          <p:nvPr/>
        </p:nvPicPr>
        <p:blipFill>
          <a:blip r:embed="rId5"/>
          <a:stretch/>
        </p:blipFill>
        <p:spPr>
          <a:xfrm>
            <a:off x="7750080" y="0"/>
            <a:ext cx="1393920" cy="16556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1" descr="baby01"/>
          <p:cNvPicPr/>
          <p:nvPr/>
        </p:nvPicPr>
        <p:blipFill>
          <a:blip r:embed="rId6"/>
          <a:stretch/>
        </p:blipFill>
        <p:spPr>
          <a:xfrm flipH="1">
            <a:off x="0" y="0"/>
            <a:ext cx="1393920" cy="1655640"/>
          </a:xfrm>
          <a:prstGeom prst="rect">
            <a:avLst/>
          </a:prstGeom>
          <a:ln w="0">
            <a:noFill/>
          </a:ln>
        </p:spPr>
      </p:pic>
      <p:sp>
        <p:nvSpPr>
          <p:cNvPr id="61" name="Прямоугольник 1"/>
          <p:cNvSpPr/>
          <p:nvPr/>
        </p:nvSpPr>
        <p:spPr>
          <a:xfrm>
            <a:off x="2087640" y="5029200"/>
            <a:ext cx="5292720" cy="10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пасибо за отве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каржинский Ярослав Христианови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БОУ «СОШ №3» г.  Губкин Белгородской об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6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54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62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ЯХ</dc:creator>
  <dc:description/>
  <dc:language>en-US</dc:language>
  <cp:lastModifiedBy>мв</cp:lastModifiedBy>
  <dcterms:modified xsi:type="dcterms:W3CDTF">2013-02-26T13:24:28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