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DC5-6A4D-4138-BCC1-2DE80A26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F33-9D6E-482B-9F30-CA108E01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779-66F9-484C-9E79-F21FCD54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0D5-6F5D-4246-B151-F50EBFC8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9A89-B9A0-4428-8FCB-941A6EE9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C2C9-C6D8-459A-AC45-B3F6EA4B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DF9-2B3E-4953-83EC-F3D3072A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37A-7C90-4862-911E-752AB96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6FED-5E67-4F52-A7DA-C08A9926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9883-9E57-4066-9832-7DDE3F77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6CBE-12DB-4360-BCC1-B9C17B2B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61C-95BF-42A4-B857-2290AF6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A8C0-E7A8-4D42-BFFD-387DF95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9442-865A-44FA-BE69-17AB4FA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F887-8393-4FAC-904C-FBBCB632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E719-B655-4DC8-AA75-3A9B1BA8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5B5-D319-44C0-AD7C-9D4C866F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F1C-6736-4D29-B25C-67983E90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850-805C-427B-9B01-41FE5CFA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5B6-EBCF-4338-AC0B-E164519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7D2-B6CB-49D2-BA1D-F4B59FD4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A04-C761-4523-B9E7-8497E82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C12-C9F8-4E02-A0A6-1B8A1C92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E81-00FA-4372-9656-97111F39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6C1-7374-4D83-AF84-052CFE522C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C059-A08D-454C-BEE6-7E92DEBE16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ма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Модернизация в  странах Европы, США и Япони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Характерные процессы в странах с индустриальным обществом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ельское хозяйство становится отраслью индустриального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оизводства благодаря применению новой техники, удобрений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агротехнических метод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величение числа работников, занятых в промышл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кращение числа работников в сельскохозяйственном производств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ст числа работников в сфере услу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бурный рост городов и городского нас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) Основные черты индустриального обществ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844640"/>
          <a:ext cx="8964360" cy="4645080"/>
        </p:xfrm>
        <a:graphic>
          <a:graphicData uri="http://schemas.openxmlformats.org/drawingml/2006/table">
            <a:tbl>
              <a:tblPr/>
              <a:tblGrid>
                <a:gridCol w="689040"/>
                <a:gridCol w="2145600"/>
                <a:gridCol w="2146680"/>
                <a:gridCol w="2221560"/>
                <a:gridCol w="1761480"/>
              </a:tblGrid>
              <a:tr h="25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масов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ышлен-ных  товар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центр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ства и капитал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и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ующей роли государст-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экономик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шире-ние социаль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-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Б) Пути реализации накопленного экономического потенциал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циальные реформы - перераспределение части производимого богатства на социальные цели для преодоления негативных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ледствий урбанизации, ликвидации контрастов богатства и нищеты, оздоровления окружающей сре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енная и внешнеэкономическая экспансия, милитаризаци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В) Складывание единого мирового хозяйства в начале 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XX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век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2205000"/>
            <a:ext cx="208908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Развитие мировой торгов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1484280"/>
            <a:ext cx="2521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-ное движение предпринима-тельск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357720"/>
            <a:ext cx="23036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й станда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свободный обмен валю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золото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2205000"/>
            <a:ext cx="2089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воз капит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5229360"/>
            <a:ext cx="25941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Массовая миграция насе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3860640"/>
            <a:ext cx="26654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тельствен-ные зай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00360" y="2349360"/>
            <a:ext cx="7920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141720"/>
            <a:ext cx="79200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579640" y="2708280"/>
            <a:ext cx="79236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508720" y="2923920"/>
            <a:ext cx="100800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Задание: продолжите краткую характеристику  государств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663480"/>
          <a:ext cx="8642160" cy="6194520"/>
        </p:xfrm>
        <a:graphic>
          <a:graphicData uri="http://schemas.openxmlformats.org/drawingml/2006/table">
            <a:tbl>
              <a:tblPr/>
              <a:tblGrid>
                <a:gridCol w="1757160"/>
                <a:gridCol w="1503360"/>
                <a:gridCol w="1306440"/>
                <a:gridCol w="1165320"/>
                <a:gridCol w="1163520"/>
                <a:gridCol w="1746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о-Венг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рное экономическое развитие: растущий внутренний рынок, рост населения, бум рождаемости, иммиграция из ряда стран 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чительный внутренний рынок после объединения, рост населения, присоединение Эльзаса и Лотаринг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воз капитала в форме правительст­венных кредитов, морская мощь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зость внутреннего рынка, банковс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й капитал оторван от пр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ску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 империя»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жнациональные противоречия, неравномер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воз промышленных товаров и сырья, два региона: промышленный Север 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шнее задание: Параграф 3. Вопросы к параграфу, закончить табли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Какие технические достижения и открытия имели место в период первой технической революции?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413000"/>
          <a:ext cx="8353440" cy="5444640"/>
        </p:xfrm>
        <a:graphic>
          <a:graphicData uri="http://schemas.openxmlformats.org/drawingml/2006/table">
            <a:tbl>
              <a:tblPr/>
              <a:tblGrid>
                <a:gridCol w="3181320"/>
                <a:gridCol w="3046680"/>
                <a:gridCol w="2125440"/>
              </a:tblGrid>
              <a:tr h="22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вая промышленная революция,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VIII-XIX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орая промышленно-технологическая революция,конец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X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первая половин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тья промышленно технологическая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револю-ция,с 70 х гг -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ка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к парового двигателя,машиностроения, доменных печей, ткацкого станка, железной доро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к самолетов, радио,электричества, телефо-на, автомоби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к микроэлектроники, биотехнологий,информационныхтехнолог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- Вспомните из курса истории о технических достижениях рубежа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XIX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-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XX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вв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Что такое «модернизация»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Не все страны пошли по пути модернизации в начале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ека. Назовите наиболее развитые государ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есь мир можно представить в виде схемы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276640"/>
            <a:ext cx="201600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й эшел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205000"/>
            <a:ext cx="1944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шел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076640"/>
            <a:ext cx="2160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ов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устриальны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4076640"/>
            <a:ext cx="21589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догоняющ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я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2205000"/>
            <a:ext cx="2068560" cy="8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шел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4076640"/>
            <a:ext cx="206532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дицио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ы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6000" y="306864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820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к вы понимаете термин «догоняющее развитие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бъясните понятие «традиционные страны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зовите страны 1-го, 2-го, 3-го эшел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 результате промышленно-технологических революци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 в обществе произошел переход от индустриального общества к постиндустриальном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300640"/>
            <a:ext cx="2663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3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индустриальное (аграрно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3860640"/>
            <a:ext cx="2736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3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дустриальное (промышленно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2944080"/>
            <a:ext cx="28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637000"/>
            <a:ext cx="309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индустриальное (информационно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 самых важных событий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 глобальных открытий и достижений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 самых ярких личностей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ВТОРАЯ ПРОМЫШЛЕННО-ТЕХНОЛОГИЧЕСКАЯ РЕВОЛЮЦ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916280"/>
          <a:ext cx="8136000" cy="4570200"/>
        </p:xfrm>
        <a:graphic>
          <a:graphicData uri="http://schemas.openxmlformats.org/drawingml/2006/table">
            <a:tbl>
              <a:tblPr/>
              <a:tblGrid>
                <a:gridCol w="2519280"/>
                <a:gridCol w="5616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щность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коренное развитие новых отраслей промышленного производства, новой техники и технологий (машино­строение, автомобильная промышленность, электро­техническая, нефтехимическая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чины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черпаны возможности  повышения эффективности производства в рамках прежних научнотехнических принципов (прежде всего, использование паровых ма­шин, угля как вида топлива). Фундаментальные открытия и изобретения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строе внедрение новых достижений науки и техни­ки, развитие новых отраслей промышленност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ы думаете, какие страны достигли к начал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 технологической зрел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Великобритания, Германия, Франция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ША, Бельгия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траны ускоренной индустриализ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Россия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Швеция, Италия, часть Австро-Венгрии, Канада, Япония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6:21:16Z</dcterms:created>
  <dc:creator>Admin</dc:creator>
  <dc:description/>
  <dc:language>en-US</dc:language>
  <cp:lastModifiedBy>Admin</cp:lastModifiedBy>
  <dcterms:modified xsi:type="dcterms:W3CDTF">2010-09-25T19:06:57Z</dcterms:modified>
  <cp:revision>3</cp:revision>
  <dc:subject/>
  <dc:title>Тема: </dc:title>
</cp:coreProperties>
</file>