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335-82F5-4FEC-ACC2-3BA44E63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92E-1729-4D2C-A97F-9A6BA6FF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5F31F-FC5B-47C1-A917-86F39FB7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00AAA-90AA-4FB2-A262-6B00C50A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18806-8293-4414-878D-47FD8202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B5E9E-3DB2-44BD-B241-E277857E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0513E-83CA-420A-937C-D3432A0B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D6D49-6C48-4050-A00A-9D5A941A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4A942-146F-4B05-80DF-0D52087C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BCDA4-E084-4374-BD75-87E554AF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6FB83-4A53-4EFE-AAEE-DEEB34DF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7C350F-20B8-4CB7-996F-5E21BE20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2FA-7406-435D-A48F-797AF8F7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31EA02-5CDE-4710-946D-D22EF6E8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7D2F7C-193F-4E88-89E3-F55FEDB7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9F6412-9FAA-45A0-939C-F60A8FD6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E59A68-7832-4197-9916-A4FDEB94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BE09A0-81F2-48F2-949B-BF456378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7ABF45-EA89-45DF-8DDA-02A746C7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E30A54-E2CE-4E2A-8BEA-72946641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D95BA3-FD0F-41DD-9F97-3046147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7393B8-A8C2-45CD-B90D-F0744A2D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D937B2-28EA-416F-83AA-2592F157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DAD-BB37-4F0C-8B13-D9A30A87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769824-0E32-415E-849E-BBFEE0BE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539CF-402A-4B70-8091-F5056380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8A26A-F5E9-4324-91F7-B26EC57E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57DC8-945E-4619-8604-84043E92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44FB3-1558-44DC-A8B8-ACEFE9B2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B68BE-9EA8-45CA-9D8F-B70F8CFB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FF5C5-8FE9-47FA-ACEE-45A92C90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49130-B05D-4940-B683-29C6DA09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D9AD2-7870-4423-98A7-6FC2D06C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D60A0-3C1F-40AD-843B-F0A3F726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D212-2550-4953-AB6E-7AD76BDA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204D6-9B43-4D10-A0EC-93BF9E20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6672C-7F55-49F5-AC20-072B1C91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87FA2-4B2A-4FF9-94BA-833BD94F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14408-8F14-42B5-8DE6-3E57A582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794E6-376B-4912-8DE9-F812B56F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8E4DC-DADF-4013-B5A8-214EF92E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A0D24-B366-4AC6-BBD0-1546CA42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DFDBF-7A55-4D9F-A52E-C60757DB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B45A2-6921-4236-B63F-672CA39E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ADBD1-64BA-4F6D-937D-A8BB7D1F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A2EE-20A5-4CA4-B3DB-1EC1DC17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7D9A5-D078-49A7-B682-A645184D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0F0B6-43E2-4A93-AC57-43039858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57941-0429-4D3F-82F5-3B966882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0801B-9910-444C-B9A2-DA72D13B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3C3DA-71F0-4289-8F0B-D13DD2D0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E8752-2838-44A7-BFDD-F5978983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31C48-0CBC-4F3C-92AA-A85B9635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8B017-98A9-4B69-A267-2B20DC61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8042C-3D93-4B99-AA5B-B64A8390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650B4-DE3F-48A1-B479-FFA6CA91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D479-ED83-4B22-9E7F-64B0D49D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7B13F-FACC-4487-9892-FF4D62C5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0700F-5F86-4C62-A79B-E34B413D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67E69-1F8B-420F-B32C-23305E6D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4A70E-F4A2-448E-BB1C-2B1885AC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4FF09-5F02-440F-859D-E4A0AD38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F23A7-11D1-4E1D-A909-A34A4D68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EB045-4534-4D42-B708-ACB1629C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F7B6E-66B0-45B2-BD62-0EC2ED82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75078-0B1A-4462-8323-D2D0216B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EB9B9-842C-4536-8DEF-8531C9AF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BEC9-4AAE-4E92-B90D-EDC104B0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16AEF-A4EB-4DDF-994B-C5AFF4EB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E0606-A2BA-496A-AC65-3ED11DA2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15CA9-0BA5-4C3B-8A5C-CC956AFF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A90EF-EF99-4C54-A652-CB1AB533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42CA9-C47A-440F-95B3-0A9CB993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B47FA-89D9-4959-A346-795E15D6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8CC83-8150-4D16-A8B1-893D6DBB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8A7AE-C6F8-437F-872D-655925D9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61FD1-4359-4B71-B051-C948E899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1FFEE-B90A-4192-99B1-B8800147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38EF-79E8-4FBF-9E8E-B3EE572D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5CBF8-EA86-4AFC-8041-9F9A364A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C0B08-0E19-4A6F-9D86-6CFACEB0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0CCAB-FA8A-45B0-B7BF-AF4E4142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51532-0C6A-4329-A1D9-283C8F35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89E57B-689D-4AB7-98F6-C42E5955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DD579-96B6-48E7-8780-348EC7DB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2F201A-E184-47DD-8B64-F5083823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3241E-3127-49D7-806D-D5B15D6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5B6D7-03E8-4CF9-BC29-617EFE19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DD661E-CB02-48D0-8543-E9AEAE96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02BD-8EEF-42E1-8FAE-9D200197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387E0-B168-4EE6-8271-3472F35D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06114D-95C7-4EF8-A1B8-D2DAC2CE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9CC38A-99B8-4D19-9AD2-05FC0DCE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8C6A6E-6944-4618-8D76-C0E0D25B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7354E22-8A24-4D89-BFF4-7A515B5E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813118-1788-41A2-9367-BAE4922A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FB1101-B63A-4D6F-8B6C-12A7AFA6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0F754E-171F-4A6A-AAC2-37E445C9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AD2AF20-0656-4474-AF54-8C812257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87898E-C3FA-43A9-A8F8-6142C3E8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941C-45E0-4B3D-8EB2-139C1924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51FC249-ADB1-4D7E-AA07-2D036D50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E1723C-F8CD-476D-9974-2F1E864A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C2E266-CC1D-4F78-A2D5-EF1868F9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7E107C-4B28-4DB0-8C2E-7C83D883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6BD106-ABC2-4027-B4D0-ADCB08FE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A01F4-1B05-4A70-94B1-5058A635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00BDC-4586-4C0B-B4F8-0B0C2863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F967C-3DDE-439F-88C3-B4652622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D93928-8340-42C0-B1D9-0A238938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64ABB6-8EDB-4E11-9A8E-BC3DF781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69F-E6FC-4AA6-9F04-5D3F4C77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1A27-6A13-4F29-956A-4BFF923D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55FD19-9F33-4286-BA99-5F6AF5B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2CB837-992E-400F-A3F8-44476A4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FA9DD-F504-4EC9-9BD3-CD691EB3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23A03-B512-4579-9C03-DD72716C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1E335A-A83D-402D-A009-DD38C44A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7AB18-1B86-42BA-80B4-C3F03BFC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B6258C-F618-4EAB-BE83-941F2402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4CA8AA-815A-474A-9268-D50DCF53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5FC27F-F990-491D-8104-B6E85AD7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5AD9C8-86EF-4C42-8849-2B45EFD1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D41F-7529-486E-ACB9-FFD43B4A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1D7FDB-3484-4556-9133-09BF195C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E1323-422A-4551-8EBA-CF3F459C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87C303-EB3F-4D95-A51A-732AC427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656421-F5C6-4F84-A483-D9CF8CE8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C2FD3-EA03-4B87-97F1-7061AAE7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DB2294-F886-4929-B02A-8856D4CD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33269-9CA0-485B-9DEE-1D47940E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44505A-B339-4D55-96D0-F41F8F0A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A25DC-2496-4B87-AD34-8D28C924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402B4D-C6EE-4935-BE15-504E1F1A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FB16-D586-428A-BF95-E7711044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23E9F-1D9C-413E-BF80-80DA5E6E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966857-B184-40C3-854B-DCCFBF80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492D4-7D34-4438-9C0E-D64B7B64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B4C6AA-3ECA-4FD6-AAC7-BF345A43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D246BB-B6F3-4BDA-A73F-60A8B8C3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0F0E5A-0274-4CFB-BF1F-7309EDC9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3F10AE-A178-4B6D-9D46-B0EF694F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BE718-3478-4E6F-BE0B-5D6E34F7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5F9CE8-5AF9-4261-B8A4-75EDC7B8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EC40-2F33-4E58-A5D1-E40FB6BE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4B52-3807-48F8-B891-7676A5A0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0453-DCB8-4C8C-B91F-90D3C58F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8AA5-99C0-4C6E-8337-B1B470D5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E3F08-D254-442A-AC44-7BE10AA4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915D-953C-4D4F-84A2-0675FDF3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47AD-27C5-4A76-BA6F-001E0E1D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2CA-8D6D-4D36-9413-0288414F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B8BF9-51AF-4B1B-9A46-2441D3CF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0C71-6AF1-48DC-A915-F2EAF7AC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BB27-BF73-4010-9125-3D628771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2F8B7-BD52-4A0C-87BD-0B5DEF7C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189A7-04D7-424C-8D30-F83A37D9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92A0-F251-4295-9440-DA09CA50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7F9E-0C1A-4362-ABF8-F7F47E41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26C18-7ED0-459A-9154-0CA0BFFA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F29FE-3B16-41CF-8540-0656975B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D380-4B60-4D55-948D-83400F7A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9B0-FB66-4D07-86FA-4642AF54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FD267-8FDA-4C59-A358-F11D4976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73048-60FC-4A56-92D5-67CB5E7D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00889-7E96-43E5-8D05-AFE265C7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F1285-3B4B-4909-9965-86B88E00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062F7-4107-42AB-8D75-3FEA9F3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0D1BD-BCCF-49F1-B2C8-E4496258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7C05A-AA1C-42E8-AD63-F432821A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DD795-B75B-49F1-803D-1ED39F92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0EB3B-6B85-40DD-B503-5F1EA892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08200-E1BD-4715-BAFB-2B9B72B0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CDE-7A1B-490E-A03A-4A2D359A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909A8-B9B1-430F-8C42-B8232D73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88D231-A132-454F-AD50-6267C8F9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68B34-91BE-41CA-97AC-BA526099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B6B261-DC4F-4DB2-A79C-60320FCD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E8DB2-E866-476D-ADD9-32977E27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5015B-3CBF-4A58-A853-22CB9150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F02BF-BDC8-4EEE-89BF-723BEB69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9F292C-4A7C-423E-8D09-06C71681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11CF6-D777-4866-B2EE-BE5460BA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CB83A-6D04-4C14-9DF5-41516DE9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89F-179B-49C2-8DCD-0D550596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EB710-3A10-445E-9A0A-A3A8D85B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5320C-3014-4D72-B302-133F0104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660A7-A718-420D-9909-B2B1321D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35010-9B0E-4D0A-9F63-BF5527A2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8FBA5-ED02-4A35-91CB-0B476404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62BB7-E8A7-4953-8ADF-578AFEBF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E53AD-9F0B-4573-AFC3-5BAAF7C9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F207C-023E-48B4-90F3-C2596C75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66939-DE9D-49DB-93F3-64286568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B28E8-6C37-406A-8712-0E12F9CE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C8C-559F-4B2B-ADCF-F542BD37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D4B93-EAEB-4804-8FC0-547C0B85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AAAB2-86BE-41C2-BF23-4C3FB121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6D0D9-03BD-44D1-A5C3-4D0F10C0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23CE0-D5BB-4C3E-9759-78A498D2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3C14C-86F8-4629-8205-DF33BBAF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6F41D-08A3-461A-8FD7-11FD4E12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7A1F2-D44A-4EB9-AD10-0C6C9B24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DB237-B74C-425F-9297-2660887E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E08E7-B5D7-4E0D-8811-B2E18C48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03C86-4E6C-4AFD-A240-F433AF7C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589-9281-476A-8ADD-AE46B3C2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8CD4E-8199-459B-ACB4-759A1FCD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2CA47-9982-4F0C-8138-516C8D25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39FF0-8025-4393-9EF5-F844155F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E80DA-05BB-40AC-A1BD-B7356D3F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243F2-503F-42AF-8448-29ED7B6A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E0E0D-A678-4382-A51D-78FF89AA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6E43C-91C1-431F-9469-1CD18F69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7EA81-A67E-4740-8136-2053A65D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78DFF-D788-497F-9E39-7C60EAF2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5F3E7-9298-43B9-971B-D0EB278E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D00-7890-4E8C-AFC4-8944385A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15A73-F715-441B-BEE4-9568E1E8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AA80B-7FBC-4142-B61D-F7811503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59184-76A9-47C6-9BCE-8F6D059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568C3-492E-4AAC-825A-17973619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385F9-8DD5-452A-8DED-3FCCE964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3D272-4C44-4B91-8202-6E9EC506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8CAC4-BB57-4679-B13E-B6D8BF9D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6C618-FBB3-4A4D-AD16-BE1EA955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74F5C-7534-41E2-9E3E-7B566C30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8DBEC-1D8C-4E51-9CCB-934736A5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0C23-8415-44F3-99F9-8851B056A30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EC9B-BDC6-45E9-A0FB-6C84CF7816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50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463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0E3D-6A4A-42D2-B583-13E11C469A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06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5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8582-0383-4B00-A868-C5E5D4D17F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3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E24E-1DD9-4780-967D-277114B4FD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0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4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059C-1FDA-4083-88BB-E3667A48DC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232E-372B-4601-B334-1D261B493F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869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sldNum" idx="4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2BAB-21CE-40C2-AC96-7F526F8F6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dt" idx="4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ftr" idx="4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126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FB1D-EEDD-49F5-AB31-62F4F170A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C9F9-162F-4157-9CFB-6D4399D845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9BCC-CB5F-4B8E-A8EF-8E9C2C74B2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243C-7BC6-4A85-8DD1-40E1A07A524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11C9-C21C-43B2-B215-707C95FFE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4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4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3E01-5D38-473A-94C1-6212B4A036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0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0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3D0C-F25B-4674-AA7B-A5D86FD27E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5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CECE-AC74-49A6-A95D-BABEFD9E62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0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E92F-9995-4EFF-9640-F937CA0641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55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C37C-779A-49C2-9CB6-155CCDC3CA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00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5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26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7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9FDD-A805-495B-A9ED-EDA85F8423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«Воевавшие дети – не воевавших родителей»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ок мужества, посвященный дню памяти погибших в Афганистане и других горячих точк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ветская армия оказалась неготовой к длительной войне с партизанами. Перекрыть все горные дороги было невозможно. Американцы поставляли моджахедам самое совершенное оружие, проводили подготовку профессионалов-террористов. Моджахеды обстреливали советские гарнизоны и дороги, по которым шли поставки продовольствия и боеприпасов из ССС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Только по мере завершения «холодной войны» в мире возникла возможность прекратить войну в Афганистане. В 1988 были достигнуты соглашения в Женеве, по которым СССР выводил свои войска, а США и Пакистан прекращали военную поддержку моджахедов. В феврале 1989 начался вывод советских войск. Однако мир в Афганистане не наступил. Поддержка моджахедов извне не прекратилась — продолжилась война уже между моджахедами и просоветским правительством Наджибуллы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Положение в Афганистане после вывода советских войск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гнозы Запада о том, что кабульский режим сразу после прекращения советского военного присутствия падет по причине своей полной нежизнеспособности, а коалиционное правительство группировок моджахедов приведет страну к миру после изгнания "коммунистической чумы", оказались несостоятельными. Действительно, вывод войск 15 февраля 1989 года не вызвал, как ожидалось, начала процесса умиротворения в Афганистане, а, наоборот, побудил оппозицию к активизации военных действий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Можно лишь в наиболее общих чертах предсказать, что мир придёт в эту страну еще не скоро и что важнейшую роль в разрешении этого конфликта будут играть международные организации, в том числе ООН. Не имеющая исторических аналогий практика единодушия и согласованных действий всех наций мирового сообщества по ликвидации вооруженных конфликтов (столкновение между Ираком и Кувейтом, гражданские войны в Сомали и в Югославии), хотя сделаны пока только первые шаги, имеет неограниченное поле применения в будущем и дает возможность надеяться, что мы все-таки вступим в эпоху мира и согласия и навсегда сможем уберечься от ужасов войны.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24000" y="476280"/>
            <a:ext cx="84960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1">
                    <a:alphaModFix amt="95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фганистан - предотвращение угрозы или "Игра мускулами"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2">
                  <a:alphaModFix amt="95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5" name="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6" name=""/>
          <p:cNvSpPr/>
          <p:nvPr/>
        </p:nvSpPr>
        <p:spPr>
          <a:xfrm>
            <a:off x="2286000" y="255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7" name="" descr=""/>
          <p:cNvPicPr/>
          <p:nvPr/>
        </p:nvPicPr>
        <p:blipFill>
          <a:blip r:embed="rId3"/>
          <a:stretch/>
        </p:blipFill>
        <p:spPr>
          <a:xfrm>
            <a:off x="1714680" y="2276640"/>
            <a:ext cx="57150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 txBox="1"/>
          <p:nvPr/>
        </p:nvSpPr>
        <p:spPr>
          <a:xfrm>
            <a:off x="826920" y="115920"/>
            <a:ext cx="7274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урская революция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50920" y="170028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День 27 апреля 1978 г. вошёл в историю как начало Саурской революции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в Афганистане. Дауд был убит в перестрелке. Президентом республики 27 апреля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стал коммунист Нур Муххамед Тараки. Была провозглашена диктатура пролетариата в стране,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где нет пролетариата. Вместе со своим премьер-министром Хафизуллой Амином, придерживавшимс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экстремистских взглядов, Тараки стразу начал целую серию радикальных реформ, и прежде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всего насильственное перераспределение земли и кампанию по ликвидации неграмотност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Всё это вызвало недовольство фундаменталистского духовенства и крупных землевладельцев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 поддержке Пакистана, Китая, Ирана и ЦРУ они стали оказывать сопротивление Тараки и Амин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Содержимое 2"/>
          <p:cNvSpPr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7 декабря 1979 советские войска пересекли афганскую границу. Советский десант высадился в столице страны Кабул и взял штурмом дворец Амина. Диктатор был убит. Согласно официальному сообщению, революционный суд признал Амина виновным «в совершении преступлений против государства» и приговорил к смертной казни. Амина сменил Кармаль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71" name="" descr=""/>
          <p:cNvPicPr/>
          <p:nvPr/>
        </p:nvPicPr>
        <p:blipFill>
          <a:blip r:embed="rId1"/>
          <a:stretch/>
        </p:blipFill>
        <p:spPr>
          <a:xfrm>
            <a:off x="468360" y="5516640"/>
            <a:ext cx="2303280" cy="1154160"/>
          </a:xfrm>
          <a:prstGeom prst="rect">
            <a:avLst/>
          </a:prstGeom>
          <a:ln w="0">
            <a:noFill/>
          </a:ln>
        </p:spPr>
      </p:pic>
      <p:pic>
        <p:nvPicPr>
          <p:cNvPr id="1472" name="" descr=""/>
          <p:cNvPicPr/>
          <p:nvPr/>
        </p:nvPicPr>
        <p:blipFill>
          <a:blip r:embed="rId2"/>
          <a:stretch/>
        </p:blipFill>
        <p:spPr>
          <a:xfrm>
            <a:off x="5580000" y="4365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За их спиной – сожженные аул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Times New Roman"/>
              </a:rPr>
              <a:t>Через некоторое время началась национально-освободительная война афганцев против советских войск. Моджахеды нападали со всех сторон и скрывались в горах или на территории Пакистана. Эта война стоила СССР около 15 тыс человек.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80 го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ервый год необъявленной войны закончился тяжелыми последствиями и для той, и для другой стороны. Похоронки, за редким исключением, получали все регионы страны. Потери несли не «патрулирующие подразделения», как предполагалось вначале, а воинские части в боевых операциях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лдаты Афганиста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о официальным данным, в этой войне погибло около 14 тыс. советских солдат, ранено - 35 тыс., пропало без вести или попало в плен - более 300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Общие потери афганского войска составили около 1 млн. челове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9" name="" descr=""/>
          <p:cNvPicPr/>
          <p:nvPr/>
        </p:nvPicPr>
        <p:blipFill>
          <a:blip r:embed="rId1"/>
          <a:stretch/>
        </p:blipFill>
        <p:spPr>
          <a:xfrm>
            <a:off x="755640" y="1730520"/>
            <a:ext cx="28926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8157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ветское вторжение в Афганистан вызвало волну протестов в мире (в частности, на московскую Олимпиаду-1980 отказались многие ведущие страны). США опасались, что из Афганистана СССР может нанести удары по Пакистану и нефтяным источникам в Персидском заливе. Возобновилась «холодная война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"/>
          <a:stretch/>
        </p:blipFill>
        <p:spPr>
          <a:xfrm>
            <a:off x="468360" y="5516640"/>
            <a:ext cx="2303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 1983 СССР начал искать возможность вывода войск из Афганистана. В 1986      непопулярный Кармаль был заменен на более авторитетного лидера Н. Наджибуллу. Но США отказывались прекратить помощь моджахедам в обмен на вывод советских войск. В условиях «холодной войны» США были заинтересованы в том, чтобы СССР как можно дольше не мог выйти из «капкана», в который попал в Афганистан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22:50:40Z</dcterms:created>
  <dc:creator>mc.Rabbit</dc:creator>
  <dc:description/>
  <dc:language>en-US</dc:language>
  <cp:lastModifiedBy>Николай</cp:lastModifiedBy>
  <dcterms:modified xsi:type="dcterms:W3CDTF">2011-02-14T18:20:35Z</dcterms:modified>
  <cp:revision>30</cp:revision>
  <dc:subject/>
  <dc:title>АФГАНСКАЯ ВОЙНА</dc:title>
</cp:coreProperties>
</file>