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8ABC-4AF5-4B72-AD9B-85FC11576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2DEF-FA06-40DA-9ECD-5C81495396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082-982F-492D-91D0-C13E47B3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F13-65CB-438B-9ED1-40B95B8C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337-3595-4EC0-8E2C-147380B7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DF5-1FBC-437C-B683-B36A02C2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4BA-06E0-4DA7-83E5-61FAC432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ABC9-D209-408A-996D-94F870C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3ED-D779-4E17-ABD9-76174B3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AB39-5211-4DF0-9091-E52BD80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7348-28CC-413B-A510-355D514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DD1-318A-4353-A28F-643036A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5602-6D35-44A5-8C0E-25F9368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992-DD9E-4866-9A9F-2931CB0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92FB-2BA6-4363-925A-6A31F53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AF6D-2CEF-4AD7-B78A-8850AE4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930D-CA7B-482D-9038-EC122E8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3239-3C48-4E57-8C44-C32FCA2A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3749-70E0-4660-8EED-08A96992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B5D1-69A6-4EA7-BA98-D22C8B4B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B4C3-B5EC-43A6-83CD-9687DE9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6353-263C-47D8-8C7D-F69ED724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5A45-0C5D-401C-B0D2-38CCDEFF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5910-2634-43C7-A542-6133FC24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D18-D458-44ED-B256-0C21C03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3144-0331-4319-BA6E-3C80E9F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02EA-0CF9-4EA8-A5E8-42374EF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D36E-3052-4284-B715-E5C2918C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BA23-8F48-4468-A5AC-F63DB77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65CF-B662-4252-8732-7977A17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80AB-BC77-4C6A-A8D5-AB211880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DDFF-B10F-4DC4-B46D-C8EBCCF4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6A17-3FC3-404B-85CD-6C8E0D1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F00D-620C-409B-9FDF-5F69DF5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A953-399A-43B4-ABF6-43C35D31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5EB-BE17-4081-AA62-B793C3DE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5495-9F27-484C-95E8-24C8B1BB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46F7-A15C-4923-8A88-70EE2462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715F-8ADA-49EF-870E-D6B6A6F1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7D4B-E448-4E97-AF21-CD2BB0C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DB21-74EC-4C12-BACB-844D508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CEFF-43DD-487B-A3F5-F2FEFEA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F198-44D1-49C6-AF39-74191133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A594-9F22-4477-9FC7-80AD0CCE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E709-74AF-45C7-A7F2-2E864C32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3DCD-0D1B-42F1-8A76-AF9E5316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334-BF4F-4B58-AD0D-E5048D9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5F7F-0B1A-4E9A-BF8A-D811156A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2B3E-FABB-45D0-B2A0-59D3E2A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26B9-1CC9-4760-B6E6-227B296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720A-EFC8-496B-926F-79458D83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54E9B-0B18-43C5-9A77-DB28D48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388F-D0DE-41B3-9A19-99E9BE0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5DFD-438D-464E-BEB7-A56C8BB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42BF-FC97-499A-9B76-8FE2D4B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5A35-25BC-4278-B9E2-509BF6D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BA2A-774D-4CD3-BA1F-2AC911E6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B97-4D1D-4077-A500-05E8438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E01B-301C-4520-974C-B14FEF5D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EA3-731A-414A-A2E5-BFE97F6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EA0-A9EE-4DC9-879A-2F4E5C5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54D-DFD9-4C6D-AC69-3F2AD9B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58b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02D-1D02-4B70-A098-693306DF21AA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b58b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D82-5578-4C09-B8DB-84E8268B9E95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58b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12E5-2938-4E61-A66B-1C0FFD0A3F61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58b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e3b30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e3b30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786F-481A-42F7-9E6B-AEFC50877108}" type="slidenum"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b58b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a5644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FDC-B3F5-4092-ACFF-1976D5851A41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ewis_Carroll" TargetMode="External"/><Relationship Id="rId2" Type="http://schemas.openxmlformats.org/officeDocument/2006/relationships/hyperlink" Target="http://en.wikipedia.org/wiki/Lewis_Carroll" TargetMode="External"/><Relationship Id="rId3" Type="http://schemas.openxmlformats.org/officeDocument/2006/relationships/hyperlink" Target="http://en.wikipedia.org/wiki/Alice%27s_Adventures_in_Wonderland" TargetMode="External"/><Relationship Id="rId4" Type="http://schemas.openxmlformats.org/officeDocument/2006/relationships/hyperlink" Target="http://www.google.ru/" TargetMode="External"/><Relationship Id="rId5" Type="http://schemas.openxmlformats.org/officeDocument/2006/relationships/hyperlink" Target="http://quizlet.com/8662441/alice-in-w-exams-flash-cards/" TargetMode="Externa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2835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ranklin Gothic Medium"/>
              </a:rPr>
              <a:t>ALICE IN WONDERLAND QUIZ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Заголовок 6"/>
          <p:cNvSpPr/>
          <p:nvPr/>
        </p:nvSpPr>
        <p:spPr>
          <a:xfrm>
            <a:off x="1187280" y="5589720"/>
            <a:ext cx="6918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0000"/>
                </a:solidFill>
                <a:latin typeface="Franklin Gothic Medium"/>
              </a:rPr>
              <a:t>ВЫПОЛНИЛА: ГОЧИАШВИЛИ МАРИНА ОТАРИЕВНА, УЧИТЕЛЬ     АНГЛИЙСКОГО ЯЗЫКА МОУ «КСОШ №2»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Franklin Gothic Medium"/>
              </a:rPr>
              <a:t>                               Г. КИРИШИ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4" descr="C:\Users\Мврина\Desktop\alisa_v_strane_chudes_5.jpg"/>
          <p:cNvPicPr/>
          <p:nvPr/>
        </p:nvPicPr>
        <p:blipFill>
          <a:blip r:embed="rId1"/>
          <a:stretch/>
        </p:blipFill>
        <p:spPr>
          <a:xfrm>
            <a:off x="291960" y="1197000"/>
            <a:ext cx="4183200" cy="206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Мврина\Desktop\549c90b0562be2c850e3c46edb6e5327_1000.jpg"/>
          <p:cNvPicPr/>
          <p:nvPr/>
        </p:nvPicPr>
        <p:blipFill>
          <a:blip r:embed="rId2"/>
          <a:stretch/>
        </p:blipFill>
        <p:spPr>
          <a:xfrm>
            <a:off x="4859280" y="1817640"/>
            <a:ext cx="3841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LICE MEETS UP WITH AN ANIMAL WHILE SWIMMING. </a:t>
            </a: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THIS ANIMAL I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Объект 2"/>
          <p:cNvSpPr/>
          <p:nvPr/>
        </p:nvSpPr>
        <p:spPr>
          <a:xfrm>
            <a:off x="1403280" y="4121280"/>
            <a:ext cx="74995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Объект 2"/>
          <p:cNvSpPr/>
          <p:nvPr/>
        </p:nvSpPr>
        <p:spPr>
          <a:xfrm>
            <a:off x="620640" y="1709640"/>
            <a:ext cx="23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wha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mous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c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do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6" name="Picture 2" descr="C:\Users\Мврина\Desktop\alice8.jpg"/>
          <p:cNvPicPr/>
          <p:nvPr/>
        </p:nvPicPr>
        <p:blipFill>
          <a:blip r:embed="rId1"/>
          <a:stretch/>
        </p:blipFill>
        <p:spPr>
          <a:xfrm>
            <a:off x="5148360" y="1268280"/>
            <a:ext cx="34225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ON SHORE WITH HER NEW ANIMAL FRIENDS, ALICE RUNS I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000" y="1628280"/>
            <a:ext cx="34671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Pigeon rac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Caucus rac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a decathl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a triathl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Picture 2" descr="C:\Users\Мврина\Desktop\rodney_matthews_alice in wonderland_a caucus race_med.jpg"/>
          <p:cNvPicPr/>
          <p:nvPr/>
        </p:nvPicPr>
        <p:blipFill>
          <a:blip r:embed="rId1"/>
          <a:stretch/>
        </p:blipFill>
        <p:spPr>
          <a:xfrm>
            <a:off x="3635280" y="1341360"/>
            <a:ext cx="51609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69560"/>
            <a:ext cx="75214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. ON SHORE WITH THE ANIMALS, ALICE HEAR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981000"/>
            <a:ext cx="5338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a) the Cat's tale of how he lost his tai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b) the Mouse's tale of his unjust tria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) the whale, calling to her from the sea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d) the Dog's story of how he became the Day Dog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2" descr="C:\Users\Мврина\Desktop\Alice_KHREC.png"/>
          <p:cNvPicPr/>
          <p:nvPr/>
        </p:nvPicPr>
        <p:blipFill>
          <a:blip r:embed="rId1"/>
          <a:stretch/>
        </p:blipFill>
        <p:spPr>
          <a:xfrm>
            <a:off x="7164360" y="0"/>
            <a:ext cx="1808280" cy="2990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Мврина\Desktop\alice1-11-400.jpg"/>
          <p:cNvPicPr/>
          <p:nvPr/>
        </p:nvPicPr>
        <p:blipFill>
          <a:blip r:embed="rId2"/>
          <a:stretch/>
        </p:blipFill>
        <p:spPr>
          <a:xfrm>
            <a:off x="5940360" y="3048120"/>
            <a:ext cx="29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7521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LICE MANAGES TO OFFEND ALL THE BIRDS BY TALKING ABOUT HER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599840"/>
            <a:ext cx="3970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ca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llergy to feathe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fondness for chicke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hors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2" descr="C:\Users\Мврина\Desktop\aliceinwonderland_cheshire_cat.jpg"/>
          <p:cNvPicPr/>
          <p:nvPr/>
        </p:nvPicPr>
        <p:blipFill>
          <a:blip r:embed="rId1"/>
          <a:stretch/>
        </p:blipFill>
        <p:spPr>
          <a:xfrm>
            <a:off x="4067280" y="1341360"/>
            <a:ext cx="41925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0"/>
            <a:ext cx="7521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THE WHITE RABBIT MISTAKES ALICE FOR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42591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Duches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his wife, Mrs. Rabbi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Queen of Hear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his maid, Mary An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Объект 2"/>
          <p:cNvSpPr/>
          <p:nvPr/>
        </p:nvSpPr>
        <p:spPr>
          <a:xfrm>
            <a:off x="4419720" y="3090960"/>
            <a:ext cx="397008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2" descr="C:\Users\Мврина\Desktop\S640x480.jpeg"/>
          <p:cNvPicPr/>
          <p:nvPr/>
        </p:nvPicPr>
        <p:blipFill>
          <a:blip r:embed="rId1"/>
          <a:stretch/>
        </p:blipFill>
        <p:spPr>
          <a:xfrm>
            <a:off x="5508720" y="981000"/>
            <a:ext cx="28558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LICE GETS TRAPPED IN THE WHITE RABBIT'S HOUSE BECAU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8920" y="1197000"/>
            <a:ext cx="8775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the walls begin to grow larg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doors disappea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both she drinks a potion and grows too huge to get out the door and the doors disappea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she drinks a potion and grows too huge to get out the doo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icture 2" descr="C:\Users\Мврина\Desktop\alice.jpg"/>
          <p:cNvPicPr/>
          <p:nvPr/>
        </p:nvPicPr>
        <p:blipFill>
          <a:blip r:embed="rId1"/>
          <a:stretch/>
        </p:blipFill>
        <p:spPr>
          <a:xfrm>
            <a:off x="4643280" y="3965400"/>
            <a:ext cx="431172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5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N ANIMAL EMPLOYED BY THE WHITE RABBIT TRIES TO GET INTO THE WHITE RABBIT'S HOUSE THROUGH THE CHIMNEY. </a:t>
            </a: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THIS ANIMAL I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7640" y="2001960"/>
            <a:ext cx="4319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Sam, the bobca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Steve, the eagl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Bill, the lizar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ammy, the maggo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6" name="Picture 2" descr="C:\Users\Мврина\Desktop\Alice-disneyscreencaps_com-2542.jpg"/>
          <p:cNvPicPr/>
          <p:nvPr/>
        </p:nvPicPr>
        <p:blipFill>
          <a:blip r:embed="rId1"/>
          <a:stretch/>
        </p:blipFill>
        <p:spPr>
          <a:xfrm>
            <a:off x="4140360" y="1989000"/>
            <a:ext cx="4824360" cy="36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5920" y="404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FTER ESCAPING THE WHITE RABBIT'S HOUSE, ALICE WANDERS IN THE WOODS. WHILE SMALL, ALICE TRIES TO PLAY WITH AN ANIMAL, BUT HER SIZE MAKES IT DANGEROUS. </a:t>
            </a: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THIS ANIMAL I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2276280"/>
            <a:ext cx="3683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praying manti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pupp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scorpi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kitte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2" descr="C:\Users\Мврина\Desktop\alice-in-wonderland--large-msg-117735233063.jpg"/>
          <p:cNvPicPr/>
          <p:nvPr/>
        </p:nvPicPr>
        <p:blipFill>
          <a:blip r:embed="rId1"/>
          <a:stretch/>
        </p:blipFill>
        <p:spPr>
          <a:xfrm>
            <a:off x="4140360" y="2565360"/>
            <a:ext cx="486864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7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LICE FINDS A VERY WISE CATERPILLAR. THE CATERPILLAR IS SITTING ON TOP OF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44020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mushroom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a sedan chair with no beare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lotus blossom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lily pa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4" descr="C:\Users\Мврина\Desktop\il_570xN.227482286.jpg"/>
          <p:cNvPicPr/>
          <p:nvPr/>
        </p:nvPicPr>
        <p:blipFill>
          <a:blip r:embed="rId1"/>
          <a:stretch/>
        </p:blipFill>
        <p:spPr>
          <a:xfrm>
            <a:off x="3995640" y="1628640"/>
            <a:ext cx="5023080" cy="49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115560"/>
            <a:ext cx="7521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THE CATERPILLAR, AMONG OTHER THINGS, SUGGESTS TO ALICE THAT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1000"/>
            <a:ext cx="5410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Big People are bad and children are go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change is natura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there is no difference between being a little girl and being a little bo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the Queen of Hearts should be avoided at all cos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2" descr="C:\Users\Мврина\Desktop\002453.jpg"/>
          <p:cNvPicPr/>
          <p:nvPr/>
        </p:nvPicPr>
        <p:blipFill>
          <a:blip r:embed="rId1"/>
          <a:stretch/>
        </p:blipFill>
        <p:spPr>
          <a:xfrm>
            <a:off x="5940360" y="2060640"/>
            <a:ext cx="3073320" cy="40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1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EWIS CARROLL IS THE PSEUDONYM OF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00200"/>
            <a:ext cx="4546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Jane Auste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Samuel Clemen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Charles Lutwidge Dodgs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George Elio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2" descr="C:\Users\Мврина\Desktop\kerroll.jpg"/>
          <p:cNvPicPr/>
          <p:nvPr/>
        </p:nvPicPr>
        <p:blipFill>
          <a:blip r:embed="rId1"/>
          <a:stretch/>
        </p:blipFill>
        <p:spPr>
          <a:xfrm>
            <a:off x="5867280" y="981000"/>
            <a:ext cx="29178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HE CATERPILLAR ADVISES ALICE TO TAKE PIECES FROM BOTH SIDES OF THE MUSHROOM. </a:t>
            </a: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HE TELLS HER THA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Объект 2"/>
          <p:cNvSpPr/>
          <p:nvPr/>
        </p:nvSpPr>
        <p:spPr>
          <a:xfrm>
            <a:off x="684360" y="5557680"/>
            <a:ext cx="3512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Объект 2"/>
          <p:cNvSpPr/>
          <p:nvPr/>
        </p:nvSpPr>
        <p:spPr>
          <a:xfrm>
            <a:off x="0" y="1628640"/>
            <a:ext cx="6588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one side will make her super-strong, and one side will make her super-fas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one side is poisonous, and the other side can cure any sicknes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one side will make her bigger, and the other side will make her smal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one side will transport her to the Garden; the other side will send her ho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9" name="Picture 2" descr="C:\Users\Мврина\Desktop\caterpillar.jpg"/>
          <p:cNvPicPr/>
          <p:nvPr/>
        </p:nvPicPr>
        <p:blipFill>
          <a:blip r:embed="rId1"/>
          <a:stretch/>
        </p:blipFill>
        <p:spPr>
          <a:xfrm>
            <a:off x="6588000" y="3573360"/>
            <a:ext cx="232416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804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THE CATERPILLAR COULD BEST BE DESCRIBED A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1052280"/>
            <a:ext cx="51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foolish and very argumentiv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wise, somewhat contrary, and very mellow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fast-moving and full of lov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hot-tempered and courageou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2" name="Picture 2" descr="C:\Users\Мврина\Desktop\alice 3.jpg"/>
          <p:cNvPicPr/>
          <p:nvPr/>
        </p:nvPicPr>
        <p:blipFill>
          <a:blip r:embed="rId1"/>
          <a:stretch/>
        </p:blipFill>
        <p:spPr>
          <a:xfrm>
            <a:off x="5148360" y="2205000"/>
            <a:ext cx="3889440" cy="31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75218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WHEN ALICE'S NECK IS STRETCHED OUT, SHE MEETS A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52671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Guard dog guarding his dog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Zebra guarding his strip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Pigeon guarding her egg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Dog guarding her puppi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2" descr="C:\Users\Мврина\Desktop\charles robinson 480.jpg"/>
          <p:cNvPicPr/>
          <p:nvPr/>
        </p:nvPicPr>
        <p:blipFill>
          <a:blip r:embed="rId1"/>
          <a:stretch/>
        </p:blipFill>
        <p:spPr>
          <a:xfrm>
            <a:off x="5867280" y="1268280"/>
            <a:ext cx="2984760" cy="42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0200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OUTSIDE THE HOUSE OF THE DUCHESS, ALICE SEE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9280" y="1599840"/>
            <a:ext cx="4608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a Frog-Footman and a Fish-Footma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field of giant cathead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giant butterfl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field of giant mushroom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2" descr="C:\Users\Мврина\Desktop\4730380199_d2eeefc9e1.jpg"/>
          <p:cNvPicPr/>
          <p:nvPr/>
        </p:nvPicPr>
        <p:blipFill>
          <a:blip r:embed="rId1"/>
          <a:stretch/>
        </p:blipFill>
        <p:spPr>
          <a:xfrm>
            <a:off x="4716360" y="1052640"/>
            <a:ext cx="4275360" cy="42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INSIDE THE HOUSE, THE DUCHESS I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765000"/>
            <a:ext cx="38275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nursing a bab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eating a ham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making soup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beheading a Footma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1" name="Picture 2" descr="C:\Users\Мврина\Desktop\gordon robinson 480.jpg"/>
          <p:cNvPicPr/>
          <p:nvPr/>
        </p:nvPicPr>
        <p:blipFill>
          <a:blip r:embed="rId1"/>
          <a:stretch/>
        </p:blipFill>
        <p:spPr>
          <a:xfrm>
            <a:off x="4427640" y="1268280"/>
            <a:ext cx="4441680" cy="528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Franklin Gothic Medium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THE AIR IN THE DUCHESS' HOUSE IS FULL OF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Объект 2"/>
          <p:cNvSpPr/>
          <p:nvPr/>
        </p:nvSpPr>
        <p:spPr>
          <a:xfrm>
            <a:off x="250920" y="1628640"/>
            <a:ext cx="44654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peppe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reac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flying fis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smell of anchovi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4" name="Picture 2" descr="C:\Users\Мврина\Desktop\duchess1.jpg"/>
          <p:cNvPicPr/>
          <p:nvPr/>
        </p:nvPicPr>
        <p:blipFill>
          <a:blip r:embed="rId1"/>
          <a:stretch/>
        </p:blipFill>
        <p:spPr>
          <a:xfrm>
            <a:off x="4500720" y="1773360"/>
            <a:ext cx="4190760" cy="34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763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22240" y="4149360"/>
            <a:ext cx="2237040" cy="530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Мврина\Desktop\images.jpg"/>
          <p:cNvPicPr/>
          <p:nvPr/>
        </p:nvPicPr>
        <p:blipFill>
          <a:blip r:embed="rId2"/>
          <a:stretch/>
        </p:blipFill>
        <p:spPr>
          <a:xfrm>
            <a:off x="250920" y="2292480"/>
            <a:ext cx="4278240" cy="4373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Мврина\Desktop\miawasikowska_aliceinwonderland1.jpg"/>
          <p:cNvPicPr/>
          <p:nvPr/>
        </p:nvPicPr>
        <p:blipFill>
          <a:blip r:embed="rId3"/>
          <a:stretch/>
        </p:blipFill>
        <p:spPr>
          <a:xfrm>
            <a:off x="4356000" y="1197000"/>
            <a:ext cx="427680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ad1f1f"/>
                </a:solidFill>
                <a:latin typeface="Arial"/>
              </a:rPr>
              <a:t>Alice's Adventures in Wonderland</a:t>
            </a:r>
            <a:r>
              <a:rPr b="1" i="1" lang="en" sz="16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d1f1f"/>
                </a:solidFill>
                <a:latin typeface="Arial"/>
              </a:rPr>
              <a:t>by Lewis Carrol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</a:t>
            </a:r>
            <a:r>
              <a:rPr b="1" lang="ru-RU" sz="16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://en.wikipedia.org/wiki/Lewis_Carrol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http://en.wikipedia.org/wiki/Alice%27s_Adventures_in_Wonderl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http://www.google.ru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http://quizlet.com/8662441/alice-in-w-exams-flash-cards/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1" name="Picture 2" descr="C:\Users\Мврина\Desktop\0112a987da98.gif"/>
          <p:cNvPicPr/>
          <p:nvPr/>
        </p:nvPicPr>
        <p:blipFill>
          <a:blip r:embed="rId6"/>
          <a:stretch/>
        </p:blipFill>
        <p:spPr>
          <a:xfrm>
            <a:off x="5867280" y="2852640"/>
            <a:ext cx="315756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2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CARROLL WROTE AND LIVED I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700280"/>
            <a:ext cx="54720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Edwardian Englan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Nineteenth century Americ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Victorian Englan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Nineteenth century Nova Scoti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Picture 2" descr="C:\Users\Мврина\Desktop\Queen_Victoria_Golden_Jubilee.jpg"/>
          <p:cNvPicPr/>
          <p:nvPr/>
        </p:nvPicPr>
        <p:blipFill>
          <a:blip r:embed="rId1"/>
          <a:stretch/>
        </p:blipFill>
        <p:spPr>
          <a:xfrm>
            <a:off x="6084720" y="836640"/>
            <a:ext cx="2652840" cy="37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HE ALICE BOOKS SOMETIMES POKE FUN A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Объект 2"/>
          <p:cNvSpPr/>
          <p:nvPr/>
        </p:nvSpPr>
        <p:spPr>
          <a:xfrm>
            <a:off x="395280" y="184464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lin Gotic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clin Gotic"/>
              </a:rPr>
              <a:t>the injustice of imperialis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lin Gotic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clin Gotic"/>
              </a:rPr>
              <a:t>Queen Elizabeth 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lin Gotic"/>
              </a:rPr>
              <a:t>c) the Anglican church at the time of the American Revolu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lin Gotic"/>
              </a:rPr>
              <a:t>d) the didactic children's literature of the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2195640" y="5013360"/>
            <a:ext cx="59767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5" name="Picture 2" descr="C:\Users\Мврина\Desktop\1290525490_knigi.png"/>
          <p:cNvPicPr/>
          <p:nvPr/>
        </p:nvPicPr>
        <p:blipFill>
          <a:blip r:embed="rId1"/>
          <a:stretch/>
        </p:blipFill>
        <p:spPr>
          <a:xfrm>
            <a:off x="6372360" y="4437000"/>
            <a:ext cx="242064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4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ONE OF THE THEMES OF THE BOOK IS THE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836280"/>
            <a:ext cx="8291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triumph of the primal over the rationa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dangers of organized religi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injustice of slaver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the growth from childhood to adultho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3" descr="C:\Users\Мврина\Desktop\17091114.1.jpg"/>
          <p:cNvPicPr/>
          <p:nvPr/>
        </p:nvPicPr>
        <p:blipFill>
          <a:blip r:embed="rId1"/>
          <a:stretch/>
        </p:blipFill>
        <p:spPr>
          <a:xfrm>
            <a:off x="4780080" y="3195720"/>
            <a:ext cx="414468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5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LICE'S ADVENTURES BEGIN WHEN SHE FOLLOW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Объект 2"/>
          <p:cNvSpPr/>
          <p:nvPr/>
        </p:nvSpPr>
        <p:spPr>
          <a:xfrm>
            <a:off x="324000" y="1052640"/>
            <a:ext cx="41860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her c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the White Rabbi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the Cheshire c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d)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the Caterpilla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3" descr="C:\Users\Мврина\Desktop\64420165_430523.jpg"/>
          <p:cNvPicPr/>
          <p:nvPr/>
        </p:nvPicPr>
        <p:blipFill>
          <a:blip r:embed="rId1"/>
          <a:stretch/>
        </p:blipFill>
        <p:spPr>
          <a:xfrm>
            <a:off x="4067280" y="2781360"/>
            <a:ext cx="477504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IN THE HALLWAY WITH THE NUMEROUS DOORS, ALICE FINDS A TINY DOORWAY LEADING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79280" y="1780920"/>
            <a:ext cx="45468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n elephant's graveyar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a lovely garde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grove of Humpty Dump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the orchard of Tweedle-Dee and Tweedle-Dum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Picture 3" descr="C:\Users\Мврина\Desktop\Topiary-Garden1.jpg"/>
          <p:cNvPicPr/>
          <p:nvPr/>
        </p:nvPicPr>
        <p:blipFill>
          <a:blip r:embed="rId1"/>
          <a:stretch/>
        </p:blipFill>
        <p:spPr>
          <a:xfrm>
            <a:off x="4916520" y="2349360"/>
            <a:ext cx="4227480" cy="33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7.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ALICE IS TOO LARGE FOR THE DOORWAY. SHE FINDS A BOTTLE AND SOME CAKE. </a:t>
            </a:r>
            <a:r>
              <a:rPr b="1" lang="ru-RU" sz="2500" spc="-1" strike="noStrike">
                <a:solidFill>
                  <a:srgbClr val="000000"/>
                </a:solidFill>
                <a:latin typeface="Franklin Gothic Medium"/>
              </a:rPr>
              <a:t>WHEN SHE COMES THEM, SHE LEARNS THAT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97000" y="1915920"/>
            <a:ext cx="5354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a) the one thing that her mother makes doesn't do anything at al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b) it's totally impossible to escape from this scary hal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) one thing makes her bigger, and the other makes her smal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d) if she drinks and eats too much, she'll have a nasty fall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2" descr="C:\Users\Мврина\Desktop\alice-with-doorknob1.jpg"/>
          <p:cNvPicPr/>
          <p:nvPr/>
        </p:nvPicPr>
        <p:blipFill>
          <a:blip r:embed="rId1"/>
          <a:stretch/>
        </p:blipFill>
        <p:spPr>
          <a:xfrm>
            <a:off x="6039000" y="1052640"/>
            <a:ext cx="3105000" cy="2484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Мврина\Desktop\Alice_in_Wonderland2.jpg"/>
          <p:cNvPicPr/>
          <p:nvPr/>
        </p:nvPicPr>
        <p:blipFill>
          <a:blip r:embed="rId2"/>
          <a:stretch/>
        </p:blipFill>
        <p:spPr>
          <a:xfrm>
            <a:off x="5875200" y="3429000"/>
            <a:ext cx="3268800" cy="2760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Мврина\Desktop\size500_Alice-in-wonderland_Solongo.jpg"/>
          <p:cNvPicPr/>
          <p:nvPr/>
        </p:nvPicPr>
        <p:blipFill>
          <a:blip r:embed="rId3"/>
          <a:stretch/>
        </p:blipFill>
        <p:spPr>
          <a:xfrm>
            <a:off x="3995640" y="476892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WHILE TINY, ALICE SLIPS AND FALLS INTO A BODY OF SALTWATER. SHE REALIZES THAT THIS WATER 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42920" y="2205000"/>
            <a:ext cx="7499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) a vat of fermenting anchovy juic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)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the Mediterranea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) the tears she cried while she was a gia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) the private sea of the Queen of Hear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2" name="Picture 2" descr="C:\Users\Мврина\Desktop\alice_in_wonderland_the_pool_of_tears_mousepad-p144190273160644437z7oxv_125.jpg"/>
          <p:cNvPicPr/>
          <p:nvPr/>
        </p:nvPicPr>
        <p:blipFill>
          <a:blip r:embed="rId1"/>
          <a:stretch/>
        </p:blipFill>
        <p:spPr>
          <a:xfrm>
            <a:off x="5940360" y="450864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05:39:34Z</dcterms:created>
  <dc:creator>Мврина</dc:creator>
  <dc:description/>
  <dc:language>en-US</dc:language>
  <cp:lastModifiedBy>Lexxss</cp:lastModifiedBy>
  <dcterms:modified xsi:type="dcterms:W3CDTF">2013-02-26T19:32:45Z</dcterms:modified>
  <cp:revision>96</cp:revision>
  <dc:subject/>
  <dc:title>Alice in Wonderland Quizzes</dc:title>
</cp:coreProperties>
</file>