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EF1-E2AF-451E-BBCF-90D70812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4E6-4FF6-40E5-AB24-CACECD7A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4213-88F5-4245-8A9E-BC2EB92C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8A0-7CE8-4D6E-A697-4470DDC1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499-3273-4D8E-A330-902B92EC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FFC-AADF-48A3-9B27-0E0202DB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7F2-7821-41D4-ADA6-77EAC145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893-0257-43FF-BBFF-4881A514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14F-A5C1-48A4-92AC-EEC5002A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C0C-0064-4C27-AB82-613484E7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105-A329-48D3-8273-7BCAEA49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72A-CE0A-48B7-BCC3-00BAE264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0AD2-50C5-4031-AF22-354CC70CFE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889360" y="930240"/>
            <a:ext cx="3352680" cy="40863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173160" y="500544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мотрите рисунки а и б. Проанализируй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В чем сущность проводимых опытов а и б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Почему стрелка гальванометра в перв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чае отклоняется вправо, а во втором – влев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908000" y="189000"/>
            <a:ext cx="53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найте ли вы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95280" y="5121360"/>
            <a:ext cx="839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е напряжение у нас в дома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е напряжение в линии электропередач между городам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м образом понижают напряжение для использования его в домах и на производстве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287360" y="896760"/>
            <a:ext cx="6569280" cy="42246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1908000" y="189000"/>
            <a:ext cx="53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найте ли вы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654120" y="1125360"/>
            <a:ext cx="82072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но ли включить лампочку рассчитанную на напряжение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6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электрическую цепь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220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м.6 опы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40000" y="2852280"/>
            <a:ext cx="50036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 ноября 1876 года, дата получения патента Яблочковым Павлом Николаевичем, считается датой рождения первого трансформато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был трансформатор с  разомкнутым сердечнико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явшим собой стержень, на котор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матывались обмо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-4680" y="981000"/>
            <a:ext cx="4005360" cy="515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4500720" y="0"/>
            <a:ext cx="4211640" cy="27018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25920" y="632772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чков Павел Николаев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587664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первые применен  в 1878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108000" y="18900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в</cp:lastModifiedBy>
  <dcterms:modified xsi:type="dcterms:W3CDTF">2013-02-26T15:40:40Z</dcterms:modified>
  <cp:revision>29</cp:revision>
  <dc:subject/>
  <dc:title>PowerPoint Presentation</dc:title>
</cp:coreProperties>
</file>