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6.gif" ContentType="image/gif"/>
  <Override PartName="/ppt/media/image10.jpeg" ContentType="image/jpeg"/>
  <Override PartName="/ppt/media/image25.gif" ContentType="image/gif"/>
  <Override PartName="/ppt/media/image5.jpeg" ContentType="image/jpeg"/>
  <Override PartName="/ppt/media/image20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422-2C3D-4D4E-80DA-ED839C64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E26-A5D9-475C-9B6B-7CB6F83E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44F-6BC0-43AC-ACD0-12F37FD8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FF3-C153-449B-A5B1-2F15B3B9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2FF-BC75-476B-B0D9-7841A5DD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362-432E-48E3-B759-DA57F509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095-801D-4393-A780-14A797FF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3E9-3C21-45AC-87E6-A61F4466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A2D-9FEE-43D5-8E54-976EC351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877-153B-4582-A2B8-CFFBC58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317-E9C3-40CA-AD47-C7E7F72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A42-97B1-44EC-B774-FB92034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66D1-338A-4D3B-9D6B-04E06289BA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4508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581360" cy="450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546200" y="19782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6227640" y="2225520"/>
            <a:ext cx="451080" cy="2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2484360" y="2095560"/>
            <a:ext cx="436680" cy="317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7308720" y="2203560"/>
            <a:ext cx="4460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итоге изучи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981080"/>
            <a:ext cx="8497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 - трансформ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а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стики  при использовании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матические выраж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) Борьба с токами Фуко – набор железных пласт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303280" cy="140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867280" y="3994200"/>
            <a:ext cx="144792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7562880" y="4336920"/>
            <a:ext cx="158112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1835280" y="3789360"/>
            <a:ext cx="2876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шите  задач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76. Трансформатор, содержащий в первич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мотке 840 витков, повышает напр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220 до 660 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витков содержится во вторичной обмотк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редложите 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кой обмотке провод имеет большую площад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еречного сечен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редложите 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 u="sng">
              <a:solidFill>
                <a:srgbClr val="d6d100"/>
              </a:solidFill>
              <a:uFillTx/>
              <a:latin typeface="Copperplate Gothic Bold"/>
            </a:endParaRPr>
          </a:p>
        </p:txBody>
      </p:sp>
      <p:sp>
        <p:nvSpPr>
          <p:cNvPr id="109" name="WordArt 3"/>
          <p:cNvSpPr txBox="1"/>
          <p:nvPr/>
        </p:nvSpPr>
        <p:spPr>
          <a:xfrm>
            <a:off x="1403280" y="1341360"/>
            <a:ext cx="61200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машнее задание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835280" y="3716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8360" y="29131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: § 38; упр. 5 (3—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2"/>
          <p:cNvPicPr/>
          <p:nvPr/>
        </p:nvPicPr>
        <p:blipFill>
          <a:blip r:embed="rId1"/>
          <a:stretch/>
        </p:blipFill>
        <p:spPr>
          <a:xfrm>
            <a:off x="6659640" y="476280"/>
            <a:ext cx="28584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2"/>
          <p:cNvPicPr/>
          <p:nvPr/>
        </p:nvPicPr>
        <p:blipFill>
          <a:blip r:embed="rId2"/>
          <a:stretch/>
        </p:blipFill>
        <p:spPr>
          <a:xfrm>
            <a:off x="2195640" y="476280"/>
            <a:ext cx="28548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2"/>
          <p:cNvPicPr/>
          <p:nvPr/>
        </p:nvPicPr>
        <p:blipFill>
          <a:blip r:embed="rId3"/>
          <a:stretch/>
        </p:blipFill>
        <p:spPr>
          <a:xfrm>
            <a:off x="1042920" y="1484280"/>
            <a:ext cx="285840" cy="1262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2"/>
          <p:cNvPicPr/>
          <p:nvPr/>
        </p:nvPicPr>
        <p:blipFill>
          <a:blip r:embed="rId4"/>
          <a:stretch/>
        </p:blipFill>
        <p:spPr>
          <a:xfrm>
            <a:off x="7596360" y="1484280"/>
            <a:ext cx="285480" cy="1262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baby01"/>
          <p:cNvPicPr/>
          <p:nvPr/>
        </p:nvPicPr>
        <p:blipFill>
          <a:blip r:embed="rId5"/>
          <a:stretch/>
        </p:blipFill>
        <p:spPr>
          <a:xfrm>
            <a:off x="7750080" y="0"/>
            <a:ext cx="139392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baby01"/>
          <p:cNvPicPr/>
          <p:nvPr/>
        </p:nvPicPr>
        <p:blipFill>
          <a:blip r:embed="rId6"/>
          <a:stretch/>
        </p:blipFill>
        <p:spPr>
          <a:xfrm flipH="1">
            <a:off x="0" y="0"/>
            <a:ext cx="1393920" cy="1655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68360" y="4508640"/>
            <a:ext cx="8207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аржинский Ярослав Христиан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«СОШ №3» г.  Губкин Белгородской об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" dur="250" autoRev="1" fill="remov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93560" y="765000"/>
            <a:ext cx="7750440" cy="6093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гновенное ЭДС индукц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 всех витках первичной и вторичной обмотках одинак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о закона Фарадея оно определяется по формул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Ф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Ф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производная потока магнитной индукции по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ичной и вторичной обмотках содержится число витк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е  , е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юда  следует                   и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яжение на обмотках прямо пропорционально числу ви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2"/>
          <p:cNvGraphicFramePr/>
          <p:nvPr/>
        </p:nvGraphicFramePr>
        <p:xfrm>
          <a:off x="3635280" y="4941720"/>
          <a:ext cx="9352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4941720"/>
                    <a:ext cx="935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4"/>
          <p:cNvGraphicFramePr/>
          <p:nvPr/>
        </p:nvGraphicFramePr>
        <p:xfrm>
          <a:off x="5580000" y="4941720"/>
          <a:ext cx="115272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941720"/>
                    <a:ext cx="1152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ПД трансформатора приблизительно 10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ки Фуко – Сердечник из пласти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611280" y="2131920"/>
            <a:ext cx="802800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5891040" y="3403440"/>
            <a:ext cx="3252960" cy="345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0" y="1197000"/>
            <a:ext cx="5867280" cy="34876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в</cp:lastModifiedBy>
  <dcterms:modified xsi:type="dcterms:W3CDTF">2013-02-26T15:42:10Z</dcterms:modified>
  <cp:revision>29</cp:revision>
  <dc:subject/>
  <dc:title>PowerPoint Presentation</dc:title>
</cp:coreProperties>
</file>