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BFF-B070-4B9D-9904-2952E44C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6C0-3551-4D0A-A802-536AA35E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043-4342-438D-87CA-1E61B0CC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DB1-CCD7-4685-8386-857B09EB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33381-16B2-4C33-9A23-F2C27B58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7A58C-327B-4A16-85A8-D01DA756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9BA35-4041-44D0-AA5B-75716BB2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27060-908A-49FF-AE3C-E8B39D10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35966-0592-4496-9331-E27567A3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707F7-B130-4487-BE5E-49510DBE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5F79A-9946-4360-9B65-59726C5C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F6B-2575-4888-955F-574B7887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12E4F-70A8-45B6-9E8D-8CA8E2DF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13107-62C7-4071-AE93-CAD4CB01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D289F-DA38-4CCD-A414-C61DB7DC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24BE7-41BA-4A3E-B010-55E092F8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9F745-96CB-4B84-A09B-142F7ADC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251-6430-4E35-8748-6D8046AA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E6D-AF6A-423A-952F-3B8318A9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7D6-39E7-4BAF-9A37-835CE210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FC6-C461-4DA6-A34C-F2817D18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661-901A-4D17-A355-C5A701B9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E60-4C39-4C89-993F-6F8C9CDD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C5A-E3C6-4D3C-B2F6-A75F0112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C13D-1952-4A16-BD2C-798407DA8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349C-9F0A-4362-8D49-19AA43DC36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9520" y="41148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воя профессиональная карь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doctor"/>
          <p:cNvPicPr/>
          <p:nvPr/>
        </p:nvPicPr>
        <p:blipFill>
          <a:blip r:embed="rId2"/>
          <a:stretch/>
        </p:blipFill>
        <p:spPr>
          <a:xfrm>
            <a:off x="611280" y="404640"/>
            <a:ext cx="1847880" cy="276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3429000" y="838080"/>
            <a:ext cx="2311560" cy="231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швея1"/>
          <p:cNvPicPr/>
          <p:nvPr/>
        </p:nvPicPr>
        <p:blipFill>
          <a:blip r:embed="rId4"/>
          <a:stretch/>
        </p:blipFill>
        <p:spPr>
          <a:xfrm>
            <a:off x="6300720" y="189000"/>
            <a:ext cx="2505240" cy="327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токарь1"/>
          <p:cNvPicPr/>
          <p:nvPr/>
        </p:nvPicPr>
        <p:blipFill>
          <a:blip r:embed="rId5"/>
          <a:stretch/>
        </p:blipFill>
        <p:spPr>
          <a:xfrm>
            <a:off x="108000" y="3789360"/>
            <a:ext cx="3598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фессии типа «Человек-человек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педагоги, врачи, продавцы, экскурсоводы, библиотекари, корреспонденты, милиционеры, юристы, официанты, парикмахеры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J030125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248520" y="1989000"/>
            <a:ext cx="2895480" cy="32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фессии типа «Человек знаковая система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очтальоны, телеграфисты, стенографисты, корректоры, библиографы, лингвисты, экономисты, статисты, экономисты, кассиры, бухгалтеры, ученые-математики, ученые-историки, фармацевты, конструкторы, картографы, чертежники, программисты, операторы ЭВ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J0195384"/>
          <p:cNvPicPr/>
          <p:nvPr/>
        </p:nvPicPr>
        <p:blipFill>
          <a:blip r:embed="rId2"/>
          <a:stretch/>
        </p:blipFill>
        <p:spPr>
          <a:xfrm>
            <a:off x="6400800" y="3124080"/>
            <a:ext cx="243828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фессии типа «Человек-художественный образ»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архитекторы, художники, певцы, музыканты, композиторы, скульпторы, модельеры, дизайнеры, артисты театра и кино, оперы, балета, цирка, театра, киноведы, стилисты, визажис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фессии типа «Человек-природ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растениеводы, агрономы, животноводы, пчеловоды, собаководы, ветеринары, цветоводы, лесники, работники зоопарков, заповедников, ботанических садов и т. 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324480" y="380880"/>
            <a:ext cx="2133720" cy="2667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3657600" y="3505320"/>
            <a:ext cx="2178000" cy="3116160"/>
          </a:xfrm>
          <a:prstGeom prst="rect">
            <a:avLst/>
          </a:prstGeom>
          <a:ln w="0">
            <a:noFill/>
          </a:ln>
        </p:spPr>
      </p:pic>
      <p:sp>
        <p:nvSpPr>
          <p:cNvPr id="92" name="WordArt 7"/>
          <p:cNvSpPr txBox="1"/>
          <p:nvPr/>
        </p:nvSpPr>
        <p:spPr>
          <a:xfrm>
            <a:off x="395280" y="2421000"/>
            <a:ext cx="78343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БОР ПРОФЕССИИ – ЭТО СЕРЬЁЗ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«Начиная своё поприще, не теряй, о юноша, драгоценного времени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зьма Прут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ормула успешного выбора професс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429000" y="4038480"/>
            <a:ext cx="2519280" cy="1513080"/>
          </a:xfrm>
          <a:prstGeom prst="cube">
            <a:avLst>
              <a:gd name="adj" fmla="val 25000"/>
            </a:avLst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ОГ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533520" y="2057400"/>
            <a:ext cx="2590560" cy="1440000"/>
          </a:xfrm>
          <a:prstGeom prst="cube">
            <a:avLst>
              <a:gd name="adj" fmla="val 23194"/>
            </a:avLst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ХОЧ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88040" y="2612880"/>
            <a:ext cx="2141640" cy="106272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НАД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ормула успешного выбора професс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859480"/>
            <a:ext cx="7275240" cy="316080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ХОЧ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ессиональные интерес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 скло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ормула успешного выбора професс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933640"/>
            <a:ext cx="7201080" cy="308664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МОГ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яние здоров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ессиональная квалифик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ессиональные способ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ормула успешного выбора професс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933640"/>
            <a:ext cx="7201080" cy="308664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НАД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рос на    рынке тру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возможность трудоустрой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 группы ошибок, допускаемых при выборе професс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84760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нание самого себ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нание мира професс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нание правил выбора профес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Рисунок 22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286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фессии типа «Человек-техника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60199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троители, машинисты, пилоты, судоводители,  водители всех видов транспорта, слесари, столяры, инженеры, работники  буровых, горняки, металлурги, газосварщики, работники силикатной, текстильной, химической, деревообрабатывающей промышленности, часовщики, обувщик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J0240695"/>
          <p:cNvPicPr/>
          <p:nvPr/>
        </p:nvPicPr>
        <p:blipFill>
          <a:blip r:embed="rId2"/>
          <a:stretch/>
        </p:blipFill>
        <p:spPr>
          <a:xfrm>
            <a:off x="6324480" y="3809880"/>
            <a:ext cx="2664000" cy="2743200"/>
          </a:xfrm>
          <a:prstGeom prst="rect">
            <a:avLst/>
          </a:prstGeom>
          <a:ln w="648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2T21:39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