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F20-EBC0-49B5-9051-B467EABA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A09-8B9D-42B4-BD3B-3FAA8251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F0C-9DE3-4952-9A8C-927EBEBE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3E4-8BBF-4426-9B4B-B1D4C431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7B097-2428-44B8-8A43-753F4BA6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42E71-6AEE-43FF-B007-6DC2DCB8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A4549-9414-4E49-81B8-13EBC544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E8A60-067A-438D-B921-E8F062F3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8F909-4796-4780-8D2F-7A359F52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0E513-0C4A-4873-A674-F184A08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A510B-3AF5-46AD-AE4A-0D6CD2B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22F-5E1F-4F50-9D10-8A6F9BA6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BE917-23EF-4DBD-A8B6-34E7467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12B44-C921-4E8A-A998-F1DC1F58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7C252-C797-4DBA-98CC-38F8D743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0F9E2-DFE7-423F-AD5F-EB1AA130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628D2-7799-4948-AC03-AFB0EA29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3B6-B9E2-4717-8007-A67251C1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B33-F3E4-498A-B359-952E260D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9C2-9537-4B0C-A6A0-204728E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431-3411-4239-9306-F40E19A6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F6E-B55D-49AA-A8D8-414EC41A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219-B175-44D0-AD46-98A85E1E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4CC-EBB7-4E99-B38D-95A81EE7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9AC7-C52F-429D-8364-DCCB2F6B6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2436-44E7-4F97-B9FE-AA1FE183D9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9520" y="41148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воя профессиональная карь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doctor"/>
          <p:cNvPicPr/>
          <p:nvPr/>
        </p:nvPicPr>
        <p:blipFill>
          <a:blip r:embed="rId2"/>
          <a:stretch/>
        </p:blipFill>
        <p:spPr>
          <a:xfrm>
            <a:off x="611280" y="404640"/>
            <a:ext cx="1847880" cy="276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3429000" y="838080"/>
            <a:ext cx="2311560" cy="231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швея1"/>
          <p:cNvPicPr/>
          <p:nvPr/>
        </p:nvPicPr>
        <p:blipFill>
          <a:blip r:embed="rId4"/>
          <a:stretch/>
        </p:blipFill>
        <p:spPr>
          <a:xfrm>
            <a:off x="6300720" y="189000"/>
            <a:ext cx="2505240" cy="32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токарь1"/>
          <p:cNvPicPr/>
          <p:nvPr/>
        </p:nvPicPr>
        <p:blipFill>
          <a:blip r:embed="rId5"/>
          <a:stretch/>
        </p:blipFill>
        <p:spPr>
          <a:xfrm>
            <a:off x="108000" y="3789360"/>
            <a:ext cx="359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фессии типа «Человек-человек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педагоги, врачи, продавцы, экскурсоводы, библиотекари, корреспонденты, милиционеры, юристы, официанты, парикмахеры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J030125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248520" y="1989000"/>
            <a:ext cx="2895480" cy="32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фессии типа «Человек знаковая система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очтальоны, телеграфисты, стенографисты, корректоры, библиографы, лингвисты, экономисты, статисты, экономисты, кассиры, бухгалтеры, ученые-математики, ученые-историки, фармацевты, конструкторы, картографы, чертежники, программисты, операторы ЭВ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J0195384"/>
          <p:cNvPicPr/>
          <p:nvPr/>
        </p:nvPicPr>
        <p:blipFill>
          <a:blip r:embed="rId2"/>
          <a:stretch/>
        </p:blipFill>
        <p:spPr>
          <a:xfrm>
            <a:off x="6400800" y="3124080"/>
            <a:ext cx="243828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фессии типа «Человек-художественный образ»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архитекторы, художники, певцы, музыканты, композиторы, скульпторы, модельеры, дизайнеры, артисты театра и кино, оперы, балета, цирка, театра, киноведы, стилисты, визажис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фессии типа «Человек-природ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растениеводы, агрономы, животноводы, пчеловоды, собаководы, ветеринары, цветоводы, лесники, работники зоопарков, заповедников, ботанических садов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324480" y="380880"/>
            <a:ext cx="2133720" cy="2667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2178000" cy="311616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395280" y="2421000"/>
            <a:ext cx="78343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ОР ПРОФЕССИИ – ЭТО СЕРЬЁЗ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Начиная своё поприще, не теряй, о юноша, драгоценного времени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зьма Прут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ула успешного выбора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429000" y="4038480"/>
            <a:ext cx="2519280" cy="1513080"/>
          </a:xfrm>
          <a:prstGeom prst="cube">
            <a:avLst>
              <a:gd name="adj" fmla="val 25000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ОГ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533520" y="2057400"/>
            <a:ext cx="2590560" cy="1440000"/>
          </a:xfrm>
          <a:prstGeom prst="cube">
            <a:avLst>
              <a:gd name="adj" fmla="val 23194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ХОЧ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88040" y="2612880"/>
            <a:ext cx="2141640" cy="106272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НА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ула успешного выбора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859480"/>
            <a:ext cx="7275240" cy="316080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ХОЧ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ые интерес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 скло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ула успешного выбора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933640"/>
            <a:ext cx="7201080" cy="308664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МОГ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яние здоров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ая квалифик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фессиональные способ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ула успешного выбора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933640"/>
            <a:ext cx="7201080" cy="308664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НАДО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на    рынке тр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озможность трудоустр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 группы ошибок, допускаемых при выборе професс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8476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нание самого себ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нание мира професс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нание правил выбора профе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Рисунок 22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286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фессии типа «Человек-техника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60199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троители, машинисты, пилоты, судоводители,  водители всех видов транспорта, слесари, столяры, инженеры, работники  буровых, горняки, металлурги, газосварщики, работники силикатной, текстильной, химической, деревообрабатывающей промышленности, часовщики, обувщи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J0240695"/>
          <p:cNvPicPr/>
          <p:nvPr/>
        </p:nvPicPr>
        <p:blipFill>
          <a:blip r:embed="rId2"/>
          <a:stretch/>
        </p:blipFill>
        <p:spPr>
          <a:xfrm>
            <a:off x="6324480" y="3809880"/>
            <a:ext cx="2664000" cy="2743200"/>
          </a:xfrm>
          <a:prstGeom prst="rect">
            <a:avLst/>
          </a:prstGeom>
          <a:ln w="648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2T21:39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