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jpeg" ContentType="image/jpeg"/>
  <Override PartName="/ppt/media/image6.jpeg" ContentType="image/jpeg"/>
  <Override PartName="/ppt/media/image7.wmf" ContentType="image/x-wmf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D0817-175A-4ED6-AAD5-D722FDA75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995DA-2E16-4BC5-AFA4-A993509EC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3F955-EE7F-4782-89E6-7E00D754A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4B697-EB4C-4747-92EF-C7540066B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ECD31-9FE5-42C9-9940-2DEBB0A59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453C0-CD3B-48A5-B6A6-E22057EC7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EAA16-DDA7-4C97-9F1D-EB7327F75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9DC83-B3EF-4907-9F94-742A02A1A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A9CC1-C659-4FEF-A055-87BD0F65B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8B124-6D66-4E80-86A0-0A3300B72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4AA00-8C82-4F59-AD44-CF3A51E41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DA5E2-C44D-437C-B2C0-DCDC08E54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2C393-C66E-496B-A3A5-9EEF0DB7E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151A1-8E51-4B06-9901-64A9BAEED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DEF17-6F46-4417-9350-8857B5B28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948DD-0772-4960-8739-DEBD1F3DA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BCA20-3ED0-4721-B061-9892674A2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2ACD1-39F8-4A30-9349-0D132B135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7FD82-9E9E-4FD0-B423-0061F626E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D899C-DD84-43FC-AF0D-FF46EA209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1B271-D5E0-4A9E-8605-B6345B3A6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CA595-A1D3-4AA7-938D-D326AFF67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E56AA-3FC2-4BE0-AB18-FC02CB7C6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87133-0B28-4112-8767-01563A939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5DA31-5AD8-4B59-B3A1-ED9E8FC5EC37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AB2ED-0986-46FB-90D4-76889A0189A2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wmf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520" y="990720"/>
            <a:ext cx="39625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7000" spc="-1" strike="noStrike">
                <a:solidFill>
                  <a:srgbClr val="ff33cc"/>
                </a:solidFill>
                <a:latin typeface="Blackadder ITC"/>
              </a:rPr>
              <a:t>Агния </a:t>
            </a:r>
            <a:br>
              <a:rPr sz="7000"/>
            </a:br>
            <a:r>
              <a:rPr b="0" i="1" lang="ru-RU" sz="7000" spc="-1" strike="noStrike">
                <a:solidFill>
                  <a:srgbClr val="ff33cc"/>
                </a:solidFill>
                <a:latin typeface="Blackadder ITC"/>
              </a:rPr>
              <a:t>Львовна</a:t>
            </a:r>
            <a:br>
              <a:rPr sz="7000"/>
            </a:br>
            <a:r>
              <a:rPr b="0" i="1" lang="ru-RU" sz="7000" spc="-1" strike="noStrike">
                <a:solidFill>
                  <a:srgbClr val="ff33cc"/>
                </a:solidFill>
                <a:latin typeface="Blackadder ITC"/>
              </a:rPr>
              <a:t> Барто</a:t>
            </a:r>
            <a:endParaRPr b="0" lang="en-US" sz="7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4920" y="3885840"/>
            <a:ext cx="533376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Детская 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поэтесса 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4191120" y="380880"/>
            <a:ext cx="4770360" cy="6248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Проверь свою работу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Автор произведения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Жанр произведения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Название произведения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902960"/>
            <a:ext cx="2819520" cy="4227480"/>
          </a:xfrm>
          <a:prstGeom prst="rect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    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А. Барто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   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Весенняя                    гроза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4" name=""/>
          <p:cNvSpPr/>
          <p:nvPr/>
        </p:nvSpPr>
        <p:spPr>
          <a:xfrm>
            <a:off x="990720" y="3048120"/>
            <a:ext cx="1676160" cy="1371600"/>
          </a:xfrm>
          <a:prstGeom prst="triangle">
            <a:avLst>
              <a:gd name="adj" fmla="val 50000"/>
            </a:avLst>
          </a:prstGeom>
          <a:solidFill>
            <a:srgbClr val="339966"/>
          </a:soli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3581280" y="1905120"/>
            <a:ext cx="990720" cy="152280"/>
          </a:xfrm>
          <a:prstGeom prst="line">
            <a:avLst/>
          </a:prstGeom>
          <a:ln w="2844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3505320" y="5562360"/>
            <a:ext cx="1295280" cy="228600"/>
          </a:xfrm>
          <a:prstGeom prst="line">
            <a:avLst/>
          </a:prstGeom>
          <a:ln w="2844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3504960" y="3962520"/>
            <a:ext cx="1066680" cy="0"/>
          </a:xfrm>
          <a:prstGeom prst="line">
            <a:avLst/>
          </a:prstGeom>
          <a:ln w="2844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8" dur="20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1" dur="2000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4" dur="2000"/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1360" y="325080"/>
            <a:ext cx="807588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33cc"/>
                </a:solidFill>
                <a:latin typeface="Arial"/>
              </a:rPr>
              <a:t>Спиши текс в тетрадь:</a:t>
            </a:r>
            <a:br>
              <a:rPr sz="4800"/>
            </a:b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33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0" name=""/>
          <p:cNvSpPr/>
          <p:nvPr/>
        </p:nvSpPr>
        <p:spPr>
          <a:xfrm>
            <a:off x="685800" y="1371600"/>
            <a:ext cx="6934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33cc"/>
                </a:solidFill>
                <a:latin typeface="Verdana"/>
              </a:rPr>
              <a:t>     </a:t>
            </a:r>
            <a:r>
              <a:rPr b="0" i="1" lang="en-US" sz="4000" spc="-1" strike="noStrike">
                <a:solidFill>
                  <a:srgbClr val="ff33cc"/>
                </a:solidFill>
                <a:latin typeface="Verdana"/>
              </a:rPr>
              <a:t>Проверь написанное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85800" y="2514600"/>
            <a:ext cx="82296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Verdana"/>
              </a:rPr>
              <a:t>Всё громче, громче </a:t>
            </a:r>
            <a:r>
              <a:rPr b="0" lang="en-US" sz="44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44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44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44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44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44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44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4400" spc="-1" strike="noStrike">
                <a:solidFill>
                  <a:srgbClr val="eaeaea"/>
                </a:solidFill>
                <a:latin typeface="Verdana"/>
              </a:rPr>
              <a:t>слышится,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Verdana"/>
              </a:rPr>
              <a:t>Гремит через огонь: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Verdana"/>
              </a:rPr>
              <a:t>«Черёмуху, черёмуху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Verdana"/>
              </a:rPr>
              <a:t>Черёмуху не трогать!»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randombar(vertical)" transition="out">
                                      <p:cBhvr additive="repl">
                                        <p:cTn id="333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5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5" dur="5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49" dur="5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7" dur="5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361" dur="20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500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373" dur="2000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378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0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3" dur="5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6" dur="5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9" dur="500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Домашнее задание: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Выучить стихотворение А. Барто «Весенняя гроза»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Заполнить читательский дневник с иллюстрацией к стихотворению «Весенняя гроза»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Дополнительно: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Найти интересные факты из биографии поэтессы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Courier New"/>
              </a:rPr>
              <a:t>Известные с детства стихи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Verdana"/>
              </a:rPr>
              <a:t>               </a:t>
            </a:r>
            <a:r>
              <a:rPr b="1" lang="ru-RU" sz="2400" spc="-1" strike="noStrike">
                <a:solidFill>
                  <a:srgbClr val="3366ff"/>
                </a:solidFill>
                <a:latin typeface="Verdana"/>
              </a:rPr>
              <a:t>Мишка</a:t>
            </a:r>
            <a:r>
              <a:rPr b="0" lang="ru-RU" sz="2400" spc="-1" strike="noStrike">
                <a:solidFill>
                  <a:srgbClr val="3366ff"/>
                </a:solidFill>
                <a:latin typeface="Verdana"/>
              </a:rPr>
              <a:t> </a:t>
            </a:r>
            <a:br>
              <a:rPr sz="2400"/>
            </a:br>
            <a:r>
              <a:rPr b="0" lang="ru-RU" sz="2400" spc="-1" strike="noStrike">
                <a:solidFill>
                  <a:srgbClr val="ffff00"/>
                </a:solidFill>
                <a:latin typeface="Verdana"/>
              </a:rPr>
              <a:t>Уронили мишку на пол, </a:t>
            </a:r>
            <a:br>
              <a:rPr sz="2400"/>
            </a:br>
            <a:r>
              <a:rPr b="0" lang="ru-RU" sz="2400" spc="-1" strike="noStrike">
                <a:solidFill>
                  <a:srgbClr val="ffff00"/>
                </a:solidFill>
                <a:latin typeface="Verdana"/>
              </a:rPr>
              <a:t>Оторвали мишке лапу. </a:t>
            </a:r>
            <a:br>
              <a:rPr sz="2400"/>
            </a:br>
            <a:r>
              <a:rPr b="0" lang="ru-RU" sz="2400" spc="-1" strike="noStrike">
                <a:solidFill>
                  <a:srgbClr val="ffff00"/>
                </a:solidFill>
                <a:latin typeface="Verdana"/>
              </a:rPr>
              <a:t>Всё равно его не брошу, </a:t>
            </a:r>
            <a:br>
              <a:rPr sz="2400"/>
            </a:br>
            <a:r>
              <a:rPr b="0" lang="ru-RU" sz="2400" spc="-1" strike="noStrike">
                <a:solidFill>
                  <a:srgbClr val="ffff00"/>
                </a:solidFill>
                <a:latin typeface="Verdana"/>
              </a:rPr>
              <a:t>Потому что он хороший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12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12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12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Verdana"/>
              </a:rPr>
              <a:t>                                         </a:t>
            </a:r>
            <a:r>
              <a:rPr b="1" lang="ru-RU" sz="2800" spc="-1" strike="noStrike">
                <a:solidFill>
                  <a:srgbClr val="3366ff"/>
                </a:solidFill>
                <a:latin typeface="Verdana"/>
              </a:rPr>
              <a:t>Бычок</a:t>
            </a:r>
            <a:r>
              <a:rPr b="0" lang="ru-RU" sz="2800" spc="-1" strike="noStrike">
                <a:solidFill>
                  <a:srgbClr val="3366ff"/>
                </a:solidFill>
                <a:latin typeface="Verdana"/>
              </a:rPr>
              <a:t> </a:t>
            </a:r>
            <a:br>
              <a:rPr sz="2800"/>
            </a:b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                          </a:t>
            </a:r>
            <a:r>
              <a:rPr b="0" lang="ru-RU" sz="2800" spc="-1" strike="noStrike">
                <a:solidFill>
                  <a:srgbClr val="ffff00"/>
                </a:solidFill>
                <a:latin typeface="Verdana"/>
              </a:rPr>
              <a:t>Идёт бычок, качается, </a:t>
            </a:r>
            <a:br>
              <a:rPr sz="2800"/>
            </a:br>
            <a:r>
              <a:rPr b="0" lang="ru-RU" sz="2800" spc="-1" strike="noStrike">
                <a:solidFill>
                  <a:srgbClr val="ffff00"/>
                </a:solidFill>
                <a:latin typeface="Verdana"/>
              </a:rPr>
              <a:t>                          Вздыхает на ходу: </a:t>
            </a:r>
            <a:br>
              <a:rPr sz="2800"/>
            </a:br>
            <a:r>
              <a:rPr b="0" lang="ru-RU" sz="2800" spc="-1" strike="noStrike">
                <a:solidFill>
                  <a:srgbClr val="ffff00"/>
                </a:solidFill>
                <a:latin typeface="Verdana"/>
              </a:rPr>
              <a:t>                          — Ох, доска кончается, </a:t>
            </a:r>
            <a:br>
              <a:rPr sz="2800"/>
            </a:br>
            <a:r>
              <a:rPr b="0" lang="ru-R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00"/>
                </a:solidFill>
                <a:latin typeface="Verdana"/>
              </a:rPr>
              <a:t>Сейчас я упаду!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19" name="" descr="Портрет Старого  Друга из Детства, Мягкая Игрушка, Мишка, (c) Astroid / Фотобанк Лори"/>
          <p:cNvPicPr/>
          <p:nvPr/>
        </p:nvPicPr>
        <p:blipFill>
          <a:blip r:embed="rId1"/>
          <a:stretch/>
        </p:blipFill>
        <p:spPr>
          <a:xfrm>
            <a:off x="5638680" y="1752480"/>
            <a:ext cx="2435400" cy="18241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Мячик Бычок. Цвет: синий Игрушка антистресс"/>
          <p:cNvPicPr/>
          <p:nvPr/>
        </p:nvPicPr>
        <p:blipFill>
          <a:blip r:embed="rId2"/>
          <a:stretch/>
        </p:blipFill>
        <p:spPr>
          <a:xfrm>
            <a:off x="762120" y="3505320"/>
            <a:ext cx="2819160" cy="2819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Courier New"/>
              </a:rPr>
              <a:t>Известные с детства стихи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1" lang="ru-RU" sz="24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1" lang="ru-RU" sz="24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1" lang="ru-RU" sz="2400" spc="-1" strike="noStrike">
                <a:solidFill>
                  <a:srgbClr val="ff0066"/>
                </a:solidFill>
                <a:latin typeface="Verdana"/>
              </a:rPr>
              <a:t>Слон</a:t>
            </a:r>
            <a:r>
              <a:rPr b="0" lang="ru-RU" sz="2400" spc="-1" strike="noStrike">
                <a:solidFill>
                  <a:srgbClr val="ff0066"/>
                </a:solidFill>
                <a:latin typeface="Verdana"/>
              </a:rPr>
              <a:t> </a:t>
            </a:r>
            <a:br>
              <a:rPr sz="2400"/>
            </a:br>
            <a:r>
              <a:rPr b="0" lang="ru-RU" sz="2400" spc="-1" strike="noStrike">
                <a:solidFill>
                  <a:srgbClr val="ffff00"/>
                </a:solidFill>
                <a:latin typeface="Verdana"/>
              </a:rPr>
              <a:t>Спать пора! Уснул бычок, </a:t>
            </a:r>
            <a:br>
              <a:rPr sz="2400"/>
            </a:br>
            <a:r>
              <a:rPr b="0" lang="ru-RU" sz="2400" spc="-1" strike="noStrike">
                <a:solidFill>
                  <a:srgbClr val="ffff00"/>
                </a:solidFill>
                <a:latin typeface="Verdana"/>
              </a:rPr>
              <a:t>Лёг в коробку на бочок. </a:t>
            </a:r>
            <a:br>
              <a:rPr sz="2400"/>
            </a:br>
            <a:r>
              <a:rPr b="0" lang="ru-RU" sz="2400" spc="-1" strike="noStrike">
                <a:solidFill>
                  <a:srgbClr val="ffff00"/>
                </a:solidFill>
                <a:latin typeface="Verdana"/>
              </a:rPr>
              <a:t>Сонный мишка лёг в кровать, </a:t>
            </a:r>
            <a:br>
              <a:rPr sz="2400"/>
            </a:br>
            <a:r>
              <a:rPr b="0" lang="ru-RU" sz="2400" spc="-1" strike="noStrike">
                <a:solidFill>
                  <a:srgbClr val="ffff00"/>
                </a:solidFill>
                <a:latin typeface="Verdana"/>
              </a:rPr>
              <a:t>Только слон не хочет спать. </a:t>
            </a:r>
            <a:br>
              <a:rPr sz="2400"/>
            </a:br>
            <a:r>
              <a:rPr b="0" lang="ru-RU" sz="2400" spc="-1" strike="noStrike">
                <a:solidFill>
                  <a:srgbClr val="ffff00"/>
                </a:solidFill>
                <a:latin typeface="Verdana"/>
              </a:rPr>
              <a:t>Головой кивает слон, </a:t>
            </a:r>
            <a:br>
              <a:rPr sz="2400"/>
            </a:br>
            <a:r>
              <a:rPr b="0" lang="ru-RU" sz="2400" spc="-1" strike="noStrike">
                <a:solidFill>
                  <a:srgbClr val="ffff00"/>
                </a:solidFill>
                <a:latin typeface="Verdana"/>
              </a:rPr>
              <a:t>Он слонихе шлёт поклон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1" lang="ru-RU" sz="2400" spc="-1" strike="noStrike">
                <a:solidFill>
                  <a:srgbClr val="ff33cc"/>
                </a:solidFill>
                <a:latin typeface="Verdana"/>
              </a:rPr>
              <a:t>Лошадка</a:t>
            </a:r>
            <a:r>
              <a:rPr b="0" lang="ru-RU" sz="2400" spc="-1" strike="noStrike">
                <a:solidFill>
                  <a:srgbClr val="ff33cc"/>
                </a:solidFill>
                <a:latin typeface="Verdana"/>
              </a:rPr>
              <a:t> </a:t>
            </a:r>
            <a:br>
              <a:rPr sz="2400"/>
            </a:b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      </a:t>
            </a:r>
            <a:r>
              <a:rPr b="0" lang="ru-RU" sz="2400" spc="-1" strike="noStrike">
                <a:solidFill>
                  <a:srgbClr val="ffff00"/>
                </a:solidFill>
                <a:latin typeface="Verdana"/>
              </a:rPr>
              <a:t>Я люблю свою лошадку, </a:t>
            </a:r>
            <a:br>
              <a:rPr sz="2400"/>
            </a:br>
            <a:r>
              <a:rPr b="0" lang="ru-RU" sz="2400" spc="-1" strike="noStrike">
                <a:solidFill>
                  <a:srgbClr val="ffff00"/>
                </a:solidFill>
                <a:latin typeface="Verdana"/>
              </a:rPr>
              <a:t>                             Причешу ей шёрстку гладко, </a:t>
            </a:r>
            <a:br>
              <a:rPr sz="2400"/>
            </a:br>
            <a:r>
              <a:rPr b="0" lang="ru-RU" sz="2400" spc="-1" strike="noStrike">
                <a:solidFill>
                  <a:srgbClr val="ffff00"/>
                </a:solidFill>
                <a:latin typeface="Verdana"/>
              </a:rPr>
              <a:t>                             Гребешком приглажу хвостик </a:t>
            </a:r>
            <a:br>
              <a:rPr sz="2400"/>
            </a:br>
            <a:r>
              <a:rPr b="0" lang="ru-RU" sz="2400" spc="-1" strike="noStrike">
                <a:solidFill>
                  <a:srgbClr val="ffff00"/>
                </a:solidFill>
                <a:latin typeface="Verdana"/>
              </a:rPr>
              <a:t>                             И верхом поеду в гости.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3" name="" descr="Игра лошади №5 (c) Алексия Хрущева / Фотобанк Лори"/>
          <p:cNvPicPr/>
          <p:nvPr/>
        </p:nvPicPr>
        <p:blipFill>
          <a:blip r:embed="rId2"/>
          <a:stretch/>
        </p:blipFill>
        <p:spPr>
          <a:xfrm>
            <a:off x="533520" y="4495680"/>
            <a:ext cx="2895480" cy="216864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6324480" y="1523880"/>
            <a:ext cx="2438640" cy="2438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Courier New"/>
              </a:rPr>
              <a:t>Известные с детства стихи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1" lang="ru-RU" sz="24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1" lang="ru-RU" sz="24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1" lang="ru-RU" sz="2400" spc="-1" strike="noStrike">
                <a:solidFill>
                  <a:srgbClr val="ff33cc"/>
                </a:solidFill>
                <a:latin typeface="Verdana"/>
              </a:rPr>
              <a:t>Грузовик</a:t>
            </a:r>
            <a:r>
              <a:rPr b="0" lang="ru-RU" sz="2400" spc="-1" strike="noStrike">
                <a:solidFill>
                  <a:srgbClr val="ff33cc"/>
                </a:solidFill>
                <a:latin typeface="Verdana"/>
              </a:rPr>
              <a:t> </a:t>
            </a:r>
            <a:br>
              <a:rPr sz="2400"/>
            </a:br>
            <a:r>
              <a:rPr b="0" lang="ru-RU" sz="2400" spc="-1" strike="noStrike">
                <a:solidFill>
                  <a:srgbClr val="ffff00"/>
                </a:solidFill>
                <a:latin typeface="Verdana"/>
              </a:rPr>
              <a:t>Нет, напрасно мы решили </a:t>
            </a:r>
            <a:br>
              <a:rPr sz="2400"/>
            </a:br>
            <a:r>
              <a:rPr b="0" lang="ru-RU" sz="2400" spc="-1" strike="noStrike">
                <a:solidFill>
                  <a:srgbClr val="ffff00"/>
                </a:solidFill>
                <a:latin typeface="Verdana"/>
              </a:rPr>
              <a:t>Прокатить кота в машине: </a:t>
            </a:r>
            <a:br>
              <a:rPr sz="2400"/>
            </a:br>
            <a:r>
              <a:rPr b="0" lang="ru-RU" sz="2400" spc="-1" strike="noStrike">
                <a:solidFill>
                  <a:srgbClr val="ffff00"/>
                </a:solidFill>
                <a:latin typeface="Verdana"/>
              </a:rPr>
              <a:t>Кот кататься не привык — </a:t>
            </a:r>
            <a:br>
              <a:rPr sz="2400"/>
            </a:br>
            <a:r>
              <a:rPr b="0" lang="ru-RU" sz="2400" spc="-1" strike="noStrike">
                <a:solidFill>
                  <a:srgbClr val="ffff00"/>
                </a:solidFill>
                <a:latin typeface="Verdana"/>
              </a:rPr>
              <a:t>Опрокинул грузовик.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1" lang="ru-RU" sz="2400" spc="-1" strike="noStrike">
                <a:solidFill>
                  <a:srgbClr val="ff33cc"/>
                </a:solidFill>
                <a:latin typeface="Verdana"/>
              </a:rPr>
              <a:t>Мячик</a:t>
            </a:r>
            <a:r>
              <a:rPr b="0" lang="ru-RU" sz="2400" spc="-1" strike="noStrike">
                <a:solidFill>
                  <a:srgbClr val="ff33cc"/>
                </a:solidFill>
                <a:latin typeface="Verdana"/>
              </a:rPr>
              <a:t> </a:t>
            </a:r>
            <a:br>
              <a:rPr sz="2400"/>
            </a:b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     Наша Таня громко плачет: </a:t>
            </a:r>
            <a:br>
              <a:rPr sz="2400"/>
            </a:b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     Уронила в речку мячик. </a:t>
            </a:r>
            <a:br>
              <a:rPr sz="2400"/>
            </a:b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     — Тише, Танечка, не плачь: </a:t>
            </a:r>
            <a:br>
              <a:rPr sz="2400"/>
            </a:b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     Не утонет в речке мяч 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762120" y="4419720"/>
            <a:ext cx="2209680" cy="182088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5562720" y="1371600"/>
            <a:ext cx="3352680" cy="2514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5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Courier New"/>
              </a:rPr>
              <a:t>Известные с детства стихи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55627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ff33cc"/>
                </a:solidFill>
                <a:latin typeface="Verdana"/>
              </a:rPr>
              <a:t>Зайка</a:t>
            </a:r>
            <a:r>
              <a:rPr b="0" lang="en-US" sz="2800" spc="-1" strike="noStrike">
                <a:solidFill>
                  <a:srgbClr val="ff33cc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Зайку бросила хозяйка —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Под дождём остался зайка;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Со скамейки слезть не смог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Весь до ниточки промок.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5638680" y="3276720"/>
            <a:ext cx="3314880" cy="3314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676520" y="457200"/>
            <a:ext cx="57974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Весенняя гроза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763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Черёмуха, черёмуха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Сначала он не полный,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В овраге расцвела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Не полный подал голос,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Черёмуха, черёмуха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Потом от жёлтых молнии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Стоит белым – бела.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Всё небо раскололось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Ходили за черёмухой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Всё громче, громче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Девчонки вчетвером.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слышится,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Да оборвать черёмуху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Гремит через огонь: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Им не позволил гром.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«Черёмуху, черёмуху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Черёмуху не трогать!»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1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6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9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5" dur="5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8" dur="500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1" dur="500"/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4" dur="500"/>
                                        <p:tgtEl>
                                          <p:spTgt spid="1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7" dur="500"/>
                                        <p:tgtEl>
                                          <p:spTgt spid="1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0" dur="500"/>
                                        <p:tgtEl>
                                          <p:spTgt spid="13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Задание в рабочей тетради: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4000"/>
            </a:b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Прочитай. 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Какие слова повторяются? Подчеркни</a:t>
            </a:r>
            <a:r>
              <a:rPr b="0" lang="en-US" sz="3200" spc="-1" strike="noStrike">
                <a:solidFill>
                  <a:srgbClr val="339966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7720" y="2666880"/>
            <a:ext cx="769644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Verdana"/>
              </a:rPr>
              <a:t>Черёмуха, черёмуха</a:t>
            </a:r>
            <a:r>
              <a:rPr b="0" lang="en-US" sz="44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44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44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Verdana"/>
              </a:rPr>
              <a:t>В овраге расцвела</a:t>
            </a:r>
            <a:r>
              <a:rPr b="0" lang="en-US" sz="44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4400" spc="-1" strike="noStrike">
                <a:solidFill>
                  <a:srgbClr val="eaeaea"/>
                </a:solidFill>
                <a:latin typeface="Verdana"/>
              </a:rPr>
              <a:t>	</a:t>
            </a: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Verdana"/>
              </a:rPr>
              <a:t>Черёмуха, черёмуха</a:t>
            </a:r>
            <a:r>
              <a:rPr b="0" lang="en-US" sz="44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4400" spc="-1" strike="noStrike">
                <a:solidFill>
                  <a:srgbClr val="eaeaea"/>
                </a:solidFill>
                <a:latin typeface="Verdana"/>
              </a:rPr>
              <a:t>	</a:t>
            </a: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Verdana"/>
              </a:rPr>
              <a:t>Стоит белым – бела.</a:t>
            </a: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30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34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4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Задание в рабочей тетради: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4000"/>
            </a:b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Прочитай предложения.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Раздели слова на слоги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2320"/>
            <a:ext cx="8229600" cy="37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aeaea"/>
                </a:solidFill>
                <a:latin typeface="Verdana"/>
              </a:rPr>
              <a:t>Черемуха цветёт.</a:t>
            </a:r>
            <a:endParaRPr b="0" lang="en-US" sz="6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aeaea"/>
                </a:solidFill>
                <a:latin typeface="Verdana"/>
              </a:rPr>
              <a:t>Гром гремит.</a:t>
            </a:r>
            <a:endParaRPr b="0" lang="en-US" sz="6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aeaea"/>
                </a:solidFill>
                <a:latin typeface="Verdana"/>
              </a:rPr>
              <a:t>Дождь идет.</a:t>
            </a:r>
            <a:endParaRPr b="0" lang="en-US" sz="6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1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6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50" dur="2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6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60" dur="20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6" dur="5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70" dur="20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Задание в читательском дневнике: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4000"/>
            </a:br>
            <a:r>
              <a:rPr b="0" i="1" lang="en-US" sz="3200" spc="-1" strike="noStrike">
                <a:solidFill>
                  <a:srgbClr val="ffff00"/>
                </a:solidFill>
                <a:latin typeface="Arial"/>
              </a:rPr>
              <a:t>Выполни обложку произведения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0" name=""/>
          <p:cNvSpPr/>
          <p:nvPr/>
        </p:nvSpPr>
        <p:spPr>
          <a:xfrm>
            <a:off x="2819520" y="1981080"/>
            <a:ext cx="3124080" cy="4648320"/>
          </a:xfrm>
          <a:prstGeom prst="rect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?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?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?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4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ирина</cp:lastModifiedBy>
  <dcterms:modified xsi:type="dcterms:W3CDTF">2011-02-12T12:01:24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