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BCC-19C5-4358-A11F-CF5C9738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FDC1-EDB7-4662-8773-EC7268E5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058-5E0E-46AE-BCC8-18FDE629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659E-17A9-4E3A-9FF3-9362463F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01D8-C0A0-4C36-B4BD-30585CCD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C33C-3E07-4777-9350-1C276F25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AB3B-018B-4B24-945B-1AE0C06E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56E1-3CC1-4577-BF48-3ECB4456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4F6C-CA71-4A85-A911-54F00BE3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DAD8-CC59-4E0A-AA86-FE75DBA9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2191-AC70-41B5-86F1-B49B1690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FB7-55DC-4DAB-9D8E-839194D1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76B1-8524-4CF7-B5FC-397147C2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6FCA-C733-4B89-A69C-3D97A7DF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1893-2983-445D-9B80-144B46A5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E737-FDA5-476D-A7F8-EB314818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8742-30EA-43B1-874D-68E6AC83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8AB-DEE4-4A75-AEA8-3093F966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6CB9-DAF3-4029-80B4-EBA13130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01D1-DEBB-451B-982E-8A2F1686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9370-06A8-4B71-BC00-FD5A8257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8E91-1117-4037-A0A9-B1821F18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DC7-8911-4815-845C-A7136FC9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CD0-64D7-48D5-B46D-0B482E84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A66F-4DE7-472B-A61A-FFE4065C6F8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3D89-5C6D-46AD-92C8-3E0148734C7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Активные методы обуч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786200" y="3857400"/>
            <a:ext cx="401328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Услышишь -забудешь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Увидишь –запомнишь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Построишь –поймеш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Конфуц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воды «за»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ерактив практически исключает доминирование как одного выступающего, так и одного мнения над други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ащиеся учатся критически мыслить, решать сложные проблемы на основе анализа обстоятельств и соответствующей информации, взвешивать альтернативные мнения, принимать продуманные решения, участвовать в дискуссиях, общаться с другими людь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воды «за»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ктивные методы развивают коммуникативные умения и навыки, помогают установлению эмоциональных контактов между учащимися, обеспечивают воспитательную задачу, поскольку приучают работать в команде, прислушиваться к мнению своих товарище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ерактив снимает нервную нагрузку школьников, дает возможность менять формы их деятельности, переключать внимание на узловые вопросы темы занят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ктуальность проблем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71360" y="24285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 основу понятия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компетентный человек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зята способность индивидуума брать на себя ответственность при решении возникающих проблем, проявлять самостоятельность в постановке задач и их решений, обучаться на протяжении всей жизн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чевидно, что переход от обучения «знаниям, умениям, навыкам» к компетентностному подходу потребует изменения всех составляющих учебного процесса: содержания, способов контроля и методов обучения. Одно из возможных направлений изменения методов обучения при переходе к компетентностному подходу – использование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активных методов обучения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учебном процесс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ктивные методы обучения – что это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71476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Активные методы обучения и воспитания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те, которые позволяют «учащимся в более короткие сроки и с меньшими усилиями овладеть необходимыми знаниями и умениями» за счет сознательного «воспитания способностей учащегося» и сознательного «формирования у них необходимых деятельностей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зультативнос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ключение активных методов в учебный процесс активизирует познавательную активность учащихся, усиливает их интерес и мотивацию, развивает способность к самостоятельному обучению; обеспечивает в максимально возможную связь между учащимся и преподавателям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сследователи активных методов обучения отмечают, что если при лекционной подаче материала усваивается не более 20% информации, то в деловой игре – до 90%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Имитационны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Игровы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   Деловые игры (исследовательская, учебная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гровое проектировани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олевая игр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ргдеятельностные игр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еигровы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   Анализ конкретных ситуац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ренин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Неимитационны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блемные лекц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блемные семинар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ематические дискусс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озговая ата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руглый сто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дагогические игровые упражне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ажировк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лассфикация методов активного обучения (по М. Новик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меч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57160" y="24285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3амечание 1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успешного проведения активных методов обучения надо иметь специальную «тренерскую» подготовку, но, к счастью, уже существует достаточное количество методической литературы по этому вопрос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Замечание 2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Активные методы обучения в первую очередь следует применять для повышения учебной мотиваци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меч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5520" y="2499840"/>
            <a:ext cx="8358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Замечание 3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ктивные методы обучения следует также применять для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активизации познавательной активности учащихся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азвития способности к самостоятельному обучению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выработки навыков работы в коллективе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коррекции самооценки учащихся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формирования и развития коммуникативных навыков (навыков общения со сверстниками, и с учителями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9440" y="353520"/>
            <a:ext cx="7789320" cy="93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меч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2361960"/>
            <a:ext cx="76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Замечание 4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Активные методы обучения можно применять для достижения следующих дидактических целей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эффективное предъявление большого по объему теоретического материала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развитие навыков активного слушания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отработка изучаемого материала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развитие навыков принятия решения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эффективная проверка знаний, умений и навыков по тем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    </a:t>
            </a:r>
            <a:r>
              <a:rPr b="1" i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Замечание 5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Использование активных методов приводит к изменению системы контрол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воды «за»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еник чувствует свою успешность, что делает продуктивным сам процесс обуче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актически все учащиеся оказываются вовлеченными в процесс познания, они имеют возможность понимать и рефлектировать по поводу того, что они знают и думаю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тмосфера взаимной поддержки позволяет не только получать новое знание, но и развивает саму познавательную деятельность, переводит ее на более высокие формы кооперации и сотрудничеств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иля</cp:lastModifiedBy>
  <dcterms:modified xsi:type="dcterms:W3CDTF">2013-02-26T12:03:38Z</dcterms:modified>
  <cp:revision>17</cp:revision>
  <dc:subject/>
  <dc:title>PowerPoint Presentation</dc:title>
</cp:coreProperties>
</file>