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911-73DF-4973-A28F-C074D088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A55-0BE0-479A-ABCE-28B8A274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95C81-5E2E-4D24-BBF6-7C6BFE30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1427E-773E-41CA-84B9-55A94D8F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9A8D6-CB63-4068-BA63-B5AE63B0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CB982-1FAD-482A-9ACE-4BEC2448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01F69-7594-4A13-B648-9C0C86CA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1D580-F16C-4659-84E6-62D0B834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808F4-B56F-4A17-8BD5-5736CE2E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CAA3C-2A73-4275-9026-3E2BF752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68763-FD83-4478-9736-BD703B50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76DD14-8A1D-41FE-B05A-715E6004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330-D649-407F-897C-1F6AA9F5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1A69EC-94F4-4728-913B-734AFBEC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A2FC84-5B5C-4E4B-8BAD-EFAA4A53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30D3BB-0D61-4FCE-91DF-1B6F0C9A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5A768C-9C0A-4E9E-B8D4-6118BD7B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42FF2E-5CFF-442F-BC42-84C93412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2775ED-0249-4181-9DE4-8E6675D7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D8A317-5B4F-4B4C-91F6-6637870D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158251-83ED-48C2-951A-90D51CC9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96605B-BD93-4B43-801A-5D82EF7E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D7BED8-89E7-4F05-8340-D83971D8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408-025F-4BF1-84A9-8E917748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971873-F063-445E-A479-A68CE621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BE35-6F40-4BCE-A242-327A7E21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5C85-72E3-48C6-96A9-D6258A30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FCC5-45F1-4B4F-A135-FC256B08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0584-BEAE-475B-9584-EBA3679E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9769-CD05-4D22-AF86-09B538C5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FE00-C72D-424B-8997-8CC8EBB5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866A-487B-4D69-B9C2-0303EFA4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469-1C31-4D0B-AA03-03849CDB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E68C-8AC2-4E77-AD70-1FB43B87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4828-07AF-45A8-9183-5DE273F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7AC0-B4FC-4134-9A56-CDB2DFFC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5DCA-E4C7-4C1B-8A59-4BD55F3C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6FEA-61C7-4BBB-85D0-714BF3E1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676E3-DD17-47D0-8779-2E5D4826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B6618-E261-4DD9-9D0E-A69334E8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C5C52-FB6F-4BA9-AF11-4DB9B496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EF63C-3CE5-4CBA-A3A3-EB17033B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FD147-42F5-49AE-8C7F-A1AB267D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6EC9-D0D2-4657-AD04-77F1DCD6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183CA-0668-4561-A5B2-91C42903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315E6-6826-48ED-9CD0-EDB6E8EF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9311D-C0F7-4AA0-A80F-B3D1BCB7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2C7E-0666-4D10-9C15-6984B995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CC49-7AA9-4480-B542-FEBAA8F8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0FF9-65DE-4CEC-9017-A3F92AC1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88FB-8794-4F52-AAE4-3A06D58C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937F9-5C8D-40EB-B6EE-9F41BFD2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DB67-0ED1-47ED-AC08-9471848C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F7AA9-39FB-483C-BAB6-2A967EE3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FD9-9092-4938-BB08-6B5DBEC7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61328-898F-4E22-B886-4DD2ED4F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930C-5C18-427C-A163-B5B15325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4C1EF-C9DD-49AC-B88C-0D5FA545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7D2B7-5DDA-4964-AE9E-F0667423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0B6BE-4234-40D4-B990-7110E1B4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695D9-563F-473B-8103-C9D8C936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44C6-1C63-4909-A71A-1791753C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3A2DA-DD58-4A83-B0C6-3576E366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EB45-9CF8-4E5A-A263-DCAF866E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5247C-BBDB-4580-B2B0-8D7A5162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23C-6196-472F-A977-504A6AEB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87C79-F322-4C1B-AD4A-C9A30D27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DDBCB-D437-4F23-80F7-BBF42333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4C90A-173B-483B-AD0A-23E23FD0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BB5A0-F716-4F6F-A111-61B0F759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BA5D5-8120-4F43-96C3-58BBBC3E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9CEBF-2298-439F-BBF5-FF721D75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70765-5B95-412B-A09D-1E60250B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35715-A03E-4C2B-903F-A7AC2337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94F89-3D8B-48C0-9F91-D72F53C6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03566-B707-4D32-9062-783197A7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6DB-8793-40C9-9C18-1C6693FA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3B7DF-3E66-43F1-B647-1D1B2627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85F25-9A5A-4AD9-BE7D-787C191C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5F838-7771-4660-8A1F-E3407A07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5C5BA-5A94-4B08-BA45-1180E1E5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C04C9-8E0A-4E7E-8ABF-BC06E262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EBD98-1127-41D4-A144-3347E733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82990-2E1C-4B7C-AC7D-BF1847CD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7D8A9-7A8F-4AD2-A11C-A9A522CC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A6D74-7538-4671-B8A0-9D50B221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9DE96-A6D4-47DC-95A0-09DA73A5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7FB-6685-45C8-A5C5-6E1141DB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5CC55-69DE-47BC-BB56-D8B13E8B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1BF36-E7E0-4FEA-8455-8A9487DF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3ED1A-126F-4432-A81E-11835DDA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7F73B-1503-45F1-B06F-ADCA2F5C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9A00A-0CC0-47EA-949A-00407D64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25708-09C4-4586-9C5F-F6446C75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EFE1D-37B3-4348-9793-3F9F3031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BDA1E-C301-4FA1-8339-9553E5B7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CF9C7-F18D-4B94-904D-2D6BA841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14DBF-4C80-4D00-B997-1976EB67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731-F2C1-43A8-BB80-BBDE022A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29014-D488-40CE-8833-868ED97E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46099-E0AF-40E6-82BA-16061FE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456A0-4E8C-48B8-A521-5373034D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1C583-78A6-4E3C-BCAA-8F1A1E52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9D80E-35D6-4ED2-A9E7-6F8673E8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5090E-DB68-435D-B527-96FA6BA8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EFC5C-C01A-4809-B46D-70D818F9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7922B-5208-4E18-A2E0-61122ACA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E2A3D-0BE8-4916-AF6D-D201789E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720F-7DC5-4DBF-92A0-B1E545AE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77F-E29F-49D3-8041-5BB83699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523D3-52F2-4BD2-A5B6-EBC1C33D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CAD69-E830-459A-A542-21628F0D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58E75-6415-499B-8A6A-45D4877C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A4903-3133-4BA4-87B0-B8FC7162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FF355-6F99-4656-91A9-9ADEEB3E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044DA-F64B-46EC-9E14-92B5BDA3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A030A-E521-4DB2-B65A-C6F6A5DE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E7ED4-D8FB-4C3F-AD0D-7F0673E2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81A25-3192-4D5C-9C84-33C5D207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6ACB1-C694-4EB6-A3AC-DF94FFEA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9DFB-045C-4EBD-BB50-952C7622B7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DF68-0F55-4D4E-98EC-8AF8D729EE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36E3-2D9D-45D1-B2BD-48C08B9D9D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3584-F379-4F69-87E6-C1E3306799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64B6-FC20-48A4-A81B-84B2C8F4DA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DEB3-E6B0-4B57-859B-2157122F81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DC9D-122C-4609-938A-263548683A2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989A-DB11-4260-BB81-C8219919A6D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0C84-0C10-4297-8A7B-8DF7ECA70F3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DD2E-8A02-4EE8-9971-5FCD310C94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Схема 2" descr=""/>
          <p:cNvPicPr/>
          <p:nvPr/>
        </p:nvPicPr>
        <p:blipFill>
          <a:blip r:embed="rId1"/>
          <a:stretch/>
        </p:blipFill>
        <p:spPr>
          <a:xfrm>
            <a:off x="676440" y="426960"/>
            <a:ext cx="7791120" cy="33958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2987640" y="3860280"/>
            <a:ext cx="56880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Автор: Чемезова Наталья Викторовна, учитель русского языка и литератур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МБОУ Заларинская средняя общеобразовательная школа №2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82280" cy="15429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иёмы диалога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дописыва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досказыва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составление киносценариев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дискусси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письмо геро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967960" cy="15429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иёмы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инсерт (активное чтение или слушание)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дневни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бортовые журналы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проблемные вопросы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составление таблиц, кластеры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эсс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82280" cy="15429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итуация незна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крытые задания (ваша версия происхождения алфавита, сочините пословицу, сформулируйте грамматическое правило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истема занятий: эвристические беседы, деловые игры, конференции, защита творческих работ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82280" cy="15429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явление одарённос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ратегия обучения (ускорение и обогащение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Ускорени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– раннее поступление в школу, «перепрыгивание» через класс, профильные классы; 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обогащени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– мини-курсы, кружки, факультативы, индивидуализация, исследовательское обучение, лагерные сбор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4100" spc="-1" strike="noStrike">
                <a:solidFill>
                  <a:srgbClr val="4e3b30"/>
                </a:solidFill>
                <a:latin typeface="Franklin Gothic Book"/>
              </a:rPr>
              <a:t>Технологический подход показывает выражение достигнутого уровня развития, внедрение научных достижений, профессионализм.</a:t>
            </a:r>
            <a:endParaRPr b="0" lang="en-US" sz="4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Схема 5" descr=""/>
          <p:cNvPicPr/>
          <p:nvPr/>
        </p:nvPicPr>
        <p:blipFill>
          <a:blip r:embed="rId1"/>
          <a:stretch/>
        </p:blipFill>
        <p:spPr>
          <a:xfrm>
            <a:off x="444600" y="1255680"/>
            <a:ext cx="8254800" cy="4632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258560" y="1484280"/>
            <a:ext cx="73659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«Педагогическая технология -средство учебного процесса, которое включает всё: от мела и классной доски до розетки на стене»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Б.Лихачё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5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53" name="Объект 1" descr=""/>
          <p:cNvPicPr/>
          <p:nvPr/>
        </p:nvPicPr>
        <p:blipFill>
          <a:blip r:embed="rId2"/>
          <a:stretch/>
        </p:blipFill>
        <p:spPr>
          <a:xfrm>
            <a:off x="304920" y="1530360"/>
            <a:ext cx="8686800" cy="4578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ровень примен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методологический подход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едущий фактор развития лич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характер содержа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д педагогической де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ип управл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методы и способы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рганизационные формы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дход к ребё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обучающие, воспитательные и развивающ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технологии педагогической поддержк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технологии, направленные на создание условий эффективной социализаци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управленческ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авторитарные – ученик есть «винтик»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свободное воспитание – ученик – субъект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дидактоцентрические (главный фактор – дидактические средства)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социоцентрические (улучшение социально-педагогических условий)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средо-ориентированные (развитие ребёнка через среду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классическое и традиционное обуче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система «малых групп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система «консультант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система «репетитор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компьютерное обуче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программное обуче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самоуправле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технологии административного управ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2009880"/>
            <a:ext cx="82296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спект методолог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ипоте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одель технолог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рансляция опы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Альтернативные педагогические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технологи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1:55:07Z</dcterms:created>
  <dc:creator>ЛЕША</dc:creator>
  <dc:description/>
  <dc:language>en-US</dc:language>
  <cp:lastModifiedBy>Admin</cp:lastModifiedBy>
  <dcterms:modified xsi:type="dcterms:W3CDTF">2013-02-26T08:29:26Z</dcterms:modified>
  <cp:revision>7</cp:revision>
  <dc:subject/>
  <dc:title>Альтернативные педагогические технологии в филологии</dc:title>
</cp:coreProperties>
</file>