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5.jpeg" ContentType="image/jpeg"/>
  <Override PartName="/ppt/media/image23.png" ContentType="image/png"/>
  <Override PartName="/ppt/media/image22.png" ContentType="image/png"/>
  <Override PartName="/ppt/media/image19.gif" ContentType="image/gif"/>
  <Override PartName="/ppt/media/image10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226-37E1-4F26-99CF-2804CB49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C9F-CD17-400F-8EBF-9A71B46E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817C8-C553-411C-A1F8-A91B4EBA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2B982-AD56-4042-B6EB-C67536A0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9D11C-C6D9-4FA9-B8D9-A6E1201F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EDFBF-BFE0-4C73-A29C-C11A58F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1CBA2-A353-4C9C-A93A-CCC42EF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CE5E2-2C56-48B1-9126-241C40C1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41419-EC80-4D2D-8AB7-D5D4889D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D5364-76E6-4B21-89DD-5EDA528F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01601-96A0-4A2C-AFC7-1654D16D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8CC-F21A-40B3-BC86-3C6AF841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7C1-5642-4136-A819-73154EC2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4084-1EBF-4ABE-A7D3-BF978F4D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6AF0-E8BB-45A6-93FC-F7E348D3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8CBF-D448-40CB-9A98-B98FD534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CA88-47CE-4035-9396-FFA1C07F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B612-142E-493D-B7BB-90036AE4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78AD-CD45-43CA-A312-D18CBB27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5B4B-2EA4-4E68-8E2C-A26294FE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097-BC0F-4613-B0B0-738A3564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9D0E-5F44-4888-A970-205D5529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83F8-526B-4030-8419-B7EB3E84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774D-7204-449C-B710-D2BAB642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68B8-92D5-46D8-A838-9373ED3D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D030-425D-4C8B-BD7C-9924E5BC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87FA-C657-437B-A0E4-5FE43D43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933B-A738-4D57-9E88-9CF922F1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8302-C0DE-4353-832D-80CECDA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CDA2-73A5-4EC6-B670-1EF27A82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066F-0BA7-44A8-9536-98C80C2C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CCD-F304-4245-8900-6078EC7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3835-4489-4680-8EAF-A5EAB26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FFE3-A8C0-4E44-AB80-B668104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25A05-00A0-4228-AC03-5D071AA2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B28D-16A2-43F6-9E71-40A514E9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B650-83C2-4E72-A145-6EE988D4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AC1B-2432-417C-BEF3-521C04E5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0917-253C-4AF3-945F-15272E08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E83B-3F71-4910-9DF3-D2AE3EEC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BCF65-6DDE-4F06-A1F1-F0A91149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BF39-3824-42C8-B86E-FA43CCEA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98C-04EE-4BF5-938C-A821A377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1D0AC-A188-4C49-8C9A-C6D53E80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EF33F-1C03-483B-AE4F-1B625E32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04CF-A50D-45A7-BB32-849B2EA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F7D4-ED3A-4020-92D9-8AC963FB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668B-A461-4234-9A8B-C626EA99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545A7-F58C-49A3-BF5A-45CBAF60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954C-3C13-45BC-9C39-F012B1E5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4542-BC75-4D53-99D4-D464D409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A2AD-2605-4743-A589-580AA4EB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701F-481B-432C-8119-3E4F9176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8CA-0888-4F8C-8DDA-AE6A0D6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7EFAE-E6F9-43BE-839F-36B6B0D6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9FE2F-FE34-4539-8295-96A73481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16CB7-010D-4D97-8FAB-24A1ED50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5522A-F4F6-40E3-9E4B-ACEA7DC2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97607-15AB-4786-AAE8-92F5FB25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6BAA4-CAE5-4A68-9130-B847C59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47AC-A14C-4FB0-92BC-1489DBA3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5C1E-6E45-425B-AC96-E4AFF7D8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00FC8-50E9-4AF8-B93D-300E6450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DDA33-88DF-4C5B-AEC8-C69C7D25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870-71DA-40B9-8FE6-337087CC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32BA-CC71-43D4-A6A4-4F9F15E3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62C5B-2098-4E35-9BCE-6ED4CDF2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2E28-CC25-404A-A7C3-FA317F14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A6A4C-B165-4D7E-8DFF-15A30B10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709BE-C838-45CC-B243-D0CCD110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4345-3650-46B3-8CA4-686FC12C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83088-1407-4077-A130-CE721C6E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D678-5923-4510-BC9D-0FD27CC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E68C0-0806-4CAE-9568-2956FDEF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BFCA9-C224-4FBD-AD94-D41782B4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77B-666B-4835-B90B-2C723BE3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DC038-99BC-4EF2-BAC4-0B216CB2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5BD77-64AC-45D3-9A1E-7F718378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5BD2-F58F-4AED-8954-C6344C93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CB55C-9C94-47AE-AD62-8429978E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57EA0-3BBF-4DBF-BF17-8C326A53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E0BE-D32F-4603-82AD-C9DC6FA3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CDEE1-073A-4ADE-A0EA-72DBB5F4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4241F-6A2D-4BA3-9309-C88659CF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0A89-1FC3-44BE-937A-52E30D3D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D5E6-0BB3-4329-A244-64BD3F1A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66D-6B8D-4B29-88DF-51BE5E4F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99F21-7D5F-4473-9FC0-9D00E46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BE86E-37B1-4C97-886D-6B922C6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61A2-5C88-4612-9BC8-CDD18E9F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59BC5-AA45-4805-A4DD-41CB9EC2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D2735-21FC-4122-9196-6962AF7B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FCCA1-5981-4C6E-916E-FAF42D6D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B1872-2583-4C8A-A076-D2505B2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310E1-966D-4708-8C1D-5849B660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F99EF-EEA3-45E6-9D1B-51463C43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0A57D-9EDE-484F-B33D-6F113005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752-D7E3-415E-A4DB-9975C39C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FB4DC-E7FF-4EE5-9091-55684F4C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F4063-21F7-4EEE-AFD3-C6A4DDB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BC346-4EC9-43CC-AAED-415B43E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E7704-ADFE-4200-9A72-073044D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29036-D739-41D4-B443-2570DE60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95456-6A05-4ED8-85DA-35D67045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C9ACE-78BD-43E8-BF2B-8FFC74CC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55442-36BB-4961-99C1-6C54FF4C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2EE6D-8E9F-4B82-9425-0CBB40BC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653CD-78A5-4B81-825B-38BB27B2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921F-D2F1-41A2-A18A-68750C9C2A87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A7FD-8A4F-4286-955D-F7E1A6970652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F20C-03DF-4D2B-81DA-37D72ED72327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446F-D728-46CD-BB7E-96ABE2CCA9A1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9843-AFCD-4132-AC62-A3E6F3E3D38D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41F-7F0B-4FC7-9534-4B5EC262EE31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9FAD-5E75-4302-BCF3-1AD45BA34B72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79B1-CE80-42FC-A8FD-E96AEDB4753E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B0CB-4418-4941-A3D7-8878FA41B89A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kagaya3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1000080" y="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                </a:t>
            </a: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Быть  взрослым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04de"/>
                </a:solidFill>
                <a:latin typeface="Arial"/>
              </a:rPr>
              <a:t>Параграф 3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04de"/>
                </a:solidFill>
                <a:latin typeface="Arial"/>
              </a:rPr>
              <a:t>Задание в печатной тетради № 3,6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317520" y="268200"/>
            <a:ext cx="8375760" cy="890640"/>
          </a:xfrm>
          <a:prstGeom prst="rect">
            <a:avLst/>
          </a:prstGeom>
          <a:ln w="0">
            <a:noFill/>
          </a:ln>
        </p:spPr>
      </p:pic>
      <p:grpSp>
        <p:nvGrpSpPr>
          <p:cNvPr id="402" name="Прямоугольник 2"/>
          <p:cNvGrpSpPr/>
          <p:nvPr/>
        </p:nvGrpSpPr>
        <p:grpSpPr>
          <a:xfrm>
            <a:off x="250920" y="1341360"/>
            <a:ext cx="3384000" cy="4998960"/>
            <a:chOff x="250920" y="1341360"/>
            <a:chExt cx="3384000" cy="4998960"/>
          </a:xfrm>
        </p:grpSpPr>
        <p:pic>
          <p:nvPicPr>
            <p:cNvPr id="403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3384000" cy="49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27040" y="1590480"/>
              <a:ext cx="2831760" cy="45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ОДРОСТКОВЫЙ ПЕРИОД- ПЕРИОД  ВЗРОСЛЕНИЯ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5" name="Стрелка вправо 3"/>
          <p:cNvSpPr/>
          <p:nvPr/>
        </p:nvSpPr>
        <p:spPr>
          <a:xfrm>
            <a:off x="3708360" y="34290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06" name="Овал 4"/>
          <p:cNvGrpSpPr/>
          <p:nvPr/>
        </p:nvGrpSpPr>
        <p:grpSpPr>
          <a:xfrm>
            <a:off x="4784760" y="1125360"/>
            <a:ext cx="4359240" cy="4790880"/>
            <a:chOff x="4784760" y="1125360"/>
            <a:chExt cx="4359240" cy="4790880"/>
          </a:xfrm>
        </p:grpSpPr>
        <p:pic>
          <p:nvPicPr>
            <p:cNvPr id="407" name="Овал 4" descr=""/>
            <p:cNvPicPr/>
            <p:nvPr/>
          </p:nvPicPr>
          <p:blipFill>
            <a:blip r:embed="rId4"/>
            <a:stretch/>
          </p:blipFill>
          <p:spPr>
            <a:xfrm>
              <a:off x="4784760" y="1125360"/>
              <a:ext cx="435924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5601960" y="2004840"/>
              <a:ext cx="272700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Р  ВЗРОСЛЫХ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103320" y="378000"/>
            <a:ext cx="5900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0" name="Прямоугольник 2"/>
          <p:cNvGrpSpPr/>
          <p:nvPr/>
        </p:nvGrpSpPr>
        <p:grpSpPr>
          <a:xfrm>
            <a:off x="0" y="1125360"/>
            <a:ext cx="8577360" cy="1927080"/>
            <a:chOff x="0" y="1125360"/>
            <a:chExt cx="8577360" cy="1927080"/>
          </a:xfrm>
        </p:grpSpPr>
        <p:pic>
          <p:nvPicPr>
            <p:cNvPr id="411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0" y="1125360"/>
              <a:ext cx="857736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52720" y="1416240"/>
              <a:ext cx="807228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СТРЕМЛЕНИЕ  ЗАНЯТЬ МЕСТ О В МИРЕ ВЗРОСЛЫХ ПРИНИМАЯ  ИХ ИДЕИ,  ИДЕАЛЫ, И  СПОСОБ  САМОВЫРАЖЕНИЯ.. ПОСТЕПЕННО  ОНИ  СЧИТАЮТ  СЕБЯ РАВНЫМИ  ВЗРОСЛЫМ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3" name="Прямоугольник 3"/>
          <p:cNvGrpSpPr/>
          <p:nvPr/>
        </p:nvGrpSpPr>
        <p:grpSpPr>
          <a:xfrm>
            <a:off x="176040" y="2895480"/>
            <a:ext cx="8504280" cy="1785960"/>
            <a:chOff x="176040" y="2895480"/>
            <a:chExt cx="8504280" cy="1785960"/>
          </a:xfrm>
        </p:grpSpPr>
        <p:pic>
          <p:nvPicPr>
            <p:cNvPr id="414" name="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176040" y="2895480"/>
              <a:ext cx="85042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28760" y="3143160"/>
              <a:ext cx="8001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ПОДРОСТКИ  ВЕДУТ  ВЗРОСЛЫЕ  РАЗГОВОРЫ НА  ЗАПРЕТНЫЕ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ПРЕЖДЕ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ТЕМЫ, СУДИТЬ О ПРАВИЛЬНОСТИ  СУПРУЖЕ СКИХ  ОТНОШЕНИЙ. Соревнование   в физической  силе  с взрослыми.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6" name="Прямоугольник 4"/>
          <p:cNvGrpSpPr/>
          <p:nvPr/>
        </p:nvGrpSpPr>
        <p:grpSpPr>
          <a:xfrm>
            <a:off x="250920" y="5072040"/>
            <a:ext cx="8429400" cy="1785960"/>
            <a:chOff x="250920" y="5072040"/>
            <a:chExt cx="8429400" cy="1785960"/>
          </a:xfrm>
        </p:grpSpPr>
        <p:pic>
          <p:nvPicPr>
            <p:cNvPr id="417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250920" y="5072040"/>
              <a:ext cx="84294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98600" y="5324400"/>
              <a:ext cx="7929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Внимание  легко  переключается  с предмета  на  предмет, подростки  непоследовательны  в своих  поступках.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Franklin Gothic Book"/>
                </a:rPr>
                <a:t>ОНИ  НЕПРЕДСКАЗУЕМЫ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345520" cy="890640"/>
          </a:xfrm>
          <a:prstGeom prst="rect">
            <a:avLst/>
          </a:prstGeom>
          <a:ln w="0">
            <a:noFill/>
          </a:ln>
        </p:spPr>
      </p:pic>
      <p:sp>
        <p:nvSpPr>
          <p:cNvPr id="420" name="TextBox 2"/>
          <p:cNvSpPr/>
          <p:nvPr/>
        </p:nvSpPr>
        <p:spPr>
          <a:xfrm>
            <a:off x="405720" y="1557360"/>
            <a:ext cx="78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 ПРОБЛЕМА-  ЧТО  ТАКОЕ  ПРОИСХОДИТ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1" name="Рисунок 4" descr="042.jpeg"/>
          <p:cNvPicPr/>
          <p:nvPr/>
        </p:nvPicPr>
        <p:blipFill>
          <a:blip r:embed="rId3"/>
          <a:stretch/>
        </p:blipFill>
        <p:spPr>
          <a:xfrm>
            <a:off x="1066680" y="3200400"/>
            <a:ext cx="792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133200" y="384120"/>
            <a:ext cx="886464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23" name="Прямоугольник 2"/>
          <p:cNvGrpSpPr/>
          <p:nvPr/>
        </p:nvGrpSpPr>
        <p:grpSpPr>
          <a:xfrm>
            <a:off x="195120" y="1262160"/>
            <a:ext cx="8686800" cy="1901880"/>
            <a:chOff x="195120" y="1262160"/>
            <a:chExt cx="8686800" cy="1901880"/>
          </a:xfrm>
        </p:grpSpPr>
        <p:pic>
          <p:nvPicPr>
            <p:cNvPr id="424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95120" y="1262160"/>
              <a:ext cx="868680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357120" y="1428840"/>
              <a:ext cx="835812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Book"/>
                </a:rPr>
                <a:t>ВЫБОР СОБСТВЕННОГО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6" name="Прямоугольник 3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8364600" cy="2335320"/>
          </a:xfrm>
          <a:prstGeom prst="rect">
            <a:avLst/>
          </a:prstGeom>
          <a:ln w="0">
            <a:noFill/>
          </a:ln>
        </p:spPr>
      </p:pic>
      <p:sp>
        <p:nvSpPr>
          <p:cNvPr id="427" name="TextBox 5"/>
          <p:cNvSpPr/>
          <p:nvPr/>
        </p:nvSpPr>
        <p:spPr>
          <a:xfrm>
            <a:off x="714240" y="17002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ВЫБОР СОБСТВЕННОГО ПУТИ В ЖИЗНИ- САМАЯ  ВАЖНАЯ  ЗАДАЧА В ЭТОТ ПЕРИОД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133200" y="396720"/>
            <a:ext cx="8864640" cy="9986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2"/>
          <p:cNvSpPr/>
          <p:nvPr/>
        </p:nvSpPr>
        <p:spPr>
          <a:xfrm>
            <a:off x="214200" y="142884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Воспитание  подростка  и маленького ребенка  сильно различаются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0" name="Рисунок 3" descr="2147233189480a3ff764f4a.gif"/>
          <p:cNvPicPr/>
          <p:nvPr/>
        </p:nvPicPr>
        <p:blipFill>
          <a:blip r:embed="rId3"/>
          <a:stretch/>
        </p:blipFill>
        <p:spPr>
          <a:xfrm>
            <a:off x="971640" y="2708280"/>
            <a:ext cx="3143160" cy="2449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31" name="Стрелка вправо 4"/>
          <p:cNvSpPr/>
          <p:nvPr/>
        </p:nvSpPr>
        <p:spPr>
          <a:xfrm flipV="1">
            <a:off x="4286160" y="3071880"/>
            <a:ext cx="689040" cy="1365120"/>
          </a:xfrm>
          <a:prstGeom prst="rightArrow">
            <a:avLst>
              <a:gd name="adj1" fmla="val 50000"/>
              <a:gd name="adj2" fmla="val 20745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Прямоугольник 5"/>
          <p:cNvSpPr/>
          <p:nvPr/>
        </p:nvSpPr>
        <p:spPr>
          <a:xfrm>
            <a:off x="5286240" y="2133720"/>
            <a:ext cx="3318120" cy="374328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Психологи советуют предоставлять подросткам больше  свободы и принимать их  во взрослую  жизнь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34" name="Прямоугольник 2"/>
          <p:cNvGrpSpPr/>
          <p:nvPr/>
        </p:nvGrpSpPr>
        <p:grpSpPr>
          <a:xfrm>
            <a:off x="0" y="1413000"/>
            <a:ext cx="8710560" cy="1712880"/>
            <a:chOff x="0" y="1413000"/>
            <a:chExt cx="8710560" cy="1712880"/>
          </a:xfrm>
        </p:grpSpPr>
        <p:pic>
          <p:nvPicPr>
            <p:cNvPr id="435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0" y="1413000"/>
              <a:ext cx="87105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47680" y="1660680"/>
              <a:ext cx="821556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ranklin Gothic Book"/>
                </a:rPr>
                <a:t>ВЗРОСЛЕНИЕ ПОДРОСТКА ОПРЕДЕЛЯЕТСЯ  СТЕПЕНЬЮ  НЕЗАВИСИМОСТИ И СОЗНАНИЕМ  ОТВЕТСТВЕННОСТИ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37" name="Прямоугольник 3"/>
          <p:cNvGrpSpPr/>
          <p:nvPr/>
        </p:nvGrpSpPr>
        <p:grpSpPr>
          <a:xfrm>
            <a:off x="433440" y="3141720"/>
            <a:ext cx="8710560" cy="2427120"/>
            <a:chOff x="433440" y="3141720"/>
            <a:chExt cx="8710560" cy="2427120"/>
          </a:xfrm>
        </p:grpSpPr>
        <p:pic>
          <p:nvPicPr>
            <p:cNvPr id="438" name="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433440" y="3141720"/>
              <a:ext cx="871056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81120" y="3390840"/>
              <a:ext cx="8215200" cy="19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ranklin Gothic Book"/>
                </a:rPr>
                <a:t>СТЕПЕНЬ  И БЫСТРОТА ВЗРОСЛЕНИЯ ЗАВИСИТ ОТ: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ranklin Gothic Book"/>
                </a:rPr>
                <a:t>НЕОБХОДИМОСТЬ  ТРУДА,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ranklin Gothic Book"/>
                </a:rPr>
                <a:t>НЕОБХОДИМОСТЬ ЗАБОТЫ О БЛИЖНИХ И СЕМЬЕ.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buClr>
                  <a:srgbClr val="000000"/>
                </a:buClr>
                <a:buFont typeface="Franklin Gothic Boo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2"/>
          <p:cNvSpPr/>
          <p:nvPr/>
        </p:nvSpPr>
        <p:spPr>
          <a:xfrm>
            <a:off x="539640" y="16286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ЧТО  ТАКОЕ   АЛЬТРУИЗМ?  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500040" y="257184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ИНТЕРЕСНЫЕ  ФАКТЫ. ЧТО ДЛЯ  ВАС ЛУЧШЕ В ВОСПИТАНИИ –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ОТВЕТСТВЕННОСТЬ  ИЛИ ПОДЧИНЕНИЕ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3" name="Рисунок 4" descr="013.jpeg"/>
          <p:cNvPicPr/>
          <p:nvPr/>
        </p:nvPicPr>
        <p:blipFill>
          <a:blip r:embed="rId3"/>
          <a:stretch/>
        </p:blipFill>
        <p:spPr>
          <a:xfrm>
            <a:off x="2050920" y="3645000"/>
            <a:ext cx="4753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2"/>
          <p:cNvSpPr/>
          <p:nvPr/>
        </p:nvSpPr>
        <p:spPr>
          <a:xfrm>
            <a:off x="684360" y="184464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ВЫ   ВЫБЕРИТЕ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6" name="Picture 4" descr="ag00317_"/>
          <p:cNvPicPr/>
          <p:nvPr/>
        </p:nvPicPr>
        <p:blipFill>
          <a:blip r:embed="rId3"/>
          <a:stretch/>
        </p:blipFill>
        <p:spPr>
          <a:xfrm flipH="1">
            <a:off x="468000" y="2133720"/>
            <a:ext cx="2360520" cy="2463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3" descr="ag00029_"/>
          <p:cNvPicPr/>
          <p:nvPr/>
        </p:nvPicPr>
        <p:blipFill>
          <a:blip r:embed="rId4"/>
          <a:stretch/>
        </p:blipFill>
        <p:spPr>
          <a:xfrm>
            <a:off x="5286240" y="1428840"/>
            <a:ext cx="3488040" cy="37861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6"/>
          <p:cNvSpPr/>
          <p:nvPr/>
        </p:nvSpPr>
        <p:spPr>
          <a:xfrm>
            <a:off x="3492360" y="30718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ф</dc:creator>
  <dc:description/>
  <dc:language>en-US</dc:language>
  <cp:lastModifiedBy>люба</cp:lastModifiedBy>
  <dcterms:modified xsi:type="dcterms:W3CDTF">2012-09-28T15:54:51Z</dcterms:modified>
  <cp:revision>23</cp:revision>
  <dc:subject/>
  <dc:title>Слайд 1</dc:title>
</cp:coreProperties>
</file>