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CEF2-FC8E-4CD8-AE1C-44684CAD8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2B09-6A69-44EC-8A67-7C047629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64AF-4ABB-482F-9B9C-33AB8C426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7662-48C2-4F34-8E19-05C0EFD8F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DDF8-27B6-4F3B-A244-765C968B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3E45-B1CF-4B3A-8B02-139C63BA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4729-ABCE-4E73-859E-92D5678F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60CF-0AB7-4B52-8A88-09CDC927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B0C4-5553-4A07-80A4-66E8AE67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AF07-75B8-44A1-8B83-A0670FC8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EF24-91BE-4834-AE7B-0C576573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2D46-7E43-4F40-9ADE-BE299510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4516-9B4B-488E-8D78-1D0D1B4A5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98108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eorgia"/>
              </a:rPr>
              <a:t>Бытовой и портретный жанры                                                      в русской живописи                  второй половины 19 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7543800" cy="6837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304920"/>
            <a:ext cx="274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Маковский Владимир Егор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657600" y="76320"/>
            <a:ext cx="4923000" cy="6629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48006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Сви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76320"/>
            <a:ext cx="8382240" cy="6678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410080" y="59436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На бульва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5114880" cy="6477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638680" y="2666880"/>
            <a:ext cx="274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Репин             Илья Ефим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4264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057400" y="54244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Бурлаки на Вол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839440" cy="5538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219320" y="603396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Крестный ход в Курской губер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1172" r="0" b="1172"/>
          <a:stretch/>
        </p:blipFill>
        <p:spPr>
          <a:xfrm>
            <a:off x="152280" y="304920"/>
            <a:ext cx="6431040" cy="6324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553080" y="511956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Не жд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209680"/>
            <a:ext cx="4114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eorgia"/>
              </a:rPr>
              <a:t>Третьяков Павел Михайло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051440" y="228600"/>
            <a:ext cx="49003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486400" y="2286000"/>
            <a:ext cx="3657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Georgia"/>
              </a:rPr>
              <a:t>Крамской                          Иван                         Николае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10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153280" cy="6323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57200" y="30492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Портрет неизвест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39800" y="228600"/>
            <a:ext cx="3832200" cy="6400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876920" y="54100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Неутешное го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171360"/>
            <a:ext cx="7315200" cy="6458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-152280" y="3808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Хр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истос в пусты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902040" y="228600"/>
            <a:ext cx="4950000" cy="6400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2280" y="5043600"/>
            <a:ext cx="36576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Неравный бр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В. Пукир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4645080" cy="6324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34120" y="2819520"/>
            <a:ext cx="358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Мясоедов Григорий Григорье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436680"/>
            <a:ext cx="8686800" cy="4821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828800" y="580536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Земство обед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10-04-28T15:57:4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